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7F5D-487E-441D-B706-1D2D0C6E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5004-FBB2-4BA9-9401-1CD9422C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204C-FCD8-4FF5-9241-AF765874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55B2-6128-46C3-8FFA-345EE367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2A3D8-8D1A-454E-A12D-9A64ED19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55A5B-DBCC-4D71-91FC-272835E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C8D87-FCEA-4F01-B2BB-0FCACFD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42465-EC74-4768-9FE4-762C0F9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378B2-7A95-4334-B4A7-E928840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0811B-E79A-45B6-B8AF-AE5E9A28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6B1F8-20E0-4A3C-82B2-5EE6EFC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2DA1-6261-434E-A62E-456BEF19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AAF1B-E8D7-4481-B573-EC20373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424DC-B33E-485D-98EA-8AFB124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DCB0A-6A05-4032-85E1-74368F0F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2D21-6AAE-48E8-BAE2-0A19EEAD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8907B-3DE9-4E66-A3ED-8122D12B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96F40-7994-4279-9367-E53C3F56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BC83B-8C52-478B-BB7A-06666E86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4862B-ACFF-4C1B-B376-C2796AB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C4C2D-F05A-40D7-B9C1-15D0E81C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23513-0FFB-47A3-9F51-72ECF2A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5888-71DD-4867-8480-C9B7CC0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F2E1F-30A4-44CF-8B25-47C4C3D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DE1E0-B53A-4CFF-8B06-9D4E093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3FDA1-6657-4744-92C7-41FAF20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10FFC-F1D1-48FB-9284-2E6C0A2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756BE-D0C9-40B0-AEBA-5C08A39E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7B2CF-6A57-4FF2-84B0-9C8FF12D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EA730-69A6-4457-B3F8-C3ADDB6E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ADACB-BB00-4B54-A183-CF9413C3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181EA-9947-47AF-9E1A-A2D5F805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FB7DD-639D-48D1-AB89-ACBEEDA1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32D6-F116-45C4-AEA5-189BF65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FCB84-97F8-41A0-8C0A-E8C2DFB1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6FB11-3A00-400A-B7BD-4CB42FB8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83EB4-DC6E-43E8-AFEB-6DB08D2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7DD70-B9EF-416D-9816-BFA28CD1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F5F61-488E-423E-9741-FDAFA0A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C5341-9557-4510-9473-771AC7D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9C873-0AE7-42CB-8E66-7BC03A3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448E4-9D8B-4120-B9F3-0A2BBF76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A55AE-3ED5-438C-8000-672F9C75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A7046-D794-49F7-96EE-F95A54CA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4BD4-29BD-4FEF-8112-B3A8540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9F0A7B-E59E-4805-A916-F4B2811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C9424E-8577-42D9-8319-9E192507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18AC7-8C0E-4D9B-9DFD-3F5AD259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A83B0D-451E-47B3-B373-4CA0F6B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7D8FCC-A5C7-4FEA-BBCC-ACB2AE82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8EF64-2117-4CCA-9EB0-5485F50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3529E-9536-4FC0-9C6C-66C655A0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CCE4FD-F751-4C26-953B-69C9EEA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510479-C0AE-4B0B-9366-4456A00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B637F-52C7-4851-A1A1-05A30627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7C81-83CA-4D8F-9410-53C1768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1D35D-D737-444A-8121-A9ACE6F5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B5EB0-807A-47A7-8AD8-D9C3A888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431DD-FC34-4E6E-A1A5-8FD0F848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AD9C9-45FB-4118-925B-385970A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D6A31-2472-4A60-BCB6-57BFB37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142335-45DB-4B2E-A12A-0CF766F9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D8940B-7F8B-4D34-B15B-D457090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73206-3ED2-446F-8949-63657B9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EECC0-41D2-4D04-9D3B-A9CA5A3C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D95A4-25CC-427D-876B-88DAF08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B02A-03FA-4ACA-B0DC-6D1802D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430E9-93F8-4E34-8AC4-DCE1E05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C7EFF-E355-49C7-ABB0-62F58B44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7B438A-C9F1-408A-A75A-FB5875C2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0AD676-88FF-47AD-939E-F7EE044B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F97D83-9287-42B9-937A-41B0E56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2A097B-BD30-4B19-BDF8-CC626C49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B3AB1E-68E6-4567-A80D-A94FA09E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6B3F8E-2602-4558-A03E-E2737264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D2F89C-A47F-48DD-8D7E-5342F1C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5D49B-C177-4676-8DEC-888141D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B730-F676-484C-A391-8FC9487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3A220-B70D-4A76-8854-13A441B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45029-03C3-44B0-B824-9739FB5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6EFEF-62D9-41E0-9641-E2D1D06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AA1429-57A9-4342-8780-2A8A3FFA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84926A-E84B-478F-BA24-AC1A41F0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D242F2-3471-43B2-96F2-E6B237BA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8770F9-BF17-48C5-8236-FE9CA6E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DA1C9A-3F47-4348-8162-7BC9FB0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CB257-8DAF-4FEF-9202-27F4C6E4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3AF02-2F7F-4FE4-A8D6-79D4E09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4397-D027-4D1C-BF43-87BC077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E6462-5911-48B8-83AF-997321C8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8787CD-028A-4273-9BC9-7A5F3B7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D07C5D-9161-4112-99C8-B8FA4EF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DACB6C-C502-43AC-8D02-82E6F18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704AD-6F48-4532-87C9-1CC3A38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4A9A4-C999-47B8-BD1F-A21B59C5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44CEDF-BFBD-42C4-9E6A-1DAD42C2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0EE2-0231-4DD9-9538-9DABA37823B3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6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47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48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5AF6-74A2-4AC0-98BA-935E9BAD8B9F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9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A253-8B3A-4662-BF90-5E1A7F57B970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0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7C64-0C58-4123-9E22-93E023A437A1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1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3088-038A-4D62-B77E-D125325A8FEE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31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6E06-6B57-4EB9-857E-1A5F91CA61C4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7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8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76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E1A3-CCBC-4A5E-955C-07113516CF02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0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1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2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E4B0-1490-4D41-AFA4-92085B51C62D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68686d"/>
                </a:solidFill>
                <a:latin typeface="Arial"/>
              </a:rPr>
              <a:t>Titel</a:t>
            </a:r>
            <a:endParaRPr b="0" lang="en-US" sz="6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Redner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Ort, Datum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0" name="Fußzeilenplatzhalter 3"/>
          <p:cNvSpPr/>
          <p:nvPr/>
        </p:nvSpPr>
        <p:spPr>
          <a:xfrm>
            <a:off x="685800" y="6453360"/>
            <a:ext cx="570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liennummernplatzhalter 4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20FB-F3E5-4415-98D3-112A5DC41BEA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44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796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5" name="Fußzeilenplatzhalter 4"/>
          <p:cNvSpPr/>
          <p:nvPr/>
        </p:nvSpPr>
        <p:spPr>
          <a:xfrm>
            <a:off x="685800" y="6453360"/>
            <a:ext cx="5334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liennummernplatzhalter 5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051-BD4D-484A-A70A-B43A2824DDFE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0:20:22Z</dcterms:created>
  <dc:creator>r31dzoe</dc:creator>
  <dc:description/>
  <dc:language>en-US</dc:language>
  <cp:lastModifiedBy>ru39pox</cp:lastModifiedBy>
  <dcterms:modified xsi:type="dcterms:W3CDTF">2019-07-18T11:25:10Z</dcterms:modified>
  <cp:revision>27</cp:revision>
  <dc:subject/>
  <dc:title>PowerPoint-Präsentation</dc:title>
</cp:coreProperties>
</file>