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B7A9-9B53-4E4C-B4EE-75F3ECDD2E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828600"/>
            <a:ext cx="784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199F-D39C-41F9-97AD-E04DA096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140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8401-1ECB-406A-B725-B60FB15A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3400" y="159984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7320" y="159984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82860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3400" y="382860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7320" y="382860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9278-738D-4420-A984-8D0EBC55FF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7D9F-CCB0-407B-B1AF-335F44E4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5592-95BD-4DAB-B659-54CF556A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7F68-3D5B-4480-B755-BCEF4BFE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F227-F380-45B5-A60F-292C62A8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601F-07DC-49DC-9BB9-FE1368AD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1422-1D2E-457F-AEA3-314062B1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140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BFCF-4033-4E86-90F7-D82AC588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828600"/>
            <a:ext cx="784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AA03-4F1A-4E8B-BC5D-814DF143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05360" y="60958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1FF5-3E31-42E1-983E-66355DEE683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3733920" y="617220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TIS e.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81280" y="5973840"/>
            <a:ext cx="213372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TIS_logo_light" descr=""/>
          <p:cNvPicPr/>
          <p:nvPr/>
        </p:nvPicPr>
        <p:blipFill>
          <a:blip r:embed="rId4"/>
          <a:stretch/>
        </p:blipFill>
        <p:spPr>
          <a:xfrm>
            <a:off x="7696080" y="6095880"/>
            <a:ext cx="762120" cy="48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8000"/>
                </a:solidFill>
                <a:latin typeface="Arial"/>
              </a:rPr>
              <a:t>Institut für Technik Intelligenter Systeme e.V.</a:t>
            </a:r>
            <a:br>
              <a:rPr sz="2800"/>
            </a:br>
            <a:r>
              <a:rPr b="0" lang="de-DE" sz="2800" spc="-1" strike="noStrike">
                <a:solidFill>
                  <a:srgbClr val="008000"/>
                </a:solidFill>
                <a:latin typeface="Arial"/>
              </a:rPr>
              <a:t>an der Universität der Bundeswehr Münche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666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ründet am 30. März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ls </a:t>
            </a: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An-Institut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vom Träger der Universität der Bundeswehr genehmigt am 18. Januar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m Finanzamt für Körperschaften, München,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gemeinnütz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erk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TIS_logo_light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2286000" cy="146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3C51-C3AD-4424-8DDC-610F46923AE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E3FEF41-02DE-436D-A617-BC7ED60F4C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Ziele von ITIS: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 vo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issenschaft und Forsch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f dem Gebiet der Technik intelligenter Syst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nterstützung und Abwicklung </a:t>
            </a: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interdisziplinär angelegter Forschungsprojekte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an der Universität der Bundesw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Förderung von Lehre und Studiu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insbesondere im Rahmen von Studien- Diplom- und Doktor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Förderung des </a:t>
            </a:r>
            <a:r>
              <a:rPr b="0" lang="de-DE" sz="2400" spc="-1" strike="noStrike" u="sng">
                <a:solidFill>
                  <a:srgbClr val="3333cc"/>
                </a:solidFill>
                <a:uFillTx/>
                <a:latin typeface="Arial"/>
              </a:rPr>
              <a:t>Wissens- und Technologietransfers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zur Industrie und Politik (im Auftrag der UniBw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 vo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Unternehmensgründung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„start-ups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C862-F6DB-4C23-9B33-21BF4DBCF6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012B7B9-4D7D-4E42-8B67-289469389F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Struktur von ITIS: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676520"/>
            <a:ext cx="7848720" cy="2743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3200400"/>
            <a:ext cx="16002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981080"/>
            <a:ext cx="16002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glied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amm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981080"/>
            <a:ext cx="1600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Kurato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(in Plan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200400"/>
            <a:ext cx="16002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3200400"/>
            <a:ext cx="1600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äft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h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sist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2"/>
            <a:endCxn id="52" idx="0"/>
          </p:cNvCxnSpPr>
          <p:nvPr/>
        </p:nvCxnSpPr>
        <p:spPr>
          <a:xfrm>
            <a:off x="4533480" y="2743200"/>
            <a:ext cx="10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5" idx="3"/>
            <a:endCxn id="52" idx="1"/>
          </p:cNvCxnSpPr>
          <p:nvPr/>
        </p:nvCxnSpPr>
        <p:spPr>
          <a:xfrm>
            <a:off x="2666880" y="3580920"/>
            <a:ext cx="1067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2" idx="3"/>
            <a:endCxn id="56" idx="1"/>
          </p:cNvCxnSpPr>
          <p:nvPr/>
        </p:nvCxnSpPr>
        <p:spPr>
          <a:xfrm>
            <a:off x="5334120" y="3581280"/>
            <a:ext cx="762480" cy="115200"/>
          </a:xfrm>
          <a:prstGeom prst="bentConnector3">
            <a:avLst>
              <a:gd name="adj1" fmla="val 49976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4" idx="3"/>
            <a:endCxn id="53" idx="1"/>
          </p:cNvCxnSpPr>
          <p:nvPr/>
        </p:nvCxnSpPr>
        <p:spPr>
          <a:xfrm>
            <a:off x="2666880" y="2361960"/>
            <a:ext cx="106776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61" name=""/>
          <p:cNvCxnSpPr>
            <a:stCxn id="54" idx="3"/>
            <a:endCxn id="52" idx="1"/>
          </p:cNvCxnSpPr>
          <p:nvPr/>
        </p:nvCxnSpPr>
        <p:spPr>
          <a:xfrm>
            <a:off x="2666880" y="2362320"/>
            <a:ext cx="1067760" cy="1219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62" name=""/>
          <p:cNvSpPr/>
          <p:nvPr/>
        </p:nvSpPr>
        <p:spPr>
          <a:xfrm>
            <a:off x="6095880" y="3886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510552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dellbi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23520" y="22096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29600" y="464832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schungsbere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510552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chäfts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zesse 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5105520"/>
            <a:ext cx="14475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krosystem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10552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weitere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52" idx="2"/>
            <a:endCxn id="63" idx="0"/>
          </p:cNvCxnSpPr>
          <p:nvPr/>
        </p:nvCxnSpPr>
        <p:spPr>
          <a:xfrm rot="5400000">
            <a:off x="2590200" y="3162240"/>
            <a:ext cx="1143720" cy="27439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2" idx="2"/>
            <a:endCxn id="66" idx="0"/>
          </p:cNvCxnSpPr>
          <p:nvPr/>
        </p:nvCxnSpPr>
        <p:spPr>
          <a:xfrm rot="5400000">
            <a:off x="3542760" y="4114800"/>
            <a:ext cx="1143720" cy="8388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52" idx="2"/>
            <a:endCxn id="67" idx="0"/>
          </p:cNvCxnSpPr>
          <p:nvPr/>
        </p:nvCxnSpPr>
        <p:spPr>
          <a:xfrm flipH="1" rot="16200000">
            <a:off x="4495680" y="3999960"/>
            <a:ext cx="1143720" cy="1067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52" idx="2"/>
            <a:endCxn id="68" idx="0"/>
          </p:cNvCxnSpPr>
          <p:nvPr/>
        </p:nvCxnSpPr>
        <p:spPr>
          <a:xfrm flipH="1" rot="16200000">
            <a:off x="5447160" y="3047760"/>
            <a:ext cx="1143720" cy="2972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B3F7-F718-43C4-B518-6431BD9A2F3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87A4CB7-C6DD-46A8-A1C5-51EC42C719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Forschungsbereich </a:t>
            </a:r>
            <a:br>
              <a:rPr sz="3000"/>
            </a:b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Modellbildung und Simulation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wählte aktuelle Projek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kunftsfelder der Modellbildung und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Dokumentation von Simulationssyst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uman Factors in militärischen Führungsprozessen für die Sim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Wiederverwendung von Modulen in Simulationssyst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ikation, Validierung und Akkreditierung von Simulationsmodellen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Standardisierung Führungsautomaten H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sessment of Command and Control in Operations Other Than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Komponentenbasierter Modellentwu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stungssteigerung mittels paralleler und verteilter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A39F-A033-48CA-BDD9-D44927ED97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3FA2746-A8C4-41B8-AE6C-1E50C09836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Forschungsbereich </a:t>
            </a:r>
            <a:br>
              <a:rPr sz="3000"/>
            </a:b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Modellbildung und Simulation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1. Workshop „Perspektiven der Modellbidlung und Simulation“, UniBwM, 10.-11.07.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inar für Führungskräfte: „Stand und Perspektiven der Modellbildung und Simulation im Bereich der Streitkräfte“, AStudÜbBw, Waldbröl, 29.-30.05.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eminar für Führungskräfte: „Modellbildung und Simulation (M&amp;S) für Gestaltung und Einsatz moderner Streitkräfte“, ZASBw, Waldbröl, 18.-19.06.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016B-A269-431B-897E-B6F693B0709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A7E4292-BCE0-4F28-BA12-971E4EB929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Technologietransfer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it dem 1. Juli 2000 an ITIS über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Organisation und Abwicklung des Wissens- und Technologietransfers zwischen UniBwM, Wirtschaft und staatlichen Institu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.a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quisition/Vermittlung von externen transfer-interessierten Partnern zu Professoren/Instituten der UniBw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etung der UniBwM in allen Bereichen gemeinsamer Erwartungen und in der Vernetzung mit anderen Transferstellen nach Maßgabe ihrer Wichtigkeit und Effizi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entlichkeits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2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C774-B3A4-4C43-BA0E-EB1C78299C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8F570EA-84C4-4B4C-A5AD-D551D2FBF2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Ziele des Workshops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menschwerpunk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ponentenbasierte M&amp;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M&amp;S im militärischen und industriellen Umf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teilte Simulation mittels H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M&amp;S in der Ausbil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V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Diskussionen und Gesprä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28B7-A4A0-4CDD-B9EC-087C50FB4A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B03AF0A-4992-4573-A1A1-0AB7542E60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3333cc"/>
                </a:solidFill>
                <a:latin typeface="Arial"/>
              </a:rPr>
              <a:t>Organisatorisches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agungsbüro im Foy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hr- und Flug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IS-Berichte zur Ans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gabe des Frageb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Bestellung der Workshop-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meinsames Abende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Bustransfers zum Hotel/Bahnh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heute nach Abendessen (ca. 21.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morgen: 8.30 ab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13.30 nach Ende des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190512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526C-8AEC-475F-A315-8BF37DF109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0165E02-A83C-4456-BDC5-85EA9DECCE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09:46:56Z</dcterms:created>
  <dc:creator>Dirk Brade</dc:creator>
  <dc:description/>
  <dc:language>en-US</dc:language>
  <cp:lastModifiedBy>Inf4</cp:lastModifiedBy>
  <cp:lastPrinted>2001-05-15T08:53:17Z</cp:lastPrinted>
  <dcterms:modified xsi:type="dcterms:W3CDTF">2002-10-08T08:43:20Z</dcterms:modified>
  <cp:revision>58</cp:revision>
  <dc:subject/>
  <dc:title>Kein Folientitel</dc:title>
</cp:coreProperties>
</file>