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303-BA47-40ED-9C3A-D2CEA9F0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439-0D46-4083-9799-02BCC72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9E2-FCEC-4BA8-A147-DE7E45EF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A7D-1720-4B27-8B07-139072DD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768-4A80-4B29-A103-B042D0F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CF0-0336-4724-864F-D9EA522B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6F1-06AD-40AB-9074-BD8CFA0F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0FD-7EDC-472B-9B63-AD541863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429-81C5-4972-9ADA-400A969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FD7-703C-4BFB-BD4C-6D3F3E7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044-0EAB-4F3F-91B1-F096295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D55-0BE1-47F6-B50A-75F3280F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B95-05B1-4044-BD48-9ACC9D996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02400" y="5678640"/>
            <a:ext cx="72720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br>
              <a:rPr sz="1800"/>
            </a:br>
            <a:br>
              <a:rPr sz="1800"/>
            </a:br>
            <a:r>
              <a:rPr b="0" lang="de-DE" sz="1400" spc="-1" strike="noStrike" u="sng">
                <a:solidFill>
                  <a:srgbClr val="000099"/>
                </a:solidFill>
                <a:uFillTx/>
                <a:latin typeface="Times New Roman"/>
              </a:rPr>
              <a:t>Walter Waldraff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, Prof. Dr.-Ing.,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achbereich Maschinenbau, UniBw München,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0099"/>
                </a:solidFill>
                <a:uFillTx/>
                <a:latin typeface="Times New Roman"/>
              </a:rPr>
              <a:t>Reinhard Finsterwalder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, Prof. Dr.-Ing.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achbereich Betriebswirtschaft, UniBw München,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2. Workshop “Perspektiven der Modellbildung und Simulation”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am 9./10. Oktober 2002, Universität der Bundeswehr München</a:t>
            </a: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23888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xperimentelles Audio/Video-Mod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Generierung der visuellen und akustischen Umgebungswahrnehmung für den Entwicklungs-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EAV-Screen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94" name="ECP-EAV1" descr=""/>
          <p:cNvPicPr/>
          <p:nvPr/>
        </p:nvPicPr>
        <p:blipFill>
          <a:blip r:embed="rId2"/>
          <a:stretch/>
        </p:blipFill>
        <p:spPr>
          <a:xfrm>
            <a:off x="4038480" y="23241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066680"/>
            <a:ext cx="723888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edienerk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rweiterung um zusätzliche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Funktionalitäten, insbesondere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udio- und Video-Kommunikatio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zur Überwac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S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066680"/>
            <a:ext cx="723888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imulatorcockp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esitzt standardisiertes Interface für Integration in Simulator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oft-konfigurierbare HDD-Instrumente auf der Basis von TFT-Disp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Primäre Bedienelemente mit Steuerkraft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00023neu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07" name="SCP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066680"/>
            <a:ext cx="72388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Simulator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Generierung einer realistischen Außensicht und der akustischen Umg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Phase 2: Fixed-Base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ASTER_P2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066680"/>
            <a:ext cx="72388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odulare kaskadierte 6DOF-Bewegungsplat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80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3: Erweiterung um eine Bewegungsplat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imulatorProE-color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943600" cy="42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914400" y="2057400"/>
          <a:ext cx="4483080" cy="391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44830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066680"/>
            <a:ext cx="723888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imes New Roman"/>
              </a:rPr>
              <a:t>Möglichkeiten der Bewegungsplat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rmöglicht unbegrenzte rotatorische Bewegung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und größere Auslenkungen in de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translatorischen Freiheitsgra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kaskadierte Bewegungsplattform erlaubt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nwendungsspezifische Konfiguration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der kinematischen Freiheitsg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imulation ungewöhnlicher Fluglagen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(hohe Anstellwinkel bei Schubvektorsteuerung,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Kunstflug, Disorienti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80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3 : Erweiterung um eine Bewegungsplat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Extra300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172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066680"/>
            <a:ext cx="73915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chtzeit und Nicht-Echtzeit-Betriebssysteme (LinuxRT</a:t>
            </a: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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vxWorks, WinX </a:t>
            </a:r>
            <a:r>
              <a:rPr b="0" lang="de-DE" sz="1600" spc="-1" strike="noStrike">
                <a:solidFill>
                  <a:srgbClr val="000099"/>
                </a:solidFill>
                <a:latin typeface="Symbol"/>
                <a:ea typeface="Symbol"/>
              </a:rPr>
              <a:t>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Lin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Interprozeßkommunikation (SCRAMNET, TCP/IP, UDP, FireWire, Wireless 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insatz moderner Programmiersprachen (C/C++, Java, MATLAB, Modelica) und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Programmierstandards (OpenGl, DirectX, ActiveX, VRML, Java3d) für 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grafische Komponenten (Cockpit-Instrumente, GUI für Operato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Untersuchung neuer Simulationswerkzeuge (MATLAB/SIMULINK, DYMO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insatz von Feldbus-Standards zur Hardware-Ankopplung (CAN-Bus, Profibus, U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Antriebe, Steuerkraftsystem (Antrieb, Sensorik, Reglerkonzep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jektinhalte - Untersuchung neuer Technolo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1: Rechner-Netzwe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990720"/>
            <a:ext cx="7467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Modulares Rechner-Netzwerk mit dedizierten Auf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rhöhung der Flexibilität durch modulares Rechner-Netzwe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ntscheidung für Rechner-Betriebssystem unabhängig auf Module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infacher Update einzelner Fun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omputerNetwork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6294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2: Anlagensteu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990720"/>
            <a:ext cx="746784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twicklung einer Ablaufsteuerung der Simulator-Anlage mit dem Prototyping-Tool MATLAB/Stateflow</a:t>
            </a:r>
            <a:r>
              <a:rPr b="1" lang="en-US" sz="1400" spc="-1" strike="noStrike" baseline="30000">
                <a:solidFill>
                  <a:srgbClr val="000099"/>
                </a:solidFill>
                <a:latin typeface="Times New Roman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bisher üblich: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Codierung mit Standard-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Programmiersprache (z.B.:C, 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zukünfti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anschauliche grafische Implementierung </a:t>
            </a:r>
            <a:br>
              <a:rPr sz="1400"/>
            </a:b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t Zustandsdiagram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infache Funktions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automatische Code-Gene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kurze Entwicklungs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mdl_SCL" descr=""/>
          <p:cNvPicPr/>
          <p:nvPr/>
        </p:nvPicPr>
        <p:blipFill>
          <a:blip r:embed="rId1"/>
          <a:stretch/>
        </p:blipFill>
        <p:spPr>
          <a:xfrm>
            <a:off x="3886200" y="180972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eispiel 3: Simulations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990720"/>
            <a:ext cx="76201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Entwicklung von Simulationsmodellen und Bewegungsalgorithmen mit modernen Prototyping-Tools wie MATLAB/Simulink</a:t>
            </a:r>
            <a:r>
              <a:rPr b="1" lang="de-DE" sz="1400" spc="-1" strike="noStrike" baseline="30000">
                <a:solidFill>
                  <a:srgbClr val="000099"/>
                </a:solidFill>
                <a:latin typeface="Times New Roman"/>
              </a:rPr>
              <a:t>®</a:t>
            </a: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 oder DYMOLA</a:t>
            </a:r>
            <a:r>
              <a:rPr b="1" lang="de-DE" sz="1400" spc="-1" strike="noStrike" baseline="30000">
                <a:solidFill>
                  <a:srgbClr val="000099"/>
                </a:solidFill>
                <a:latin typeface="Times New Roman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bisher übli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Codierung mit Standard-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Programmiersprachen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(z.B.:FORTRAN,C,C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Times New Roman"/>
              </a:rPr>
              <a:t>zukünfti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problemangepaßte grafische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oder textuelle Modellbeschrei-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bung mit Modellierungssprache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wiederverwendbare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komfortable Funktions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automatische Code-Gene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kurze Entwicklungs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649520"/>
          <a:ext cx="5410440" cy="35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649520"/>
                    <a:ext cx="54104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066680"/>
            <a:ext cx="723888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imulatortechnik in der Le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Das Projekt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alisierungskonz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jektinha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h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914400"/>
            <a:ext cx="739152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de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tegration der “Simulatortechnik” in der Leh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egleitender Aufbau eines Lehr- und Forschungssimulators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rojekt MASTER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ntwicklung eines modularen, rekonfigurierbaren Fahr-/Flugsimulators, der sich sowohl für den Einsatz im Rahmen der Lehre als auch für angewandte Forschung eignet.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236232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14400"/>
            <a:ext cx="73915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utz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usbildung im Bereich Simulatortechnik bzw. auch Mechatroni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ompetenz auf dem Gebiet der Simulatortechnik innerhalb der Bundesweh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ignet sich für Kooperationen im Sinne eines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Wissens- und Technologie-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öglichkeit zu Consulting innerhalb der Bundeswe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Zielgerichteter Einsatz verfügbarer Technologien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(auch außerhalb der Simulatortechn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ostenreduktion für Simulatorentwick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ermehrter Einsatz von Simulat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Zusammenfas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066680"/>
            <a:ext cx="739152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imulatoren besitzen zunehmende Bedeutung für Ausbildung, Entwick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undeswehr - größter Betreiber für Fahr- und Flugsimulatoren in Deutsch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Für Simulatortechnik bisher keine Ausbildung in Deutsch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An der UniBwM vertretene Fachdisziplin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Maschinenb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Elektrotech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Informat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Luft- und Raumfah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91440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 - 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66680"/>
            <a:ext cx="73915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dee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Gestaltung eines attraktiven Lehrangebotes im Bereich der “Simulatortechni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Nutzung der “Simulatortechnik”als komplexes Anwendungsbeispiel in den betreffenden Vorlesungen der angesprochenen Fachgebiete (Maschinenbau, Elektrotechnik, Informatik, Luft- und Raumfahrt, Kraftfahrzeugtechnik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Begleitender Aufbau eines Lehr- und Forschungssimulators (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Projekt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ASTE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inführung - Id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imulatortechnik in der Leh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1143000"/>
          <a:ext cx="7848720" cy="35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8487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066680"/>
            <a:ext cx="739152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AST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odula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vanced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imulator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chnology for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ucation and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ntwicklung eines modularen, rekonfigurierbaren Fahr-/Flugsimulators, der sich sowohl für den Einsatz im Rahmen der Lehre als auch für angewandte Forschung eig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Erhöhung der Attraktivität des Lehrangeb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Untersuchung und Demonstration von Technologien im Rahmen von Studienprojekt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Consulting im Bereich Simulatortechnik, insbesondere innerhalb der Bundesweh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Förderung von Kooperationen zwischen Einrichtungen innerhalb der UniBwM,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 sowie anderen Forschungseinrichtungen und der Indust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Times New Roman"/>
              </a:rPr>
              <a:t>Teilnahme an internationalen Forschungsprojekte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Das Projekt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238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alisierung in 3 Phas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STER - Realisierungskonz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209680"/>
          <a:ext cx="7772400" cy="27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77240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066680"/>
            <a:ext cx="723888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Bedienerk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Bedienerkonsole  zur Anlagensteuerung und Datenvisualis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ntwicklungsstation für die Implementierung und den Test </a:t>
            </a:r>
            <a:br>
              <a:rPr sz="1600"/>
            </a:b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neuer Simulationsmod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S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MASTER - Ein interdisziplinäres Projekt zur Demonstration moderner Simulatortechnologien für Ausbildung und angewandte 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238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Times New Roman"/>
              </a:rPr>
              <a:t>Experimentalcockp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Schnelles und flexibles Testen neuer Simulationsmod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Times New Roman"/>
              </a:rPr>
              <a:t>Ermöglicht zusammen mit 2. Simulator-Cockpit Durchführung von Lehrer-Schüler 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334120"/>
            <a:ext cx="7315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914400"/>
            <a:ext cx="73915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808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hase 1: Entwicklungs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ECPEAV2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3:22:01Z</dcterms:created>
  <dc:creator>Walter Waldraff</dc:creator>
  <dc:description/>
  <dc:language>en-US</dc:language>
  <cp:lastModifiedBy>krieger</cp:lastModifiedBy>
  <cp:lastPrinted>2001-03-26T12:16:33Z</cp:lastPrinted>
  <dcterms:modified xsi:type="dcterms:W3CDTF">2002-10-02T09:20:27Z</dcterms:modified>
  <cp:revision>59</cp:revision>
  <dc:subject/>
  <dc:title>Fachbereich Maschinenbau WE „Luft- und Raumfahrzeuge“ Professur für Systemdynamik und Flugmechanik Prof. Dr.-Ing. W. Waldraff</dc:title>
</cp:coreProperties>
</file>