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D4FBD-A2B3-420B-9880-778626C85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6532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09480" y="3654000"/>
            <a:ext cx="7848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AB6E3-E280-4D99-A467-667C37BBA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6532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65400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31400" y="365400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48698-B3B8-4205-92A2-A5A0FAD292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6532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527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63400" y="1066320"/>
            <a:ext cx="2527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17320" y="1066320"/>
            <a:ext cx="2527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09480" y="3654000"/>
            <a:ext cx="2527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63400" y="3654000"/>
            <a:ext cx="2527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17320" y="3654000"/>
            <a:ext cx="2527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9E6EE-9F3E-433A-91FB-077BC01EB3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6532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95474-0A1B-4047-846A-421AE75FA3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6532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C1F5-D678-44B7-AFD9-FEA7F4987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6532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C685-CDD6-48A3-9407-B9F9C3DB4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6532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E334F-2AD4-461A-B735-4B77CD8CA8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6A87-BC18-4224-A376-E4EB1E311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6532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5400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ABDF8-E425-4CAE-BAC8-3B3AE4EC5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6532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1400" y="365400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A10C5-CA63-4E6B-9B94-0A540168D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6532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654000"/>
            <a:ext cx="7848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C36D-2BE0-48D3-AC35-08CAA3BE4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193240" y="6264360"/>
            <a:ext cx="218880" cy="349200"/>
          </a:xfrm>
          <a:custGeom>
            <a:avLst/>
            <a:gdLst/>
            <a:ahLst/>
            <a:rect l="l" t="t" r="r" b="b"/>
            <a:pathLst>
              <a:path w="138" h="220">
                <a:moveTo>
                  <a:pt x="0" y="146"/>
                </a:moveTo>
                <a:lnTo>
                  <a:pt x="40" y="142"/>
                </a:lnTo>
                <a:lnTo>
                  <a:pt x="40" y="146"/>
                </a:lnTo>
                <a:lnTo>
                  <a:pt x="40" y="149"/>
                </a:lnTo>
                <a:lnTo>
                  <a:pt x="40" y="151"/>
                </a:lnTo>
                <a:lnTo>
                  <a:pt x="40" y="155"/>
                </a:lnTo>
                <a:lnTo>
                  <a:pt x="40" y="157"/>
                </a:lnTo>
                <a:lnTo>
                  <a:pt x="40" y="161"/>
                </a:lnTo>
                <a:lnTo>
                  <a:pt x="42" y="163"/>
                </a:lnTo>
                <a:lnTo>
                  <a:pt x="42" y="165"/>
                </a:lnTo>
                <a:lnTo>
                  <a:pt x="44" y="169"/>
                </a:lnTo>
                <a:lnTo>
                  <a:pt x="44" y="170"/>
                </a:lnTo>
                <a:lnTo>
                  <a:pt x="46" y="172"/>
                </a:lnTo>
                <a:lnTo>
                  <a:pt x="48" y="174"/>
                </a:lnTo>
                <a:lnTo>
                  <a:pt x="50" y="176"/>
                </a:lnTo>
                <a:lnTo>
                  <a:pt x="54" y="176"/>
                </a:lnTo>
                <a:lnTo>
                  <a:pt x="56" y="178"/>
                </a:lnTo>
                <a:lnTo>
                  <a:pt x="58" y="178"/>
                </a:lnTo>
                <a:lnTo>
                  <a:pt x="61" y="178"/>
                </a:lnTo>
                <a:lnTo>
                  <a:pt x="63" y="178"/>
                </a:lnTo>
                <a:lnTo>
                  <a:pt x="65" y="176"/>
                </a:lnTo>
                <a:lnTo>
                  <a:pt x="67" y="176"/>
                </a:lnTo>
                <a:lnTo>
                  <a:pt x="69" y="174"/>
                </a:lnTo>
                <a:lnTo>
                  <a:pt x="71" y="174"/>
                </a:lnTo>
                <a:lnTo>
                  <a:pt x="71" y="172"/>
                </a:lnTo>
                <a:lnTo>
                  <a:pt x="73" y="170"/>
                </a:lnTo>
                <a:lnTo>
                  <a:pt x="75" y="169"/>
                </a:lnTo>
                <a:lnTo>
                  <a:pt x="77" y="169"/>
                </a:lnTo>
                <a:lnTo>
                  <a:pt x="77" y="167"/>
                </a:lnTo>
                <a:lnTo>
                  <a:pt x="79" y="165"/>
                </a:lnTo>
                <a:lnTo>
                  <a:pt x="79" y="163"/>
                </a:lnTo>
                <a:lnTo>
                  <a:pt x="81" y="161"/>
                </a:lnTo>
                <a:lnTo>
                  <a:pt x="81" y="157"/>
                </a:lnTo>
                <a:lnTo>
                  <a:pt x="81" y="155"/>
                </a:lnTo>
                <a:lnTo>
                  <a:pt x="81" y="153"/>
                </a:lnTo>
                <a:lnTo>
                  <a:pt x="81" y="151"/>
                </a:lnTo>
                <a:lnTo>
                  <a:pt x="81" y="149"/>
                </a:lnTo>
                <a:lnTo>
                  <a:pt x="81" y="147"/>
                </a:lnTo>
                <a:lnTo>
                  <a:pt x="81" y="146"/>
                </a:lnTo>
                <a:lnTo>
                  <a:pt x="81" y="144"/>
                </a:lnTo>
                <a:lnTo>
                  <a:pt x="81" y="142"/>
                </a:lnTo>
                <a:lnTo>
                  <a:pt x="79" y="142"/>
                </a:lnTo>
                <a:lnTo>
                  <a:pt x="79" y="140"/>
                </a:lnTo>
                <a:lnTo>
                  <a:pt x="77" y="138"/>
                </a:lnTo>
                <a:lnTo>
                  <a:pt x="75" y="136"/>
                </a:lnTo>
                <a:lnTo>
                  <a:pt x="73" y="134"/>
                </a:lnTo>
                <a:lnTo>
                  <a:pt x="71" y="132"/>
                </a:lnTo>
                <a:lnTo>
                  <a:pt x="67" y="132"/>
                </a:lnTo>
                <a:lnTo>
                  <a:pt x="63" y="130"/>
                </a:lnTo>
                <a:lnTo>
                  <a:pt x="60" y="128"/>
                </a:lnTo>
                <a:lnTo>
                  <a:pt x="54" y="126"/>
                </a:lnTo>
                <a:lnTo>
                  <a:pt x="48" y="122"/>
                </a:lnTo>
                <a:lnTo>
                  <a:pt x="42" y="121"/>
                </a:lnTo>
                <a:lnTo>
                  <a:pt x="38" y="117"/>
                </a:lnTo>
                <a:lnTo>
                  <a:pt x="35" y="113"/>
                </a:lnTo>
                <a:lnTo>
                  <a:pt x="31" y="111"/>
                </a:lnTo>
                <a:lnTo>
                  <a:pt x="27" y="107"/>
                </a:lnTo>
                <a:lnTo>
                  <a:pt x="25" y="103"/>
                </a:lnTo>
                <a:lnTo>
                  <a:pt x="23" y="98"/>
                </a:lnTo>
                <a:lnTo>
                  <a:pt x="21" y="94"/>
                </a:lnTo>
                <a:lnTo>
                  <a:pt x="19" y="90"/>
                </a:lnTo>
                <a:lnTo>
                  <a:pt x="19" y="84"/>
                </a:lnTo>
                <a:lnTo>
                  <a:pt x="17" y="78"/>
                </a:lnTo>
                <a:lnTo>
                  <a:pt x="17" y="73"/>
                </a:lnTo>
                <a:lnTo>
                  <a:pt x="19" y="67"/>
                </a:lnTo>
                <a:lnTo>
                  <a:pt x="19" y="61"/>
                </a:lnTo>
                <a:lnTo>
                  <a:pt x="21" y="57"/>
                </a:lnTo>
                <a:lnTo>
                  <a:pt x="21" y="53"/>
                </a:lnTo>
                <a:lnTo>
                  <a:pt x="23" y="50"/>
                </a:lnTo>
                <a:lnTo>
                  <a:pt x="23" y="46"/>
                </a:lnTo>
                <a:lnTo>
                  <a:pt x="25" y="42"/>
                </a:lnTo>
                <a:lnTo>
                  <a:pt x="27" y="38"/>
                </a:lnTo>
                <a:lnTo>
                  <a:pt x="29" y="34"/>
                </a:lnTo>
                <a:lnTo>
                  <a:pt x="31" y="30"/>
                </a:lnTo>
                <a:lnTo>
                  <a:pt x="33" y="26"/>
                </a:lnTo>
                <a:lnTo>
                  <a:pt x="36" y="23"/>
                </a:lnTo>
                <a:lnTo>
                  <a:pt x="38" y="21"/>
                </a:lnTo>
                <a:lnTo>
                  <a:pt x="42" y="17"/>
                </a:lnTo>
                <a:lnTo>
                  <a:pt x="44" y="15"/>
                </a:lnTo>
                <a:lnTo>
                  <a:pt x="48" y="11"/>
                </a:lnTo>
                <a:lnTo>
                  <a:pt x="52" y="9"/>
                </a:lnTo>
                <a:lnTo>
                  <a:pt x="54" y="7"/>
                </a:lnTo>
                <a:lnTo>
                  <a:pt x="58" y="5"/>
                </a:lnTo>
                <a:lnTo>
                  <a:pt x="61" y="3"/>
                </a:lnTo>
                <a:lnTo>
                  <a:pt x="67" y="2"/>
                </a:lnTo>
                <a:lnTo>
                  <a:pt x="71" y="2"/>
                </a:lnTo>
                <a:lnTo>
                  <a:pt x="75" y="0"/>
                </a:lnTo>
                <a:lnTo>
                  <a:pt x="81" y="0"/>
                </a:lnTo>
                <a:lnTo>
                  <a:pt x="86" y="0"/>
                </a:lnTo>
                <a:lnTo>
                  <a:pt x="90" y="0"/>
                </a:lnTo>
                <a:lnTo>
                  <a:pt x="98" y="0"/>
                </a:lnTo>
                <a:lnTo>
                  <a:pt x="104" y="0"/>
                </a:lnTo>
                <a:lnTo>
                  <a:pt x="109" y="2"/>
                </a:lnTo>
                <a:lnTo>
                  <a:pt x="115" y="3"/>
                </a:lnTo>
                <a:lnTo>
                  <a:pt x="119" y="5"/>
                </a:lnTo>
                <a:lnTo>
                  <a:pt x="123" y="7"/>
                </a:lnTo>
                <a:lnTo>
                  <a:pt x="127" y="11"/>
                </a:lnTo>
                <a:lnTo>
                  <a:pt x="131" y="13"/>
                </a:lnTo>
                <a:lnTo>
                  <a:pt x="133" y="19"/>
                </a:lnTo>
                <a:lnTo>
                  <a:pt x="134" y="23"/>
                </a:lnTo>
                <a:lnTo>
                  <a:pt x="136" y="28"/>
                </a:lnTo>
                <a:lnTo>
                  <a:pt x="136" y="34"/>
                </a:lnTo>
                <a:lnTo>
                  <a:pt x="138" y="40"/>
                </a:lnTo>
                <a:lnTo>
                  <a:pt x="138" y="48"/>
                </a:lnTo>
                <a:lnTo>
                  <a:pt x="138" y="55"/>
                </a:lnTo>
                <a:lnTo>
                  <a:pt x="136" y="63"/>
                </a:lnTo>
                <a:lnTo>
                  <a:pt x="96" y="67"/>
                </a:lnTo>
                <a:lnTo>
                  <a:pt x="96" y="63"/>
                </a:lnTo>
                <a:lnTo>
                  <a:pt x="96" y="59"/>
                </a:lnTo>
                <a:lnTo>
                  <a:pt x="96" y="57"/>
                </a:lnTo>
                <a:lnTo>
                  <a:pt x="94" y="53"/>
                </a:lnTo>
                <a:lnTo>
                  <a:pt x="94" y="51"/>
                </a:lnTo>
                <a:lnTo>
                  <a:pt x="94" y="50"/>
                </a:lnTo>
                <a:lnTo>
                  <a:pt x="94" y="48"/>
                </a:lnTo>
                <a:lnTo>
                  <a:pt x="92" y="46"/>
                </a:lnTo>
                <a:lnTo>
                  <a:pt x="92" y="44"/>
                </a:lnTo>
                <a:lnTo>
                  <a:pt x="90" y="42"/>
                </a:lnTo>
                <a:lnTo>
                  <a:pt x="88" y="42"/>
                </a:lnTo>
                <a:lnTo>
                  <a:pt x="86" y="40"/>
                </a:lnTo>
                <a:lnTo>
                  <a:pt x="85" y="40"/>
                </a:lnTo>
                <a:lnTo>
                  <a:pt x="83" y="40"/>
                </a:lnTo>
                <a:lnTo>
                  <a:pt x="81" y="38"/>
                </a:lnTo>
                <a:lnTo>
                  <a:pt x="79" y="38"/>
                </a:lnTo>
                <a:lnTo>
                  <a:pt x="77" y="38"/>
                </a:lnTo>
                <a:lnTo>
                  <a:pt x="75" y="38"/>
                </a:lnTo>
                <a:lnTo>
                  <a:pt x="73" y="40"/>
                </a:lnTo>
                <a:lnTo>
                  <a:pt x="73" y="40"/>
                </a:lnTo>
                <a:lnTo>
                  <a:pt x="71" y="40"/>
                </a:lnTo>
                <a:lnTo>
                  <a:pt x="69" y="42"/>
                </a:lnTo>
                <a:lnTo>
                  <a:pt x="67" y="42"/>
                </a:lnTo>
                <a:lnTo>
                  <a:pt x="67" y="44"/>
                </a:lnTo>
                <a:lnTo>
                  <a:pt x="65" y="44"/>
                </a:lnTo>
                <a:lnTo>
                  <a:pt x="65" y="46"/>
                </a:lnTo>
                <a:lnTo>
                  <a:pt x="63" y="48"/>
                </a:lnTo>
                <a:lnTo>
                  <a:pt x="63" y="50"/>
                </a:lnTo>
                <a:lnTo>
                  <a:pt x="61" y="50"/>
                </a:lnTo>
                <a:lnTo>
                  <a:pt x="61" y="51"/>
                </a:lnTo>
                <a:lnTo>
                  <a:pt x="61" y="53"/>
                </a:lnTo>
                <a:lnTo>
                  <a:pt x="61" y="55"/>
                </a:lnTo>
                <a:lnTo>
                  <a:pt x="61" y="57"/>
                </a:lnTo>
                <a:lnTo>
                  <a:pt x="60" y="57"/>
                </a:lnTo>
                <a:lnTo>
                  <a:pt x="60" y="59"/>
                </a:lnTo>
                <a:lnTo>
                  <a:pt x="61" y="61"/>
                </a:lnTo>
                <a:lnTo>
                  <a:pt x="61" y="61"/>
                </a:lnTo>
                <a:lnTo>
                  <a:pt x="61" y="63"/>
                </a:lnTo>
                <a:lnTo>
                  <a:pt x="61" y="63"/>
                </a:lnTo>
                <a:lnTo>
                  <a:pt x="61" y="65"/>
                </a:lnTo>
                <a:lnTo>
                  <a:pt x="63" y="65"/>
                </a:lnTo>
                <a:lnTo>
                  <a:pt x="63" y="67"/>
                </a:lnTo>
                <a:lnTo>
                  <a:pt x="65" y="67"/>
                </a:lnTo>
                <a:lnTo>
                  <a:pt x="67" y="69"/>
                </a:lnTo>
                <a:lnTo>
                  <a:pt x="69" y="69"/>
                </a:lnTo>
                <a:lnTo>
                  <a:pt x="71" y="71"/>
                </a:lnTo>
                <a:lnTo>
                  <a:pt x="73" y="71"/>
                </a:lnTo>
                <a:lnTo>
                  <a:pt x="75" y="73"/>
                </a:lnTo>
                <a:lnTo>
                  <a:pt x="81" y="74"/>
                </a:lnTo>
                <a:lnTo>
                  <a:pt x="88" y="76"/>
                </a:lnTo>
                <a:lnTo>
                  <a:pt x="92" y="80"/>
                </a:lnTo>
                <a:lnTo>
                  <a:pt x="98" y="82"/>
                </a:lnTo>
                <a:lnTo>
                  <a:pt x="102" y="84"/>
                </a:lnTo>
                <a:lnTo>
                  <a:pt x="106" y="86"/>
                </a:lnTo>
                <a:lnTo>
                  <a:pt x="109" y="88"/>
                </a:lnTo>
                <a:lnTo>
                  <a:pt x="111" y="92"/>
                </a:lnTo>
                <a:lnTo>
                  <a:pt x="115" y="94"/>
                </a:lnTo>
                <a:lnTo>
                  <a:pt x="117" y="96"/>
                </a:lnTo>
                <a:lnTo>
                  <a:pt x="119" y="99"/>
                </a:lnTo>
                <a:lnTo>
                  <a:pt x="121" y="101"/>
                </a:lnTo>
                <a:lnTo>
                  <a:pt x="121" y="105"/>
                </a:lnTo>
                <a:lnTo>
                  <a:pt x="123" y="109"/>
                </a:lnTo>
                <a:lnTo>
                  <a:pt x="125" y="111"/>
                </a:lnTo>
                <a:lnTo>
                  <a:pt x="125" y="115"/>
                </a:lnTo>
                <a:lnTo>
                  <a:pt x="125" y="119"/>
                </a:lnTo>
                <a:lnTo>
                  <a:pt x="125" y="122"/>
                </a:lnTo>
                <a:lnTo>
                  <a:pt x="127" y="126"/>
                </a:lnTo>
                <a:lnTo>
                  <a:pt x="127" y="130"/>
                </a:lnTo>
                <a:lnTo>
                  <a:pt x="125" y="134"/>
                </a:lnTo>
                <a:lnTo>
                  <a:pt x="125" y="138"/>
                </a:lnTo>
                <a:lnTo>
                  <a:pt x="125" y="142"/>
                </a:lnTo>
                <a:lnTo>
                  <a:pt x="123" y="147"/>
                </a:lnTo>
                <a:lnTo>
                  <a:pt x="123" y="151"/>
                </a:lnTo>
                <a:lnTo>
                  <a:pt x="121" y="157"/>
                </a:lnTo>
                <a:lnTo>
                  <a:pt x="119" y="161"/>
                </a:lnTo>
                <a:lnTo>
                  <a:pt x="117" y="167"/>
                </a:lnTo>
                <a:lnTo>
                  <a:pt x="115" y="170"/>
                </a:lnTo>
                <a:lnTo>
                  <a:pt x="113" y="176"/>
                </a:lnTo>
                <a:lnTo>
                  <a:pt x="111" y="180"/>
                </a:lnTo>
                <a:lnTo>
                  <a:pt x="109" y="184"/>
                </a:lnTo>
                <a:lnTo>
                  <a:pt x="106" y="188"/>
                </a:lnTo>
                <a:lnTo>
                  <a:pt x="104" y="194"/>
                </a:lnTo>
                <a:lnTo>
                  <a:pt x="100" y="195"/>
                </a:lnTo>
                <a:lnTo>
                  <a:pt x="98" y="199"/>
                </a:lnTo>
                <a:lnTo>
                  <a:pt x="94" y="203"/>
                </a:lnTo>
                <a:lnTo>
                  <a:pt x="90" y="205"/>
                </a:lnTo>
                <a:lnTo>
                  <a:pt x="86" y="209"/>
                </a:lnTo>
                <a:lnTo>
                  <a:pt x="85" y="211"/>
                </a:lnTo>
                <a:lnTo>
                  <a:pt x="81" y="213"/>
                </a:lnTo>
                <a:lnTo>
                  <a:pt x="77" y="215"/>
                </a:lnTo>
                <a:lnTo>
                  <a:pt x="73" y="217"/>
                </a:lnTo>
                <a:lnTo>
                  <a:pt x="69" y="217"/>
                </a:lnTo>
                <a:lnTo>
                  <a:pt x="63" y="218"/>
                </a:lnTo>
                <a:lnTo>
                  <a:pt x="60" y="218"/>
                </a:lnTo>
                <a:lnTo>
                  <a:pt x="56" y="220"/>
                </a:lnTo>
                <a:lnTo>
                  <a:pt x="50" y="220"/>
                </a:lnTo>
                <a:lnTo>
                  <a:pt x="42" y="218"/>
                </a:lnTo>
                <a:lnTo>
                  <a:pt x="35" y="218"/>
                </a:lnTo>
                <a:lnTo>
                  <a:pt x="29" y="217"/>
                </a:lnTo>
                <a:lnTo>
                  <a:pt x="23" y="215"/>
                </a:lnTo>
                <a:lnTo>
                  <a:pt x="17" y="211"/>
                </a:lnTo>
                <a:lnTo>
                  <a:pt x="13" y="207"/>
                </a:lnTo>
                <a:lnTo>
                  <a:pt x="10" y="203"/>
                </a:lnTo>
                <a:lnTo>
                  <a:pt x="6" y="199"/>
                </a:lnTo>
                <a:lnTo>
                  <a:pt x="4" y="194"/>
                </a:lnTo>
                <a:lnTo>
                  <a:pt x="2" y="188"/>
                </a:lnTo>
                <a:lnTo>
                  <a:pt x="2" y="182"/>
                </a:lnTo>
                <a:lnTo>
                  <a:pt x="0" y="174"/>
                </a:lnTo>
                <a:lnTo>
                  <a:pt x="0" y="169"/>
                </a:lnTo>
                <a:lnTo>
                  <a:pt x="0" y="161"/>
                </a:lnTo>
                <a:lnTo>
                  <a:pt x="0" y="153"/>
                </a:lnTo>
                <a:lnTo>
                  <a:pt x="0" y="14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193240" y="6264360"/>
            <a:ext cx="218880" cy="349200"/>
          </a:xfrm>
          <a:custGeom>
            <a:avLst/>
            <a:gdLst/>
            <a:ahLst/>
            <a:rect l="l" t="t" r="r" b="b"/>
            <a:pathLst>
              <a:path w="138" h="220">
                <a:moveTo>
                  <a:pt x="0" y="146"/>
                </a:moveTo>
                <a:lnTo>
                  <a:pt x="40" y="142"/>
                </a:lnTo>
                <a:lnTo>
                  <a:pt x="40" y="146"/>
                </a:lnTo>
                <a:lnTo>
                  <a:pt x="40" y="149"/>
                </a:lnTo>
                <a:lnTo>
                  <a:pt x="40" y="151"/>
                </a:lnTo>
                <a:lnTo>
                  <a:pt x="40" y="155"/>
                </a:lnTo>
                <a:lnTo>
                  <a:pt x="40" y="157"/>
                </a:lnTo>
                <a:lnTo>
                  <a:pt x="40" y="161"/>
                </a:lnTo>
                <a:lnTo>
                  <a:pt x="42" y="163"/>
                </a:lnTo>
                <a:lnTo>
                  <a:pt x="42" y="165"/>
                </a:lnTo>
                <a:lnTo>
                  <a:pt x="44" y="169"/>
                </a:lnTo>
                <a:lnTo>
                  <a:pt x="44" y="170"/>
                </a:lnTo>
                <a:lnTo>
                  <a:pt x="46" y="172"/>
                </a:lnTo>
                <a:lnTo>
                  <a:pt x="48" y="174"/>
                </a:lnTo>
                <a:lnTo>
                  <a:pt x="50" y="176"/>
                </a:lnTo>
                <a:lnTo>
                  <a:pt x="54" y="176"/>
                </a:lnTo>
                <a:lnTo>
                  <a:pt x="56" y="178"/>
                </a:lnTo>
                <a:lnTo>
                  <a:pt x="58" y="178"/>
                </a:lnTo>
                <a:lnTo>
                  <a:pt x="61" y="178"/>
                </a:lnTo>
                <a:lnTo>
                  <a:pt x="63" y="178"/>
                </a:lnTo>
                <a:lnTo>
                  <a:pt x="65" y="176"/>
                </a:lnTo>
                <a:lnTo>
                  <a:pt x="67" y="176"/>
                </a:lnTo>
                <a:lnTo>
                  <a:pt x="69" y="174"/>
                </a:lnTo>
                <a:lnTo>
                  <a:pt x="71" y="174"/>
                </a:lnTo>
                <a:lnTo>
                  <a:pt x="71" y="172"/>
                </a:lnTo>
                <a:lnTo>
                  <a:pt x="73" y="170"/>
                </a:lnTo>
                <a:lnTo>
                  <a:pt x="75" y="169"/>
                </a:lnTo>
                <a:lnTo>
                  <a:pt x="77" y="169"/>
                </a:lnTo>
                <a:lnTo>
                  <a:pt x="77" y="167"/>
                </a:lnTo>
                <a:lnTo>
                  <a:pt x="79" y="165"/>
                </a:lnTo>
                <a:lnTo>
                  <a:pt x="79" y="163"/>
                </a:lnTo>
                <a:lnTo>
                  <a:pt x="81" y="161"/>
                </a:lnTo>
                <a:lnTo>
                  <a:pt x="81" y="157"/>
                </a:lnTo>
                <a:lnTo>
                  <a:pt x="81" y="155"/>
                </a:lnTo>
                <a:lnTo>
                  <a:pt x="81" y="153"/>
                </a:lnTo>
                <a:lnTo>
                  <a:pt x="81" y="151"/>
                </a:lnTo>
                <a:lnTo>
                  <a:pt x="81" y="149"/>
                </a:lnTo>
                <a:lnTo>
                  <a:pt x="81" y="147"/>
                </a:lnTo>
                <a:lnTo>
                  <a:pt x="81" y="146"/>
                </a:lnTo>
                <a:lnTo>
                  <a:pt x="81" y="144"/>
                </a:lnTo>
                <a:lnTo>
                  <a:pt x="81" y="142"/>
                </a:lnTo>
                <a:lnTo>
                  <a:pt x="79" y="142"/>
                </a:lnTo>
                <a:lnTo>
                  <a:pt x="79" y="140"/>
                </a:lnTo>
                <a:lnTo>
                  <a:pt x="77" y="138"/>
                </a:lnTo>
                <a:lnTo>
                  <a:pt x="75" y="136"/>
                </a:lnTo>
                <a:lnTo>
                  <a:pt x="73" y="134"/>
                </a:lnTo>
                <a:lnTo>
                  <a:pt x="71" y="132"/>
                </a:lnTo>
                <a:lnTo>
                  <a:pt x="67" y="132"/>
                </a:lnTo>
                <a:lnTo>
                  <a:pt x="63" y="130"/>
                </a:lnTo>
                <a:lnTo>
                  <a:pt x="60" y="128"/>
                </a:lnTo>
                <a:lnTo>
                  <a:pt x="54" y="126"/>
                </a:lnTo>
                <a:lnTo>
                  <a:pt x="48" y="122"/>
                </a:lnTo>
                <a:lnTo>
                  <a:pt x="42" y="121"/>
                </a:lnTo>
                <a:lnTo>
                  <a:pt x="38" y="117"/>
                </a:lnTo>
                <a:lnTo>
                  <a:pt x="35" y="113"/>
                </a:lnTo>
                <a:lnTo>
                  <a:pt x="31" y="111"/>
                </a:lnTo>
                <a:lnTo>
                  <a:pt x="27" y="107"/>
                </a:lnTo>
                <a:lnTo>
                  <a:pt x="25" y="103"/>
                </a:lnTo>
                <a:lnTo>
                  <a:pt x="23" y="98"/>
                </a:lnTo>
                <a:lnTo>
                  <a:pt x="21" y="94"/>
                </a:lnTo>
                <a:lnTo>
                  <a:pt x="19" y="90"/>
                </a:lnTo>
                <a:lnTo>
                  <a:pt x="19" y="84"/>
                </a:lnTo>
                <a:lnTo>
                  <a:pt x="17" y="78"/>
                </a:lnTo>
                <a:lnTo>
                  <a:pt x="17" y="73"/>
                </a:lnTo>
                <a:lnTo>
                  <a:pt x="19" y="67"/>
                </a:lnTo>
                <a:lnTo>
                  <a:pt x="19" y="61"/>
                </a:lnTo>
                <a:lnTo>
                  <a:pt x="21" y="57"/>
                </a:lnTo>
                <a:lnTo>
                  <a:pt x="21" y="53"/>
                </a:lnTo>
                <a:lnTo>
                  <a:pt x="23" y="50"/>
                </a:lnTo>
                <a:lnTo>
                  <a:pt x="23" y="46"/>
                </a:lnTo>
                <a:lnTo>
                  <a:pt x="25" y="42"/>
                </a:lnTo>
                <a:lnTo>
                  <a:pt x="27" y="38"/>
                </a:lnTo>
                <a:lnTo>
                  <a:pt x="29" y="34"/>
                </a:lnTo>
                <a:lnTo>
                  <a:pt x="31" y="30"/>
                </a:lnTo>
                <a:lnTo>
                  <a:pt x="33" y="26"/>
                </a:lnTo>
                <a:lnTo>
                  <a:pt x="36" y="23"/>
                </a:lnTo>
                <a:lnTo>
                  <a:pt x="38" y="21"/>
                </a:lnTo>
                <a:lnTo>
                  <a:pt x="42" y="17"/>
                </a:lnTo>
                <a:lnTo>
                  <a:pt x="44" y="15"/>
                </a:lnTo>
                <a:lnTo>
                  <a:pt x="48" y="11"/>
                </a:lnTo>
                <a:lnTo>
                  <a:pt x="52" y="9"/>
                </a:lnTo>
                <a:lnTo>
                  <a:pt x="54" y="7"/>
                </a:lnTo>
                <a:lnTo>
                  <a:pt x="58" y="5"/>
                </a:lnTo>
                <a:lnTo>
                  <a:pt x="61" y="3"/>
                </a:lnTo>
                <a:lnTo>
                  <a:pt x="67" y="2"/>
                </a:lnTo>
                <a:lnTo>
                  <a:pt x="71" y="2"/>
                </a:lnTo>
                <a:lnTo>
                  <a:pt x="75" y="0"/>
                </a:lnTo>
                <a:lnTo>
                  <a:pt x="81" y="0"/>
                </a:lnTo>
                <a:lnTo>
                  <a:pt x="86" y="0"/>
                </a:lnTo>
                <a:lnTo>
                  <a:pt x="90" y="0"/>
                </a:lnTo>
                <a:lnTo>
                  <a:pt x="98" y="0"/>
                </a:lnTo>
                <a:lnTo>
                  <a:pt x="104" y="0"/>
                </a:lnTo>
                <a:lnTo>
                  <a:pt x="109" y="2"/>
                </a:lnTo>
                <a:lnTo>
                  <a:pt x="115" y="3"/>
                </a:lnTo>
                <a:lnTo>
                  <a:pt x="119" y="5"/>
                </a:lnTo>
                <a:lnTo>
                  <a:pt x="123" y="7"/>
                </a:lnTo>
                <a:lnTo>
                  <a:pt x="127" y="11"/>
                </a:lnTo>
                <a:lnTo>
                  <a:pt x="131" y="13"/>
                </a:lnTo>
                <a:lnTo>
                  <a:pt x="133" y="19"/>
                </a:lnTo>
                <a:lnTo>
                  <a:pt x="134" y="23"/>
                </a:lnTo>
                <a:lnTo>
                  <a:pt x="136" y="28"/>
                </a:lnTo>
                <a:lnTo>
                  <a:pt x="136" y="34"/>
                </a:lnTo>
                <a:lnTo>
                  <a:pt x="138" y="40"/>
                </a:lnTo>
                <a:lnTo>
                  <a:pt x="138" y="48"/>
                </a:lnTo>
                <a:lnTo>
                  <a:pt x="138" y="55"/>
                </a:lnTo>
                <a:lnTo>
                  <a:pt x="136" y="63"/>
                </a:lnTo>
                <a:lnTo>
                  <a:pt x="96" y="67"/>
                </a:lnTo>
                <a:lnTo>
                  <a:pt x="96" y="63"/>
                </a:lnTo>
                <a:lnTo>
                  <a:pt x="96" y="59"/>
                </a:lnTo>
                <a:lnTo>
                  <a:pt x="96" y="57"/>
                </a:lnTo>
                <a:lnTo>
                  <a:pt x="94" y="53"/>
                </a:lnTo>
                <a:lnTo>
                  <a:pt x="94" y="51"/>
                </a:lnTo>
                <a:lnTo>
                  <a:pt x="94" y="50"/>
                </a:lnTo>
                <a:lnTo>
                  <a:pt x="94" y="48"/>
                </a:lnTo>
                <a:lnTo>
                  <a:pt x="92" y="46"/>
                </a:lnTo>
                <a:lnTo>
                  <a:pt x="92" y="44"/>
                </a:lnTo>
                <a:lnTo>
                  <a:pt x="90" y="42"/>
                </a:lnTo>
                <a:lnTo>
                  <a:pt x="88" y="42"/>
                </a:lnTo>
                <a:lnTo>
                  <a:pt x="86" y="40"/>
                </a:lnTo>
                <a:lnTo>
                  <a:pt x="85" y="40"/>
                </a:lnTo>
                <a:lnTo>
                  <a:pt x="83" y="40"/>
                </a:lnTo>
                <a:lnTo>
                  <a:pt x="81" y="38"/>
                </a:lnTo>
                <a:lnTo>
                  <a:pt x="79" y="38"/>
                </a:lnTo>
                <a:lnTo>
                  <a:pt x="77" y="38"/>
                </a:lnTo>
                <a:lnTo>
                  <a:pt x="75" y="38"/>
                </a:lnTo>
                <a:lnTo>
                  <a:pt x="73" y="40"/>
                </a:lnTo>
                <a:lnTo>
                  <a:pt x="73" y="40"/>
                </a:lnTo>
                <a:lnTo>
                  <a:pt x="71" y="40"/>
                </a:lnTo>
                <a:lnTo>
                  <a:pt x="69" y="42"/>
                </a:lnTo>
                <a:lnTo>
                  <a:pt x="67" y="42"/>
                </a:lnTo>
                <a:lnTo>
                  <a:pt x="67" y="44"/>
                </a:lnTo>
                <a:lnTo>
                  <a:pt x="65" y="44"/>
                </a:lnTo>
                <a:lnTo>
                  <a:pt x="65" y="46"/>
                </a:lnTo>
                <a:lnTo>
                  <a:pt x="63" y="48"/>
                </a:lnTo>
                <a:lnTo>
                  <a:pt x="63" y="50"/>
                </a:lnTo>
                <a:lnTo>
                  <a:pt x="61" y="50"/>
                </a:lnTo>
                <a:lnTo>
                  <a:pt x="61" y="51"/>
                </a:lnTo>
                <a:lnTo>
                  <a:pt x="61" y="53"/>
                </a:lnTo>
                <a:lnTo>
                  <a:pt x="61" y="55"/>
                </a:lnTo>
                <a:lnTo>
                  <a:pt x="61" y="57"/>
                </a:lnTo>
                <a:lnTo>
                  <a:pt x="60" y="57"/>
                </a:lnTo>
                <a:lnTo>
                  <a:pt x="60" y="59"/>
                </a:lnTo>
                <a:lnTo>
                  <a:pt x="61" y="61"/>
                </a:lnTo>
                <a:lnTo>
                  <a:pt x="61" y="61"/>
                </a:lnTo>
                <a:lnTo>
                  <a:pt x="61" y="63"/>
                </a:lnTo>
                <a:lnTo>
                  <a:pt x="61" y="63"/>
                </a:lnTo>
                <a:lnTo>
                  <a:pt x="61" y="65"/>
                </a:lnTo>
                <a:lnTo>
                  <a:pt x="63" y="65"/>
                </a:lnTo>
                <a:lnTo>
                  <a:pt x="63" y="67"/>
                </a:lnTo>
                <a:lnTo>
                  <a:pt x="65" y="67"/>
                </a:lnTo>
                <a:lnTo>
                  <a:pt x="67" y="69"/>
                </a:lnTo>
                <a:lnTo>
                  <a:pt x="69" y="69"/>
                </a:lnTo>
                <a:lnTo>
                  <a:pt x="71" y="71"/>
                </a:lnTo>
                <a:lnTo>
                  <a:pt x="73" y="71"/>
                </a:lnTo>
                <a:lnTo>
                  <a:pt x="75" y="73"/>
                </a:lnTo>
                <a:lnTo>
                  <a:pt x="81" y="74"/>
                </a:lnTo>
                <a:lnTo>
                  <a:pt x="88" y="76"/>
                </a:lnTo>
                <a:lnTo>
                  <a:pt x="92" y="80"/>
                </a:lnTo>
                <a:lnTo>
                  <a:pt x="98" y="82"/>
                </a:lnTo>
                <a:lnTo>
                  <a:pt x="102" y="84"/>
                </a:lnTo>
                <a:lnTo>
                  <a:pt x="106" y="86"/>
                </a:lnTo>
                <a:lnTo>
                  <a:pt x="109" y="88"/>
                </a:lnTo>
                <a:lnTo>
                  <a:pt x="111" y="92"/>
                </a:lnTo>
                <a:lnTo>
                  <a:pt x="115" y="94"/>
                </a:lnTo>
                <a:lnTo>
                  <a:pt x="117" y="96"/>
                </a:lnTo>
                <a:lnTo>
                  <a:pt x="119" y="99"/>
                </a:lnTo>
                <a:lnTo>
                  <a:pt x="121" y="101"/>
                </a:lnTo>
                <a:lnTo>
                  <a:pt x="121" y="105"/>
                </a:lnTo>
                <a:lnTo>
                  <a:pt x="123" y="109"/>
                </a:lnTo>
                <a:lnTo>
                  <a:pt x="125" y="111"/>
                </a:lnTo>
                <a:lnTo>
                  <a:pt x="125" y="115"/>
                </a:lnTo>
                <a:lnTo>
                  <a:pt x="125" y="119"/>
                </a:lnTo>
                <a:lnTo>
                  <a:pt x="125" y="122"/>
                </a:lnTo>
                <a:lnTo>
                  <a:pt x="127" y="126"/>
                </a:lnTo>
                <a:lnTo>
                  <a:pt x="127" y="130"/>
                </a:lnTo>
                <a:lnTo>
                  <a:pt x="125" y="134"/>
                </a:lnTo>
                <a:lnTo>
                  <a:pt x="125" y="138"/>
                </a:lnTo>
                <a:lnTo>
                  <a:pt x="125" y="142"/>
                </a:lnTo>
                <a:lnTo>
                  <a:pt x="123" y="147"/>
                </a:lnTo>
                <a:lnTo>
                  <a:pt x="123" y="151"/>
                </a:lnTo>
                <a:lnTo>
                  <a:pt x="121" y="157"/>
                </a:lnTo>
                <a:lnTo>
                  <a:pt x="119" y="161"/>
                </a:lnTo>
                <a:lnTo>
                  <a:pt x="117" y="167"/>
                </a:lnTo>
                <a:lnTo>
                  <a:pt x="115" y="170"/>
                </a:lnTo>
                <a:lnTo>
                  <a:pt x="113" y="176"/>
                </a:lnTo>
                <a:lnTo>
                  <a:pt x="111" y="180"/>
                </a:lnTo>
                <a:lnTo>
                  <a:pt x="109" y="184"/>
                </a:lnTo>
                <a:lnTo>
                  <a:pt x="106" y="188"/>
                </a:lnTo>
                <a:lnTo>
                  <a:pt x="104" y="194"/>
                </a:lnTo>
                <a:lnTo>
                  <a:pt x="100" y="195"/>
                </a:lnTo>
                <a:lnTo>
                  <a:pt x="98" y="199"/>
                </a:lnTo>
                <a:lnTo>
                  <a:pt x="94" y="203"/>
                </a:lnTo>
                <a:lnTo>
                  <a:pt x="90" y="205"/>
                </a:lnTo>
                <a:lnTo>
                  <a:pt x="86" y="209"/>
                </a:lnTo>
                <a:lnTo>
                  <a:pt x="85" y="211"/>
                </a:lnTo>
                <a:lnTo>
                  <a:pt x="81" y="213"/>
                </a:lnTo>
                <a:lnTo>
                  <a:pt x="77" y="215"/>
                </a:lnTo>
                <a:lnTo>
                  <a:pt x="73" y="217"/>
                </a:lnTo>
                <a:lnTo>
                  <a:pt x="69" y="217"/>
                </a:lnTo>
                <a:lnTo>
                  <a:pt x="63" y="218"/>
                </a:lnTo>
                <a:lnTo>
                  <a:pt x="60" y="218"/>
                </a:lnTo>
                <a:lnTo>
                  <a:pt x="56" y="220"/>
                </a:lnTo>
                <a:lnTo>
                  <a:pt x="50" y="220"/>
                </a:lnTo>
                <a:lnTo>
                  <a:pt x="42" y="218"/>
                </a:lnTo>
                <a:lnTo>
                  <a:pt x="35" y="218"/>
                </a:lnTo>
                <a:lnTo>
                  <a:pt x="29" y="217"/>
                </a:lnTo>
                <a:lnTo>
                  <a:pt x="23" y="215"/>
                </a:lnTo>
                <a:lnTo>
                  <a:pt x="17" y="211"/>
                </a:lnTo>
                <a:lnTo>
                  <a:pt x="13" y="207"/>
                </a:lnTo>
                <a:lnTo>
                  <a:pt x="10" y="203"/>
                </a:lnTo>
                <a:lnTo>
                  <a:pt x="6" y="199"/>
                </a:lnTo>
                <a:lnTo>
                  <a:pt x="4" y="194"/>
                </a:lnTo>
                <a:lnTo>
                  <a:pt x="2" y="188"/>
                </a:lnTo>
                <a:lnTo>
                  <a:pt x="2" y="182"/>
                </a:lnTo>
                <a:lnTo>
                  <a:pt x="0" y="174"/>
                </a:lnTo>
                <a:lnTo>
                  <a:pt x="0" y="169"/>
                </a:lnTo>
                <a:lnTo>
                  <a:pt x="0" y="161"/>
                </a:lnTo>
                <a:lnTo>
                  <a:pt x="0" y="153"/>
                </a:lnTo>
                <a:lnTo>
                  <a:pt x="0" y="146"/>
                </a:lnTo>
              </a:path>
            </a:pathLst>
          </a:custGeom>
          <a:solidFill>
            <a:srgbClr val="00800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891560" y="6264360"/>
            <a:ext cx="244440" cy="349200"/>
          </a:xfrm>
          <a:custGeom>
            <a:avLst/>
            <a:gdLst/>
            <a:ahLst/>
            <a:rect l="l" t="t" r="r" b="b"/>
            <a:pathLst>
              <a:path w="154" h="220">
                <a:moveTo>
                  <a:pt x="0" y="0"/>
                </a:moveTo>
                <a:lnTo>
                  <a:pt x="154" y="0"/>
                </a:lnTo>
                <a:lnTo>
                  <a:pt x="142" y="53"/>
                </a:lnTo>
                <a:lnTo>
                  <a:pt x="98" y="53"/>
                </a:lnTo>
                <a:lnTo>
                  <a:pt x="98" y="220"/>
                </a:lnTo>
                <a:lnTo>
                  <a:pt x="54" y="220"/>
                </a:lnTo>
                <a:lnTo>
                  <a:pt x="54" y="53"/>
                </a:lnTo>
                <a:lnTo>
                  <a:pt x="9" y="53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91560" y="6264360"/>
            <a:ext cx="244440" cy="349200"/>
          </a:xfrm>
          <a:custGeom>
            <a:avLst/>
            <a:gdLst/>
            <a:ahLst/>
            <a:rect l="l" t="t" r="r" b="b"/>
            <a:pathLst>
              <a:path w="154" h="220">
                <a:moveTo>
                  <a:pt x="0" y="0"/>
                </a:moveTo>
                <a:lnTo>
                  <a:pt x="154" y="0"/>
                </a:lnTo>
                <a:lnTo>
                  <a:pt x="142" y="53"/>
                </a:lnTo>
                <a:lnTo>
                  <a:pt x="98" y="53"/>
                </a:lnTo>
                <a:lnTo>
                  <a:pt x="98" y="220"/>
                </a:lnTo>
                <a:lnTo>
                  <a:pt x="54" y="220"/>
                </a:lnTo>
                <a:lnTo>
                  <a:pt x="54" y="53"/>
                </a:lnTo>
                <a:lnTo>
                  <a:pt x="9" y="53"/>
                </a:lnTo>
                <a:lnTo>
                  <a:pt x="0" y="0"/>
                </a:lnTo>
              </a:path>
            </a:pathLst>
          </a:custGeom>
          <a:solidFill>
            <a:srgbClr val="00800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799400" y="6264360"/>
            <a:ext cx="138240" cy="349200"/>
          </a:xfrm>
          <a:custGeom>
            <a:avLst/>
            <a:gdLst/>
            <a:ahLst/>
            <a:rect l="l" t="t" r="r" b="b"/>
            <a:pathLst>
              <a:path w="87" h="220">
                <a:moveTo>
                  <a:pt x="0" y="0"/>
                </a:moveTo>
                <a:lnTo>
                  <a:pt x="44" y="0"/>
                </a:lnTo>
                <a:lnTo>
                  <a:pt x="87" y="220"/>
                </a:lnTo>
                <a:lnTo>
                  <a:pt x="43" y="22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99400" y="6264360"/>
            <a:ext cx="138240" cy="349200"/>
          </a:xfrm>
          <a:custGeom>
            <a:avLst/>
            <a:gdLst/>
            <a:ahLst/>
            <a:rect l="l" t="t" r="r" b="b"/>
            <a:pathLst>
              <a:path w="87" h="220">
                <a:moveTo>
                  <a:pt x="0" y="0"/>
                </a:moveTo>
                <a:lnTo>
                  <a:pt x="44" y="0"/>
                </a:lnTo>
                <a:lnTo>
                  <a:pt x="87" y="220"/>
                </a:lnTo>
                <a:lnTo>
                  <a:pt x="43" y="220"/>
                </a:lnTo>
                <a:lnTo>
                  <a:pt x="0" y="0"/>
                </a:lnTo>
              </a:path>
            </a:pathLst>
          </a:custGeom>
          <a:solidFill>
            <a:srgbClr val="00800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80200" y="6261120"/>
            <a:ext cx="136800" cy="352440"/>
          </a:xfrm>
          <a:custGeom>
            <a:avLst/>
            <a:gdLst/>
            <a:ahLst/>
            <a:rect l="l" t="t" r="r" b="b"/>
            <a:pathLst>
              <a:path w="86" h="222">
                <a:moveTo>
                  <a:pt x="86" y="0"/>
                </a:moveTo>
                <a:lnTo>
                  <a:pt x="42" y="0"/>
                </a:lnTo>
                <a:lnTo>
                  <a:pt x="0" y="222"/>
                </a:lnTo>
                <a:lnTo>
                  <a:pt x="44" y="222"/>
                </a:lnTo>
                <a:lnTo>
                  <a:pt x="86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80200" y="6261120"/>
            <a:ext cx="136800" cy="352440"/>
          </a:xfrm>
          <a:custGeom>
            <a:avLst/>
            <a:gdLst/>
            <a:ahLst/>
            <a:rect l="l" t="t" r="r" b="b"/>
            <a:pathLst>
              <a:path w="86" h="222">
                <a:moveTo>
                  <a:pt x="86" y="0"/>
                </a:moveTo>
                <a:lnTo>
                  <a:pt x="42" y="0"/>
                </a:lnTo>
                <a:lnTo>
                  <a:pt x="0" y="222"/>
                </a:lnTo>
                <a:lnTo>
                  <a:pt x="44" y="222"/>
                </a:lnTo>
                <a:lnTo>
                  <a:pt x="86" y="0"/>
                </a:lnTo>
              </a:path>
            </a:pathLst>
          </a:custGeom>
          <a:solidFill>
            <a:srgbClr val="00800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788240" y="6188040"/>
            <a:ext cx="657360" cy="60480"/>
          </a:xfrm>
          <a:custGeom>
            <a:avLst/>
            <a:gdLst/>
            <a:ahLst/>
            <a:rect l="l" t="t" r="r" b="b"/>
            <a:pathLst>
              <a:path w="414" h="38">
                <a:moveTo>
                  <a:pt x="0" y="0"/>
                </a:moveTo>
                <a:lnTo>
                  <a:pt x="414" y="0"/>
                </a:lnTo>
                <a:lnTo>
                  <a:pt x="407" y="38"/>
                </a:lnTo>
                <a:lnTo>
                  <a:pt x="7" y="3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788240" y="6188040"/>
            <a:ext cx="657360" cy="60480"/>
          </a:xfrm>
          <a:custGeom>
            <a:avLst/>
            <a:gdLst/>
            <a:ahLst/>
            <a:rect l="l" t="t" r="r" b="b"/>
            <a:pathLst>
              <a:path w="414" h="38">
                <a:moveTo>
                  <a:pt x="0" y="0"/>
                </a:moveTo>
                <a:lnTo>
                  <a:pt x="414" y="0"/>
                </a:lnTo>
                <a:lnTo>
                  <a:pt x="407" y="38"/>
                </a:lnTo>
                <a:lnTo>
                  <a:pt x="7" y="38"/>
                </a:lnTo>
                <a:lnTo>
                  <a:pt x="0" y="0"/>
                </a:lnTo>
              </a:path>
            </a:pathLst>
          </a:custGeom>
          <a:solidFill>
            <a:srgbClr val="00800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" name=""/>
          <p:cNvGraphicFramePr/>
          <p:nvPr/>
        </p:nvGraphicFramePr>
        <p:xfrm>
          <a:off x="609480" y="6172200"/>
          <a:ext cx="520920" cy="533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172200"/>
                    <a:ext cx="520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" name="PlaceHolder 1"/>
          <p:cNvSpPr>
            <a:spLocks noGrp="1"/>
          </p:cNvSpPr>
          <p:nvPr>
            <p:ph type="sldNum" idx="1"/>
          </p:nvPr>
        </p:nvSpPr>
        <p:spPr>
          <a:xfrm>
            <a:off x="7086240" y="62481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4474-A945-45DC-8204-780D25D8353D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body"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143000" y="647712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 Hofmann          Komponentenbasierte Modellentwicklung          09.10.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609480" y="6095880"/>
            <a:ext cx="7848720" cy="76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75212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omponentenbasierte Modellentwickl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r. Marko Hof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rum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odel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Komponenten und nicht gleich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Modu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abhängig von Programmiersprache und Plattform (BS; HW) und damit unflexibel und vergäng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gegen Konzepte, Abstraktionen und Idealisierungen meist zeitlos und anpass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her ideale Basis für Wiederverwendung oberhalb der Codeeb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rum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odel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Komponenten und nicht gleich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Modu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miersprachen nur sehr beschränkt zur Kommunikation von Konzepten geeig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me meist nur einem kleinen Expertenkreis direkt verständ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ied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nnzeichen komponentenbasierter Modelli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onenten: Modelle versus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odellbildung: Fundame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: Modell-Kompon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nten komponentenbasierter Modellentwick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m Problem zum Mod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ist das Ziel der Modellierung? Wofür soll das Modell entwickelt werden? 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enutzervorgab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agmatik des Model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m Problem zum Mod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ist das zu modellierende Real-System ?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Klassische Systemanaly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äten/Objekte, Attribu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kungsbeziehun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n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m Problem zum Mod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f welche Weise wird das System hinsichtlich des Zweckes des Modells bestmöglich idealisiert und abstrahiert und zerlegt? Was ist die notwendige Auflösungstiefe?  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od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ystem Desig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entielle „Kreativ-Leistung“: Weg zum Modell nicht anschließende Programm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Modell: Begriffsdefinition nach Stachowia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ist Mod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 Originals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ür de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Verwen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e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eitspan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züglich de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ten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n dem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dellier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e entsteht ein Mode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gmati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arum machen wir das Modell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59092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emanti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Welche Bedeutung haben die Modell- bestandte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533412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ormal richtige Ausdrück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281952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i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ie wird das Modell realisiert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752480" y="1600200"/>
            <a:ext cx="6172200" cy="3657600"/>
            <a:chOff x="1752480" y="1600200"/>
            <a:chExt cx="6172200" cy="3657600"/>
          </a:xfrm>
        </p:grpSpPr>
        <p:sp>
          <p:nvSpPr>
            <p:cNvPr id="91" name=""/>
            <p:cNvSpPr/>
            <p:nvPr/>
          </p:nvSpPr>
          <p:spPr>
            <a:xfrm>
              <a:off x="1752480" y="1600200"/>
              <a:ext cx="5562720" cy="3657600"/>
            </a:xfrm>
            <a:custGeom>
              <a:avLst/>
              <a:gdLst/>
              <a:ahLst/>
              <a:rect l="l" t="t" r="r" b="b"/>
              <a:pathLst>
                <a:path w="3504" h="2304">
                  <a:moveTo>
                    <a:pt x="3504" y="0"/>
                  </a:moveTo>
                  <a:lnTo>
                    <a:pt x="0" y="0"/>
                  </a:lnTo>
                  <a:lnTo>
                    <a:pt x="0" y="2304"/>
                  </a:lnTo>
                  <a:lnTo>
                    <a:pt x="2880" y="2304"/>
                  </a:lnTo>
                  <a:lnTo>
                    <a:pt x="2880" y="480"/>
                  </a:lnTo>
                  <a:lnTo>
                    <a:pt x="528" y="480"/>
                  </a:lnTo>
                  <a:lnTo>
                    <a:pt x="528" y="1824"/>
                  </a:lnTo>
                  <a:lnTo>
                    <a:pt x="2352" y="1824"/>
                  </a:lnTo>
                  <a:lnTo>
                    <a:pt x="2352" y="960"/>
                  </a:lnTo>
                  <a:lnTo>
                    <a:pt x="1056" y="960"/>
                  </a:lnTo>
                  <a:lnTo>
                    <a:pt x="1056" y="1392"/>
                  </a:lnTo>
                  <a:lnTo>
                    <a:pt x="1824" y="1392"/>
                  </a:lnTo>
                </a:path>
              </a:pathLst>
            </a:custGeom>
            <a:solidFill>
              <a:srgbClr val="eaeaea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4114440" y="1981080"/>
              <a:ext cx="76212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4114440" y="3505320"/>
              <a:ext cx="762120" cy="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4800240" y="2819520"/>
              <a:ext cx="76212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57600" y="342900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4470480" y="3754440"/>
              <a:ext cx="509040" cy="56736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513880" y="4952520"/>
              <a:ext cx="762120" cy="18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5865480" y="3428640"/>
              <a:ext cx="4680" cy="76212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14600" y="175248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onze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257800" y="1981080"/>
              <a:ext cx="99072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638680" y="19810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29200" y="34290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57600" y="46483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malisi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5" idx="0"/>
              <a:endCxn id="102" idx="0"/>
            </p:cNvCxnSpPr>
            <p:nvPr/>
          </p:nvCxnSpPr>
          <p:spPr>
            <a:xfrm flipH="1" rot="16200000">
              <a:off x="4494960" y="2743560"/>
              <a:ext cx="2160" cy="1372320"/>
            </a:xfrm>
            <a:prstGeom prst="curvedConnector5">
              <a:avLst>
                <a:gd name="adj1" fmla="val -14400000"/>
                <a:gd name="adj2" fmla="val 49986"/>
                <a:gd name="adj3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5" name=""/>
            <p:cNvSpPr/>
            <p:nvPr/>
          </p:nvSpPr>
          <p:spPr>
            <a:xfrm>
              <a:off x="7620120" y="1828800"/>
              <a:ext cx="304560" cy="3049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629040" y="1981080"/>
              <a:ext cx="76212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48120" y="3352680"/>
              <a:ext cx="1440" cy="76212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33720" y="3352680"/>
              <a:ext cx="1440" cy="76212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43200" y="25146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Rekonze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781680" y="4648320"/>
            <a:ext cx="2514600" cy="1313280"/>
            <a:chOff x="6781680" y="4648320"/>
            <a:chExt cx="2514600" cy="1313280"/>
          </a:xfrm>
        </p:grpSpPr>
        <p:sp>
          <p:nvSpPr>
            <p:cNvPr id="111" name=""/>
            <p:cNvSpPr/>
            <p:nvPr/>
          </p:nvSpPr>
          <p:spPr>
            <a:xfrm>
              <a:off x="6781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81680" y="518148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81680" y="4724280"/>
              <a:ext cx="304920" cy="3049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10280" y="4648320"/>
              <a:ext cx="19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ragestell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10280" y="556272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mplementier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0280" y="5105520"/>
              <a:ext cx="221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odellierungszi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Phasen und Produkte im Modellbildungsproze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867200" y="2181240"/>
            <a:ext cx="200340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86280" y="2990880"/>
            <a:ext cx="20034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5388120" y="2509920"/>
            <a:ext cx="2357280" cy="795240"/>
            <a:chOff x="5388120" y="2509920"/>
            <a:chExt cx="2357280" cy="795240"/>
          </a:xfrm>
        </p:grpSpPr>
        <p:grpSp>
          <p:nvGrpSpPr>
            <p:cNvPr id="121" name=""/>
            <p:cNvGrpSpPr/>
            <p:nvPr/>
          </p:nvGrpSpPr>
          <p:grpSpPr>
            <a:xfrm>
              <a:off x="5388120" y="2509920"/>
              <a:ext cx="2357280" cy="795240"/>
              <a:chOff x="5388120" y="2509920"/>
              <a:chExt cx="2357280" cy="79524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5765760" y="2529000"/>
                <a:ext cx="1979640" cy="776160"/>
                <a:chOff x="5765760" y="2529000"/>
                <a:chExt cx="1979640" cy="7761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765760" y="2529000"/>
                  <a:ext cx="1763640" cy="501480"/>
                </a:xfrm>
                <a:custGeom>
                  <a:avLst/>
                  <a:gdLst/>
                  <a:ahLst/>
                  <a:rect l="l" t="t" r="r" b="b"/>
                  <a:pathLst>
                    <a:path w="1111" h="316">
                      <a:moveTo>
                        <a:pt x="556" y="0"/>
                      </a:moveTo>
                      <a:lnTo>
                        <a:pt x="612" y="0"/>
                      </a:lnTo>
                      <a:lnTo>
                        <a:pt x="667" y="2"/>
                      </a:lnTo>
                      <a:lnTo>
                        <a:pt x="719" y="7"/>
                      </a:lnTo>
                      <a:lnTo>
                        <a:pt x="771" y="12"/>
                      </a:lnTo>
                      <a:lnTo>
                        <a:pt x="819" y="18"/>
                      </a:lnTo>
                      <a:lnTo>
                        <a:pt x="866" y="28"/>
                      </a:lnTo>
                      <a:lnTo>
                        <a:pt x="907" y="37"/>
                      </a:lnTo>
                      <a:lnTo>
                        <a:pt x="948" y="46"/>
                      </a:lnTo>
                      <a:lnTo>
                        <a:pt x="984" y="57"/>
                      </a:lnTo>
                      <a:lnTo>
                        <a:pt x="1016" y="69"/>
                      </a:lnTo>
                      <a:lnTo>
                        <a:pt x="1043" y="82"/>
                      </a:lnTo>
                      <a:lnTo>
                        <a:pt x="1066" y="96"/>
                      </a:lnTo>
                      <a:lnTo>
                        <a:pt x="1086" y="110"/>
                      </a:lnTo>
                      <a:lnTo>
                        <a:pt x="1100" y="126"/>
                      </a:lnTo>
                      <a:lnTo>
                        <a:pt x="1105" y="133"/>
                      </a:lnTo>
                      <a:lnTo>
                        <a:pt x="1107" y="142"/>
                      </a:lnTo>
                      <a:lnTo>
                        <a:pt x="1109" y="149"/>
                      </a:lnTo>
                      <a:lnTo>
                        <a:pt x="1111" y="158"/>
                      </a:lnTo>
                      <a:lnTo>
                        <a:pt x="1109" y="165"/>
                      </a:lnTo>
                      <a:lnTo>
                        <a:pt x="1107" y="174"/>
                      </a:lnTo>
                      <a:lnTo>
                        <a:pt x="1105" y="181"/>
                      </a:lnTo>
                      <a:lnTo>
                        <a:pt x="1100" y="190"/>
                      </a:lnTo>
                      <a:lnTo>
                        <a:pt x="1086" y="204"/>
                      </a:lnTo>
                      <a:lnTo>
                        <a:pt x="1066" y="217"/>
                      </a:lnTo>
                      <a:lnTo>
                        <a:pt x="1043" y="233"/>
                      </a:lnTo>
                      <a:lnTo>
                        <a:pt x="1016" y="245"/>
                      </a:lnTo>
                      <a:lnTo>
                        <a:pt x="984" y="256"/>
                      </a:lnTo>
                      <a:lnTo>
                        <a:pt x="948" y="268"/>
                      </a:lnTo>
                      <a:lnTo>
                        <a:pt x="907" y="279"/>
                      </a:lnTo>
                      <a:lnTo>
                        <a:pt x="866" y="288"/>
                      </a:lnTo>
                      <a:lnTo>
                        <a:pt x="819" y="295"/>
                      </a:lnTo>
                      <a:lnTo>
                        <a:pt x="771" y="302"/>
                      </a:lnTo>
                      <a:lnTo>
                        <a:pt x="719" y="306"/>
                      </a:lnTo>
                      <a:lnTo>
                        <a:pt x="667" y="311"/>
                      </a:lnTo>
                      <a:lnTo>
                        <a:pt x="612" y="313"/>
                      </a:lnTo>
                      <a:lnTo>
                        <a:pt x="556" y="316"/>
                      </a:lnTo>
                      <a:lnTo>
                        <a:pt x="499" y="313"/>
                      </a:lnTo>
                      <a:lnTo>
                        <a:pt x="445" y="311"/>
                      </a:lnTo>
                      <a:lnTo>
                        <a:pt x="390" y="306"/>
                      </a:lnTo>
                      <a:lnTo>
                        <a:pt x="340" y="302"/>
                      </a:lnTo>
                      <a:lnTo>
                        <a:pt x="290" y="295"/>
                      </a:lnTo>
                      <a:lnTo>
                        <a:pt x="245" y="288"/>
                      </a:lnTo>
                      <a:lnTo>
                        <a:pt x="202" y="279"/>
                      </a:lnTo>
                      <a:lnTo>
                        <a:pt x="163" y="268"/>
                      </a:lnTo>
                      <a:lnTo>
                        <a:pt x="127" y="256"/>
                      </a:lnTo>
                      <a:lnTo>
                        <a:pt x="95" y="245"/>
                      </a:lnTo>
                      <a:lnTo>
                        <a:pt x="68" y="233"/>
                      </a:lnTo>
                      <a:lnTo>
                        <a:pt x="43" y="217"/>
                      </a:lnTo>
                      <a:lnTo>
                        <a:pt x="25" y="204"/>
                      </a:lnTo>
                      <a:lnTo>
                        <a:pt x="11" y="190"/>
                      </a:lnTo>
                      <a:lnTo>
                        <a:pt x="7" y="181"/>
                      </a:lnTo>
                      <a:lnTo>
                        <a:pt x="2" y="174"/>
                      </a:lnTo>
                      <a:lnTo>
                        <a:pt x="0" y="165"/>
                      </a:lnTo>
                      <a:lnTo>
                        <a:pt x="0" y="158"/>
                      </a:lnTo>
                      <a:lnTo>
                        <a:pt x="0" y="149"/>
                      </a:lnTo>
                      <a:lnTo>
                        <a:pt x="2" y="142"/>
                      </a:lnTo>
                      <a:lnTo>
                        <a:pt x="7" y="133"/>
                      </a:lnTo>
                      <a:lnTo>
                        <a:pt x="11" y="126"/>
                      </a:lnTo>
                      <a:lnTo>
                        <a:pt x="25" y="110"/>
                      </a:lnTo>
                      <a:lnTo>
                        <a:pt x="43" y="96"/>
                      </a:lnTo>
                      <a:lnTo>
                        <a:pt x="68" y="82"/>
                      </a:lnTo>
                      <a:lnTo>
                        <a:pt x="95" y="69"/>
                      </a:lnTo>
                      <a:lnTo>
                        <a:pt x="127" y="57"/>
                      </a:lnTo>
                      <a:lnTo>
                        <a:pt x="163" y="46"/>
                      </a:lnTo>
                      <a:lnTo>
                        <a:pt x="202" y="37"/>
                      </a:lnTo>
                      <a:lnTo>
                        <a:pt x="245" y="28"/>
                      </a:lnTo>
                      <a:lnTo>
                        <a:pt x="290" y="18"/>
                      </a:lnTo>
                      <a:lnTo>
                        <a:pt x="340" y="12"/>
                      </a:lnTo>
                      <a:lnTo>
                        <a:pt x="390" y="7"/>
                      </a:lnTo>
                      <a:lnTo>
                        <a:pt x="445" y="2"/>
                      </a:lnTo>
                      <a:lnTo>
                        <a:pt x="499" y="0"/>
                      </a:lnTo>
                      <a:lnTo>
                        <a:pt x="55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765760" y="2529000"/>
                  <a:ext cx="1763640" cy="501480"/>
                </a:xfrm>
                <a:custGeom>
                  <a:avLst/>
                  <a:gdLst/>
                  <a:ahLst/>
                  <a:rect l="l" t="t" r="r" b="b"/>
                  <a:pathLst>
                    <a:path w="1111" h="316">
                      <a:moveTo>
                        <a:pt x="556" y="0"/>
                      </a:moveTo>
                      <a:lnTo>
                        <a:pt x="612" y="0"/>
                      </a:lnTo>
                      <a:lnTo>
                        <a:pt x="667" y="2"/>
                      </a:lnTo>
                      <a:lnTo>
                        <a:pt x="719" y="7"/>
                      </a:lnTo>
                      <a:lnTo>
                        <a:pt x="771" y="12"/>
                      </a:lnTo>
                      <a:lnTo>
                        <a:pt x="819" y="18"/>
                      </a:lnTo>
                      <a:lnTo>
                        <a:pt x="866" y="28"/>
                      </a:lnTo>
                      <a:lnTo>
                        <a:pt x="907" y="37"/>
                      </a:lnTo>
                      <a:lnTo>
                        <a:pt x="948" y="46"/>
                      </a:lnTo>
                      <a:lnTo>
                        <a:pt x="984" y="57"/>
                      </a:lnTo>
                      <a:lnTo>
                        <a:pt x="1016" y="69"/>
                      </a:lnTo>
                      <a:lnTo>
                        <a:pt x="1043" y="82"/>
                      </a:lnTo>
                      <a:lnTo>
                        <a:pt x="1066" y="96"/>
                      </a:lnTo>
                      <a:lnTo>
                        <a:pt x="1086" y="110"/>
                      </a:lnTo>
                      <a:lnTo>
                        <a:pt x="1100" y="126"/>
                      </a:lnTo>
                      <a:lnTo>
                        <a:pt x="1105" y="133"/>
                      </a:lnTo>
                      <a:lnTo>
                        <a:pt x="1107" y="142"/>
                      </a:lnTo>
                      <a:lnTo>
                        <a:pt x="1109" y="149"/>
                      </a:lnTo>
                      <a:lnTo>
                        <a:pt x="1111" y="158"/>
                      </a:lnTo>
                      <a:lnTo>
                        <a:pt x="1109" y="165"/>
                      </a:lnTo>
                      <a:lnTo>
                        <a:pt x="1107" y="174"/>
                      </a:lnTo>
                      <a:lnTo>
                        <a:pt x="1105" y="181"/>
                      </a:lnTo>
                      <a:lnTo>
                        <a:pt x="1100" y="190"/>
                      </a:lnTo>
                      <a:lnTo>
                        <a:pt x="1086" y="204"/>
                      </a:lnTo>
                      <a:lnTo>
                        <a:pt x="1066" y="217"/>
                      </a:lnTo>
                      <a:lnTo>
                        <a:pt x="1043" y="233"/>
                      </a:lnTo>
                      <a:lnTo>
                        <a:pt x="1016" y="245"/>
                      </a:lnTo>
                      <a:lnTo>
                        <a:pt x="984" y="256"/>
                      </a:lnTo>
                      <a:lnTo>
                        <a:pt x="948" y="268"/>
                      </a:lnTo>
                      <a:lnTo>
                        <a:pt x="907" y="279"/>
                      </a:lnTo>
                      <a:lnTo>
                        <a:pt x="866" y="288"/>
                      </a:lnTo>
                      <a:lnTo>
                        <a:pt x="819" y="295"/>
                      </a:lnTo>
                      <a:lnTo>
                        <a:pt x="771" y="302"/>
                      </a:lnTo>
                      <a:lnTo>
                        <a:pt x="719" y="306"/>
                      </a:lnTo>
                      <a:lnTo>
                        <a:pt x="667" y="311"/>
                      </a:lnTo>
                      <a:lnTo>
                        <a:pt x="612" y="313"/>
                      </a:lnTo>
                      <a:lnTo>
                        <a:pt x="556" y="316"/>
                      </a:lnTo>
                      <a:lnTo>
                        <a:pt x="499" y="313"/>
                      </a:lnTo>
                      <a:lnTo>
                        <a:pt x="445" y="311"/>
                      </a:lnTo>
                      <a:lnTo>
                        <a:pt x="390" y="306"/>
                      </a:lnTo>
                      <a:lnTo>
                        <a:pt x="340" y="302"/>
                      </a:lnTo>
                      <a:lnTo>
                        <a:pt x="290" y="295"/>
                      </a:lnTo>
                      <a:lnTo>
                        <a:pt x="245" y="288"/>
                      </a:lnTo>
                      <a:lnTo>
                        <a:pt x="202" y="279"/>
                      </a:lnTo>
                      <a:lnTo>
                        <a:pt x="163" y="268"/>
                      </a:lnTo>
                      <a:lnTo>
                        <a:pt x="127" y="256"/>
                      </a:lnTo>
                      <a:lnTo>
                        <a:pt x="95" y="245"/>
                      </a:lnTo>
                      <a:lnTo>
                        <a:pt x="68" y="233"/>
                      </a:lnTo>
                      <a:lnTo>
                        <a:pt x="43" y="217"/>
                      </a:lnTo>
                      <a:lnTo>
                        <a:pt x="25" y="204"/>
                      </a:lnTo>
                      <a:lnTo>
                        <a:pt x="11" y="190"/>
                      </a:lnTo>
                      <a:lnTo>
                        <a:pt x="7" y="181"/>
                      </a:lnTo>
                      <a:lnTo>
                        <a:pt x="2" y="174"/>
                      </a:lnTo>
                      <a:lnTo>
                        <a:pt x="0" y="165"/>
                      </a:lnTo>
                      <a:lnTo>
                        <a:pt x="0" y="158"/>
                      </a:lnTo>
                      <a:lnTo>
                        <a:pt x="0" y="149"/>
                      </a:lnTo>
                      <a:lnTo>
                        <a:pt x="2" y="142"/>
                      </a:lnTo>
                      <a:lnTo>
                        <a:pt x="7" y="133"/>
                      </a:lnTo>
                      <a:lnTo>
                        <a:pt x="11" y="126"/>
                      </a:lnTo>
                      <a:lnTo>
                        <a:pt x="25" y="110"/>
                      </a:lnTo>
                      <a:lnTo>
                        <a:pt x="43" y="96"/>
                      </a:lnTo>
                      <a:lnTo>
                        <a:pt x="68" y="82"/>
                      </a:lnTo>
                      <a:lnTo>
                        <a:pt x="95" y="69"/>
                      </a:lnTo>
                      <a:lnTo>
                        <a:pt x="127" y="57"/>
                      </a:lnTo>
                      <a:lnTo>
                        <a:pt x="163" y="46"/>
                      </a:lnTo>
                      <a:lnTo>
                        <a:pt x="202" y="37"/>
                      </a:lnTo>
                      <a:lnTo>
                        <a:pt x="245" y="28"/>
                      </a:lnTo>
                      <a:lnTo>
                        <a:pt x="290" y="18"/>
                      </a:lnTo>
                      <a:lnTo>
                        <a:pt x="340" y="12"/>
                      </a:lnTo>
                      <a:lnTo>
                        <a:pt x="390" y="7"/>
                      </a:lnTo>
                      <a:lnTo>
                        <a:pt x="445" y="2"/>
                      </a:lnTo>
                      <a:lnTo>
                        <a:pt x="499" y="0"/>
                      </a:lnTo>
                      <a:lnTo>
                        <a:pt x="556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896080" y="2604960"/>
                  <a:ext cx="36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896080" y="276876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07360" y="2790720"/>
                  <a:ext cx="338040" cy="43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407360" y="2790720"/>
                  <a:ext cx="338040" cy="43200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386480" y="2805120"/>
                  <a:ext cx="338400" cy="43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386480" y="2805120"/>
                  <a:ext cx="338400" cy="43164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364520" y="2819520"/>
                  <a:ext cx="338040" cy="43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364520" y="2819520"/>
                  <a:ext cx="338040" cy="43164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38960" y="2841480"/>
                  <a:ext cx="338040" cy="43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338960" y="2841480"/>
                  <a:ext cx="338040" cy="43200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321680" y="2855880"/>
                  <a:ext cx="338040" cy="43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321680" y="2855880"/>
                  <a:ext cx="338040" cy="43200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299360" y="2873520"/>
                  <a:ext cx="334800" cy="43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299360" y="2873520"/>
                  <a:ext cx="334800" cy="43164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407360" y="2890800"/>
                  <a:ext cx="13932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00" spc="-1" strike="noStrike">
                      <a:solidFill>
                        <a:srgbClr val="1f1a17"/>
                      </a:solidFill>
                      <a:latin typeface="AvantGarde Bk BT"/>
                    </a:rPr>
                    <a:t>Model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358400" y="2949480"/>
                  <a:ext cx="22788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400" spc="-1" strike="noStrike">
                      <a:solidFill>
                        <a:srgbClr val="1f1a17"/>
                      </a:solidFill>
                      <a:latin typeface="AvantGarde Bk BT"/>
                    </a:rPr>
                    <a:t>Documen-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400880" y="3008160"/>
                  <a:ext cx="13500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400" spc="-1" strike="noStrike">
                      <a:solidFill>
                        <a:srgbClr val="1f1a17"/>
                      </a:solidFill>
                      <a:latin typeface="AvantGarde Bk BT"/>
                    </a:rPr>
                    <a:t>tation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358040" y="3127320"/>
                  <a:ext cx="23760" cy="127080"/>
                </a:xfrm>
                <a:custGeom>
                  <a:avLst/>
                  <a:gdLst/>
                  <a:ahLst/>
                  <a:rect l="l" t="t" r="r" b="b"/>
                  <a:pathLst>
                    <a:path w="15" h="80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39"/>
                      </a:lnTo>
                      <a:lnTo>
                        <a:pt x="15" y="41"/>
                      </a:lnTo>
                      <a:lnTo>
                        <a:pt x="15" y="80"/>
                      </a:lnTo>
                      <a:lnTo>
                        <a:pt x="0" y="80"/>
                      </a:lnTo>
                      <a:lnTo>
                        <a:pt x="0" y="41"/>
                      </a:lnTo>
                      <a:lnTo>
                        <a:pt x="0" y="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c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358040" y="3127320"/>
                  <a:ext cx="324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364520" y="3127320"/>
                  <a:ext cx="324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372440" y="3127320"/>
                  <a:ext cx="324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381800" y="3127320"/>
                  <a:ext cx="180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1800" y="3135240"/>
                  <a:ext cx="180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381800" y="3146400"/>
                  <a:ext cx="180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381800" y="3152880"/>
                  <a:ext cx="180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381800" y="3160800"/>
                  <a:ext cx="180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81800" y="3166920"/>
                  <a:ext cx="1800" cy="50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381800" y="3178080"/>
                  <a:ext cx="180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381800" y="3186000"/>
                  <a:ext cx="180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381800" y="3192480"/>
                  <a:ext cx="180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381800" y="3200400"/>
                  <a:ext cx="180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381800" y="3211560"/>
                  <a:ext cx="180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381800" y="3218040"/>
                  <a:ext cx="180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381800" y="3225960"/>
                  <a:ext cx="1800" cy="28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381800" y="3233880"/>
                  <a:ext cx="1800" cy="28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381800" y="3243240"/>
                  <a:ext cx="180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381800" y="3251160"/>
                  <a:ext cx="180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7378200" y="3254400"/>
                  <a:ext cx="324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7372080" y="3254400"/>
                  <a:ext cx="324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>
                  <a:off x="7364160" y="3254400"/>
                  <a:ext cx="324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7357680" y="3254400"/>
                  <a:ext cx="324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V="1">
                  <a:off x="7358040" y="324756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V="1">
                  <a:off x="7358040" y="3242880"/>
                  <a:ext cx="144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7358040" y="323640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V="1">
                  <a:off x="7358040" y="3228840"/>
                  <a:ext cx="1440" cy="50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V="1">
                  <a:off x="7358040" y="322236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V="1">
                  <a:off x="7358040" y="321444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V="1">
                  <a:off x="7358040" y="321120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7358040" y="3203280"/>
                  <a:ext cx="144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V="1">
                  <a:off x="7358040" y="319680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358040" y="31892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0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7358040" y="3177720"/>
                  <a:ext cx="144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>
                  <a:off x="7358040" y="3171960"/>
                  <a:ext cx="1440" cy="28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V="1">
                  <a:off x="7358040" y="3164040"/>
                  <a:ext cx="1440" cy="28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7358040" y="315720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V="1">
                  <a:off x="7358040" y="314604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7358040" y="313812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7358040" y="313164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389720" y="3102120"/>
                  <a:ext cx="193680" cy="182520"/>
                </a:xfrm>
                <a:custGeom>
                  <a:avLst/>
                  <a:gdLst/>
                  <a:ahLst/>
                  <a:rect l="l" t="t" r="r" b="b"/>
                  <a:pathLst>
                    <a:path w="122" h="115">
                      <a:moveTo>
                        <a:pt x="59" y="16"/>
                      </a:moveTo>
                      <a:lnTo>
                        <a:pt x="0" y="16"/>
                      </a:lnTo>
                      <a:lnTo>
                        <a:pt x="0" y="115"/>
                      </a:lnTo>
                      <a:lnTo>
                        <a:pt x="52" y="115"/>
                      </a:lnTo>
                      <a:lnTo>
                        <a:pt x="52" y="112"/>
                      </a:lnTo>
                      <a:lnTo>
                        <a:pt x="122" y="112"/>
                      </a:lnTo>
                      <a:lnTo>
                        <a:pt x="122" y="62"/>
                      </a:lnTo>
                      <a:lnTo>
                        <a:pt x="97" y="62"/>
                      </a:lnTo>
                      <a:lnTo>
                        <a:pt x="97" y="0"/>
                      </a:lnTo>
                      <a:lnTo>
                        <a:pt x="59" y="0"/>
                      </a:lnTo>
                      <a:lnTo>
                        <a:pt x="59" y="16"/>
                      </a:lnTo>
                      <a:close/>
                    </a:path>
                  </a:pathLst>
                </a:custGeom>
                <a:solidFill>
                  <a:srgbClr val="de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7466040" y="3127320"/>
                  <a:ext cx="1728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>
                  <a:off x="7440120" y="3127320"/>
                  <a:ext cx="1764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>
                  <a:off x="7415280" y="3127320"/>
                  <a:ext cx="1440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>
                  <a:off x="7389720" y="3127320"/>
                  <a:ext cx="1440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389720" y="3135240"/>
                  <a:ext cx="1800" cy="176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389720" y="3164040"/>
                  <a:ext cx="1800" cy="140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389720" y="3189240"/>
                  <a:ext cx="1800" cy="144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389720" y="3214800"/>
                  <a:ext cx="1800" cy="140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389720" y="3240000"/>
                  <a:ext cx="1800" cy="190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389720" y="3265560"/>
                  <a:ext cx="1800" cy="190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396200" y="3284640"/>
                  <a:ext cx="1908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421400" y="3284640"/>
                  <a:ext cx="1908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451640" y="3284640"/>
                  <a:ext cx="1440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472520" y="3279600"/>
                  <a:ext cx="14040" cy="180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497720" y="3279600"/>
                  <a:ext cx="1440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523280" y="3279600"/>
                  <a:ext cx="1404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548480" y="3279600"/>
                  <a:ext cx="1764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574040" y="3273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V="1">
                  <a:off x="7583400" y="3247560"/>
                  <a:ext cx="1800" cy="176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7583400" y="3222720"/>
                  <a:ext cx="1800" cy="172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580160" y="320040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2" y="7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>
                  <a:off x="7554600" y="3200400"/>
                  <a:ext cx="1908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543800" y="3186000"/>
                  <a:ext cx="1440" cy="14400"/>
                </a:xfrm>
                <a:custGeom>
                  <a:avLst/>
                  <a:gdLst/>
                  <a:ahLst/>
                  <a:rect l="l" t="t" r="r" b="b"/>
                  <a:pathLst>
                    <a:path w="0" h="9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7543800" y="3157560"/>
                  <a:ext cx="1440" cy="172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V="1">
                  <a:off x="7543800" y="3131640"/>
                  <a:ext cx="1440" cy="176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V="1">
                  <a:off x="7543800" y="3106800"/>
                  <a:ext cx="1440" cy="144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7523280" y="3102120"/>
                  <a:ext cx="1728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7497360" y="3102120"/>
                  <a:ext cx="1764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483320" y="3102120"/>
                  <a:ext cx="3240" cy="1080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483320" y="3121200"/>
                  <a:ext cx="1800" cy="612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396200" y="3132000"/>
                  <a:ext cx="58680" cy="57240"/>
                </a:xfrm>
                <a:prstGeom prst="rect">
                  <a:avLst/>
                </a:prstGeom>
                <a:solidFill>
                  <a:srgbClr val="c2c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396200" y="3132000"/>
                  <a:ext cx="58680" cy="5724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494480" y="3106800"/>
                  <a:ext cx="46080" cy="50760"/>
                </a:xfrm>
                <a:prstGeom prst="rect">
                  <a:avLst/>
                </a:prstGeom>
                <a:solidFill>
                  <a:srgbClr val="c2c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494480" y="3106800"/>
                  <a:ext cx="46080" cy="5076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396200" y="3214800"/>
                  <a:ext cx="58680" cy="58680"/>
                </a:xfrm>
                <a:prstGeom prst="rect">
                  <a:avLst/>
                </a:prstGeom>
                <a:solidFill>
                  <a:srgbClr val="c2c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396200" y="3214800"/>
                  <a:ext cx="58680" cy="5868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508880" y="3203640"/>
                  <a:ext cx="46080" cy="69840"/>
                </a:xfrm>
                <a:prstGeom prst="rect">
                  <a:avLst/>
                </a:prstGeom>
                <a:solidFill>
                  <a:srgbClr val="c2c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508880" y="3203640"/>
                  <a:ext cx="46080" cy="6984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440480" y="317808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440480" y="317808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372440" y="317808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372440" y="317808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72440" y="3240000"/>
                  <a:ext cx="9360" cy="792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72440" y="3240000"/>
                  <a:ext cx="9360" cy="792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569360" y="325440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69360" y="325440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529400" y="314964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529400" y="314964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440480" y="326232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440480" y="326232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540560" y="3259080"/>
                  <a:ext cx="11160" cy="97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540560" y="3259080"/>
                  <a:ext cx="11160" cy="97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440480" y="3157560"/>
                  <a:ext cx="11160" cy="936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0" y="6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440480" y="3157560"/>
                  <a:ext cx="11160" cy="936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0" y="6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372440" y="3141720"/>
                  <a:ext cx="9360" cy="792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372440" y="3141720"/>
                  <a:ext cx="9360" cy="792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372440" y="321480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372440" y="321480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569360" y="3228840"/>
                  <a:ext cx="1080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5" y="3"/>
                      </a:moveTo>
                      <a:lnTo>
                        <a:pt x="5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569360" y="3228840"/>
                  <a:ext cx="1080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5" y="3"/>
                      </a:moveTo>
                      <a:lnTo>
                        <a:pt x="5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5" y="3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529400" y="312732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3"/>
                      </a:moveTo>
                      <a:lnTo>
                        <a:pt x="3" y="3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529400" y="312732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3"/>
                      </a:moveTo>
                      <a:lnTo>
                        <a:pt x="3" y="3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3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440480" y="323676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440480" y="323676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540560" y="323676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540560" y="323676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440480" y="316692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440480" y="316692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372440" y="3166920"/>
                  <a:ext cx="9360" cy="792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372440" y="3166920"/>
                  <a:ext cx="9360" cy="792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372440" y="322596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72440" y="322596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569360" y="324324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569360" y="324324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529400" y="313848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529400" y="313848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440480" y="325116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440480" y="325116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540560" y="324792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540560" y="324792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440480" y="314640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440480" y="314640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372440" y="312732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372440" y="312732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372440" y="320364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372440" y="320364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69360" y="32180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5" y="3"/>
                      </a:moveTo>
                      <a:lnTo>
                        <a:pt x="5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569360" y="32180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5" y="3"/>
                      </a:moveTo>
                      <a:lnTo>
                        <a:pt x="5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5" y="3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440480" y="3225960"/>
                  <a:ext cx="11160" cy="10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7440480" y="3225960"/>
                  <a:ext cx="11160" cy="10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7540560" y="322596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540560" y="322596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540560" y="321480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540560" y="321480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V="1">
                  <a:off x="7454880" y="3131640"/>
                  <a:ext cx="34920" cy="3204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54880" y="3174840"/>
                  <a:ext cx="54000" cy="6516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7454880" y="3247560"/>
                  <a:ext cx="50760" cy="324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520040" y="3157560"/>
                  <a:ext cx="20520" cy="4284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537320" y="3157560"/>
                  <a:ext cx="32040" cy="6048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451640" y="3164040"/>
                  <a:ext cx="114480" cy="6984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7551720" y="3259080"/>
                  <a:ext cx="17640" cy="648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V="1">
                  <a:off x="7381800" y="3174480"/>
                  <a:ext cx="14400" cy="324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381800" y="3141720"/>
                  <a:ext cx="11160" cy="468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381800" y="3228840"/>
                  <a:ext cx="14400" cy="792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394400" y="3130560"/>
                  <a:ext cx="388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Objek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394400" y="3214800"/>
                  <a:ext cx="388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Objek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491240" y="3110040"/>
                  <a:ext cx="388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Objek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505280" y="3203640"/>
                  <a:ext cx="388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Objek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rot="3060000">
                  <a:off x="7466040" y="3175920"/>
                  <a:ext cx="540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I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rot="3060000">
                  <a:off x="7466040" y="3181680"/>
                  <a:ext cx="82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rot="3060000">
                  <a:off x="7470360" y="3184560"/>
                  <a:ext cx="540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rot="3060000">
                  <a:off x="7472520" y="3189600"/>
                  <a:ext cx="82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rot="3060000">
                  <a:off x="7476840" y="3192480"/>
                  <a:ext cx="540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rot="3060000">
                  <a:off x="7476120" y="3195720"/>
                  <a:ext cx="684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rot="3060000">
                  <a:off x="7484040" y="3204000"/>
                  <a:ext cx="684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k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3060000">
                  <a:off x="7488000" y="3206520"/>
                  <a:ext cx="540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3060000">
                  <a:off x="7487640" y="3204360"/>
                  <a:ext cx="360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i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3060000">
                  <a:off x="7486920" y="3210120"/>
                  <a:ext cx="82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3060000">
                  <a:off x="7494840" y="3214800"/>
                  <a:ext cx="82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401960" y="3106800"/>
                  <a:ext cx="8316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Systemgrenz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512120" y="3243240"/>
                  <a:ext cx="25200" cy="792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512120" y="3251160"/>
                  <a:ext cx="25200" cy="324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512120" y="3259080"/>
                  <a:ext cx="25200" cy="324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497720" y="3146400"/>
                  <a:ext cx="25560" cy="324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497720" y="3138480"/>
                  <a:ext cx="25560" cy="324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400880" y="3259080"/>
                  <a:ext cx="28800" cy="648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400880" y="3251160"/>
                  <a:ext cx="28800" cy="324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400880" y="3182760"/>
                  <a:ext cx="28800" cy="324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400880" y="3171960"/>
                  <a:ext cx="28800" cy="612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400880" y="3164040"/>
                  <a:ext cx="28800" cy="288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646040" y="3171960"/>
                  <a:ext cx="5400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“</a:t>
                  </a: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Umwelt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635600" y="3189240"/>
                  <a:ext cx="4176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" spc="-1" strike="noStrike">
                      <a:solidFill>
                        <a:srgbClr val="1f1a17"/>
                      </a:solidFill>
                      <a:latin typeface="AvantGarde Bk BT"/>
                    </a:rPr>
                    <a:t>objekt“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448760" y="3076560"/>
                  <a:ext cx="10296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“</a:t>
                  </a: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Hauptobjekt” m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450200" y="3087720"/>
                  <a:ext cx="982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Modellattribu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5388120" y="2509920"/>
                <a:ext cx="436320" cy="452520"/>
              </a:xfrm>
              <a:custGeom>
                <a:avLst/>
                <a:gdLst/>
                <a:ahLst/>
                <a:rect l="l" t="t" r="r" b="b"/>
                <a:pathLst>
                  <a:path w="275" h="285">
                    <a:moveTo>
                      <a:pt x="206" y="0"/>
                    </a:moveTo>
                    <a:lnTo>
                      <a:pt x="206" y="71"/>
                    </a:lnTo>
                    <a:lnTo>
                      <a:pt x="0" y="71"/>
                    </a:lnTo>
                    <a:lnTo>
                      <a:pt x="0" y="214"/>
                    </a:lnTo>
                    <a:lnTo>
                      <a:pt x="206" y="214"/>
                    </a:lnTo>
                    <a:lnTo>
                      <a:pt x="206" y="285"/>
                    </a:lnTo>
                    <a:lnTo>
                      <a:pt x="275" y="142"/>
                    </a:lnTo>
                    <a:lnTo>
                      <a:pt x="206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978520" y="2522520"/>
              <a:ext cx="1442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Konzeptionell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ode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388120" y="1641600"/>
            <a:ext cx="2433600" cy="814320"/>
            <a:chOff x="5388120" y="1641600"/>
            <a:chExt cx="2433600" cy="814320"/>
          </a:xfrm>
        </p:grpSpPr>
        <p:grpSp>
          <p:nvGrpSpPr>
            <p:cNvPr id="321" name=""/>
            <p:cNvGrpSpPr/>
            <p:nvPr/>
          </p:nvGrpSpPr>
          <p:grpSpPr>
            <a:xfrm>
              <a:off x="5388120" y="1641600"/>
              <a:ext cx="2433600" cy="814320"/>
              <a:chOff x="5388120" y="1641600"/>
              <a:chExt cx="2433600" cy="81432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5765760" y="1641600"/>
                <a:ext cx="2055960" cy="814320"/>
                <a:chOff x="5765760" y="1641600"/>
                <a:chExt cx="2055960" cy="8143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5765760" y="1641600"/>
                  <a:ext cx="1760400" cy="563400"/>
                </a:xfrm>
                <a:custGeom>
                  <a:avLst/>
                  <a:gdLst/>
                  <a:ahLst/>
                  <a:rect l="l" t="t" r="r" b="b"/>
                  <a:pathLst>
                    <a:path w="1109" h="355">
                      <a:moveTo>
                        <a:pt x="555" y="0"/>
                      </a:moveTo>
                      <a:lnTo>
                        <a:pt x="611" y="0"/>
                      </a:lnTo>
                      <a:lnTo>
                        <a:pt x="666" y="4"/>
                      </a:lnTo>
                      <a:lnTo>
                        <a:pt x="720" y="7"/>
                      </a:lnTo>
                      <a:lnTo>
                        <a:pt x="770" y="13"/>
                      </a:lnTo>
                      <a:lnTo>
                        <a:pt x="820" y="20"/>
                      </a:lnTo>
                      <a:lnTo>
                        <a:pt x="865" y="29"/>
                      </a:lnTo>
                      <a:lnTo>
                        <a:pt x="908" y="41"/>
                      </a:lnTo>
                      <a:lnTo>
                        <a:pt x="946" y="52"/>
                      </a:lnTo>
                      <a:lnTo>
                        <a:pt x="983" y="64"/>
                      </a:lnTo>
                      <a:lnTo>
                        <a:pt x="1014" y="77"/>
                      </a:lnTo>
                      <a:lnTo>
                        <a:pt x="1041" y="93"/>
                      </a:lnTo>
                      <a:lnTo>
                        <a:pt x="1066" y="109"/>
                      </a:lnTo>
                      <a:lnTo>
                        <a:pt x="1084" y="125"/>
                      </a:lnTo>
                      <a:lnTo>
                        <a:pt x="1098" y="141"/>
                      </a:lnTo>
                      <a:lnTo>
                        <a:pt x="1103" y="150"/>
                      </a:lnTo>
                      <a:lnTo>
                        <a:pt x="1107" y="159"/>
                      </a:lnTo>
                      <a:lnTo>
                        <a:pt x="1109" y="168"/>
                      </a:lnTo>
                      <a:lnTo>
                        <a:pt x="1109" y="178"/>
                      </a:lnTo>
                      <a:lnTo>
                        <a:pt x="1109" y="187"/>
                      </a:lnTo>
                      <a:lnTo>
                        <a:pt x="1107" y="196"/>
                      </a:lnTo>
                      <a:lnTo>
                        <a:pt x="1103" y="205"/>
                      </a:lnTo>
                      <a:lnTo>
                        <a:pt x="1098" y="212"/>
                      </a:lnTo>
                      <a:lnTo>
                        <a:pt x="1084" y="230"/>
                      </a:lnTo>
                      <a:lnTo>
                        <a:pt x="1066" y="246"/>
                      </a:lnTo>
                      <a:lnTo>
                        <a:pt x="1041" y="262"/>
                      </a:lnTo>
                      <a:lnTo>
                        <a:pt x="1014" y="276"/>
                      </a:lnTo>
                      <a:lnTo>
                        <a:pt x="983" y="289"/>
                      </a:lnTo>
                      <a:lnTo>
                        <a:pt x="946" y="303"/>
                      </a:lnTo>
                      <a:lnTo>
                        <a:pt x="908" y="314"/>
                      </a:lnTo>
                      <a:lnTo>
                        <a:pt x="865" y="324"/>
                      </a:lnTo>
                      <a:lnTo>
                        <a:pt x="820" y="333"/>
                      </a:lnTo>
                      <a:lnTo>
                        <a:pt x="770" y="340"/>
                      </a:lnTo>
                      <a:lnTo>
                        <a:pt x="720" y="346"/>
                      </a:lnTo>
                      <a:lnTo>
                        <a:pt x="666" y="351"/>
                      </a:lnTo>
                      <a:lnTo>
                        <a:pt x="611" y="353"/>
                      </a:lnTo>
                      <a:lnTo>
                        <a:pt x="555" y="355"/>
                      </a:lnTo>
                      <a:lnTo>
                        <a:pt x="498" y="353"/>
                      </a:lnTo>
                      <a:lnTo>
                        <a:pt x="444" y="351"/>
                      </a:lnTo>
                      <a:lnTo>
                        <a:pt x="389" y="346"/>
                      </a:lnTo>
                      <a:lnTo>
                        <a:pt x="339" y="340"/>
                      </a:lnTo>
                      <a:lnTo>
                        <a:pt x="290" y="333"/>
                      </a:lnTo>
                      <a:lnTo>
                        <a:pt x="244" y="324"/>
                      </a:lnTo>
                      <a:lnTo>
                        <a:pt x="201" y="314"/>
                      </a:lnTo>
                      <a:lnTo>
                        <a:pt x="163" y="303"/>
                      </a:lnTo>
                      <a:lnTo>
                        <a:pt x="127" y="289"/>
                      </a:lnTo>
                      <a:lnTo>
                        <a:pt x="95" y="276"/>
                      </a:lnTo>
                      <a:lnTo>
                        <a:pt x="68" y="262"/>
                      </a:lnTo>
                      <a:lnTo>
                        <a:pt x="43" y="246"/>
                      </a:lnTo>
                      <a:lnTo>
                        <a:pt x="25" y="230"/>
                      </a:lnTo>
                      <a:lnTo>
                        <a:pt x="11" y="212"/>
                      </a:lnTo>
                      <a:lnTo>
                        <a:pt x="7" y="205"/>
                      </a:lnTo>
                      <a:lnTo>
                        <a:pt x="2" y="196"/>
                      </a:lnTo>
                      <a:lnTo>
                        <a:pt x="0" y="187"/>
                      </a:lnTo>
                      <a:lnTo>
                        <a:pt x="0" y="178"/>
                      </a:lnTo>
                      <a:lnTo>
                        <a:pt x="0" y="168"/>
                      </a:lnTo>
                      <a:lnTo>
                        <a:pt x="2" y="159"/>
                      </a:lnTo>
                      <a:lnTo>
                        <a:pt x="7" y="150"/>
                      </a:lnTo>
                      <a:lnTo>
                        <a:pt x="11" y="141"/>
                      </a:lnTo>
                      <a:lnTo>
                        <a:pt x="25" y="125"/>
                      </a:lnTo>
                      <a:lnTo>
                        <a:pt x="43" y="109"/>
                      </a:lnTo>
                      <a:lnTo>
                        <a:pt x="68" y="93"/>
                      </a:lnTo>
                      <a:lnTo>
                        <a:pt x="95" y="77"/>
                      </a:lnTo>
                      <a:lnTo>
                        <a:pt x="127" y="64"/>
                      </a:lnTo>
                      <a:lnTo>
                        <a:pt x="163" y="52"/>
                      </a:lnTo>
                      <a:lnTo>
                        <a:pt x="201" y="41"/>
                      </a:lnTo>
                      <a:lnTo>
                        <a:pt x="244" y="29"/>
                      </a:lnTo>
                      <a:lnTo>
                        <a:pt x="290" y="20"/>
                      </a:lnTo>
                      <a:lnTo>
                        <a:pt x="339" y="13"/>
                      </a:lnTo>
                      <a:lnTo>
                        <a:pt x="389" y="7"/>
                      </a:lnTo>
                      <a:lnTo>
                        <a:pt x="444" y="4"/>
                      </a:lnTo>
                      <a:lnTo>
                        <a:pt x="498" y="0"/>
                      </a:lnTo>
                      <a:lnTo>
                        <a:pt x="55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5765760" y="1641600"/>
                  <a:ext cx="1760400" cy="563400"/>
                </a:xfrm>
                <a:custGeom>
                  <a:avLst/>
                  <a:gdLst/>
                  <a:ahLst/>
                  <a:rect l="l" t="t" r="r" b="b"/>
                  <a:pathLst>
                    <a:path w="1109" h="355">
                      <a:moveTo>
                        <a:pt x="555" y="0"/>
                      </a:moveTo>
                      <a:lnTo>
                        <a:pt x="611" y="0"/>
                      </a:lnTo>
                      <a:lnTo>
                        <a:pt x="666" y="4"/>
                      </a:lnTo>
                      <a:lnTo>
                        <a:pt x="720" y="7"/>
                      </a:lnTo>
                      <a:lnTo>
                        <a:pt x="770" y="13"/>
                      </a:lnTo>
                      <a:lnTo>
                        <a:pt x="820" y="20"/>
                      </a:lnTo>
                      <a:lnTo>
                        <a:pt x="865" y="29"/>
                      </a:lnTo>
                      <a:lnTo>
                        <a:pt x="908" y="41"/>
                      </a:lnTo>
                      <a:lnTo>
                        <a:pt x="946" y="52"/>
                      </a:lnTo>
                      <a:lnTo>
                        <a:pt x="983" y="64"/>
                      </a:lnTo>
                      <a:lnTo>
                        <a:pt x="1014" y="77"/>
                      </a:lnTo>
                      <a:lnTo>
                        <a:pt x="1041" y="93"/>
                      </a:lnTo>
                      <a:lnTo>
                        <a:pt x="1066" y="109"/>
                      </a:lnTo>
                      <a:lnTo>
                        <a:pt x="1084" y="125"/>
                      </a:lnTo>
                      <a:lnTo>
                        <a:pt x="1098" y="141"/>
                      </a:lnTo>
                      <a:lnTo>
                        <a:pt x="1103" y="150"/>
                      </a:lnTo>
                      <a:lnTo>
                        <a:pt x="1107" y="159"/>
                      </a:lnTo>
                      <a:lnTo>
                        <a:pt x="1109" y="168"/>
                      </a:lnTo>
                      <a:lnTo>
                        <a:pt x="1109" y="178"/>
                      </a:lnTo>
                      <a:lnTo>
                        <a:pt x="1109" y="187"/>
                      </a:lnTo>
                      <a:lnTo>
                        <a:pt x="1107" y="196"/>
                      </a:lnTo>
                      <a:lnTo>
                        <a:pt x="1103" y="205"/>
                      </a:lnTo>
                      <a:lnTo>
                        <a:pt x="1098" y="212"/>
                      </a:lnTo>
                      <a:lnTo>
                        <a:pt x="1084" y="230"/>
                      </a:lnTo>
                      <a:lnTo>
                        <a:pt x="1066" y="246"/>
                      </a:lnTo>
                      <a:lnTo>
                        <a:pt x="1041" y="262"/>
                      </a:lnTo>
                      <a:lnTo>
                        <a:pt x="1014" y="276"/>
                      </a:lnTo>
                      <a:lnTo>
                        <a:pt x="983" y="289"/>
                      </a:lnTo>
                      <a:lnTo>
                        <a:pt x="946" y="303"/>
                      </a:lnTo>
                      <a:lnTo>
                        <a:pt x="908" y="314"/>
                      </a:lnTo>
                      <a:lnTo>
                        <a:pt x="865" y="324"/>
                      </a:lnTo>
                      <a:lnTo>
                        <a:pt x="820" y="333"/>
                      </a:lnTo>
                      <a:lnTo>
                        <a:pt x="770" y="340"/>
                      </a:lnTo>
                      <a:lnTo>
                        <a:pt x="720" y="346"/>
                      </a:lnTo>
                      <a:lnTo>
                        <a:pt x="666" y="351"/>
                      </a:lnTo>
                      <a:lnTo>
                        <a:pt x="611" y="353"/>
                      </a:lnTo>
                      <a:lnTo>
                        <a:pt x="555" y="355"/>
                      </a:lnTo>
                      <a:lnTo>
                        <a:pt x="498" y="353"/>
                      </a:lnTo>
                      <a:lnTo>
                        <a:pt x="444" y="351"/>
                      </a:lnTo>
                      <a:lnTo>
                        <a:pt x="389" y="346"/>
                      </a:lnTo>
                      <a:lnTo>
                        <a:pt x="339" y="340"/>
                      </a:lnTo>
                      <a:lnTo>
                        <a:pt x="290" y="333"/>
                      </a:lnTo>
                      <a:lnTo>
                        <a:pt x="244" y="324"/>
                      </a:lnTo>
                      <a:lnTo>
                        <a:pt x="201" y="314"/>
                      </a:lnTo>
                      <a:lnTo>
                        <a:pt x="163" y="303"/>
                      </a:lnTo>
                      <a:lnTo>
                        <a:pt x="127" y="289"/>
                      </a:lnTo>
                      <a:lnTo>
                        <a:pt x="95" y="276"/>
                      </a:lnTo>
                      <a:lnTo>
                        <a:pt x="68" y="262"/>
                      </a:lnTo>
                      <a:lnTo>
                        <a:pt x="43" y="246"/>
                      </a:lnTo>
                      <a:lnTo>
                        <a:pt x="25" y="230"/>
                      </a:lnTo>
                      <a:lnTo>
                        <a:pt x="11" y="212"/>
                      </a:lnTo>
                      <a:lnTo>
                        <a:pt x="7" y="205"/>
                      </a:lnTo>
                      <a:lnTo>
                        <a:pt x="2" y="196"/>
                      </a:lnTo>
                      <a:lnTo>
                        <a:pt x="0" y="187"/>
                      </a:lnTo>
                      <a:lnTo>
                        <a:pt x="0" y="178"/>
                      </a:lnTo>
                      <a:lnTo>
                        <a:pt x="0" y="168"/>
                      </a:lnTo>
                      <a:lnTo>
                        <a:pt x="2" y="159"/>
                      </a:lnTo>
                      <a:lnTo>
                        <a:pt x="7" y="150"/>
                      </a:lnTo>
                      <a:lnTo>
                        <a:pt x="11" y="141"/>
                      </a:lnTo>
                      <a:lnTo>
                        <a:pt x="25" y="125"/>
                      </a:lnTo>
                      <a:lnTo>
                        <a:pt x="43" y="109"/>
                      </a:lnTo>
                      <a:lnTo>
                        <a:pt x="68" y="93"/>
                      </a:lnTo>
                      <a:lnTo>
                        <a:pt x="95" y="77"/>
                      </a:lnTo>
                      <a:lnTo>
                        <a:pt x="127" y="64"/>
                      </a:lnTo>
                      <a:lnTo>
                        <a:pt x="163" y="52"/>
                      </a:lnTo>
                      <a:lnTo>
                        <a:pt x="201" y="41"/>
                      </a:lnTo>
                      <a:lnTo>
                        <a:pt x="244" y="29"/>
                      </a:lnTo>
                      <a:lnTo>
                        <a:pt x="290" y="20"/>
                      </a:lnTo>
                      <a:lnTo>
                        <a:pt x="339" y="13"/>
                      </a:lnTo>
                      <a:lnTo>
                        <a:pt x="389" y="7"/>
                      </a:lnTo>
                      <a:lnTo>
                        <a:pt x="444" y="4"/>
                      </a:lnTo>
                      <a:lnTo>
                        <a:pt x="498" y="0"/>
                      </a:lnTo>
                      <a:lnTo>
                        <a:pt x="555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335280" y="1644840"/>
                  <a:ext cx="435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300" spc="-1" strike="noStrike">
                      <a:solidFill>
                        <a:srgbClr val="1f1a17"/>
                      </a:solidFill>
                      <a:latin typeface="AvantGarde Bk BT"/>
                    </a:rPr>
                    <a:t> 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039000" y="180360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981760" y="1967040"/>
                  <a:ext cx="252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1f1a17"/>
                      </a:solidFill>
                      <a:latin typeface="AvantGarde Bk BT"/>
                    </a:rPr>
                    <a:t>,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294600" y="207324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454880" y="1949400"/>
                  <a:ext cx="366840" cy="470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454880" y="1949400"/>
                  <a:ext cx="366840" cy="47016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434360" y="1967040"/>
                  <a:ext cx="366480" cy="466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434360" y="1967040"/>
                  <a:ext cx="366480" cy="46656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412040" y="1989000"/>
                  <a:ext cx="366840" cy="466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412040" y="1989000"/>
                  <a:ext cx="366840" cy="46692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513200" y="2103480"/>
                  <a:ext cx="1562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400" spc="-1" strike="noStrike">
                      <a:solidFill>
                        <a:srgbClr val="1f1a17"/>
                      </a:solidFill>
                      <a:latin typeface="AvantGarde Bk BT"/>
                    </a:rPr>
                    <a:t>Projec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477560" y="2165400"/>
                  <a:ext cx="2264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400" spc="-1" strike="noStrike">
                      <a:solidFill>
                        <a:srgbClr val="1f1a17"/>
                      </a:solidFill>
                      <a:latin typeface="AvantGarde Bk BT"/>
                    </a:rPr>
                    <a:t>Objectives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>
                <a:off x="5388120" y="1712880"/>
                <a:ext cx="436320" cy="452520"/>
              </a:xfrm>
              <a:custGeom>
                <a:avLst/>
                <a:gdLst/>
                <a:ahLst/>
                <a:rect l="l" t="t" r="r" b="b"/>
                <a:pathLst>
                  <a:path w="275" h="285">
                    <a:moveTo>
                      <a:pt x="206" y="0"/>
                    </a:moveTo>
                    <a:lnTo>
                      <a:pt x="206" y="71"/>
                    </a:lnTo>
                    <a:lnTo>
                      <a:pt x="0" y="71"/>
                    </a:lnTo>
                    <a:lnTo>
                      <a:pt x="0" y="214"/>
                    </a:lnTo>
                    <a:lnTo>
                      <a:pt x="206" y="214"/>
                    </a:lnTo>
                    <a:lnTo>
                      <a:pt x="206" y="285"/>
                    </a:lnTo>
                    <a:lnTo>
                      <a:pt x="275" y="142"/>
                    </a:lnTo>
                    <a:lnTo>
                      <a:pt x="206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5978520" y="1665360"/>
              <a:ext cx="1424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Strukturierte </a:t>
              </a:r>
              <a:br>
                <a:rPr sz="1300"/>
              </a:b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Problembeschr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4876920" y="3809880"/>
            <a:ext cx="2003400" cy="3049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4876920" y="4648320"/>
            <a:ext cx="2003400" cy="304560"/>
          </a:xfrm>
          <a:prstGeom prst="rect">
            <a:avLst/>
          </a:prstGeom>
          <a:ln w="0">
            <a:noFill/>
          </a:ln>
        </p:spPr>
      </p:pic>
      <p:grpSp>
        <p:nvGrpSpPr>
          <p:cNvPr id="341" name=""/>
          <p:cNvGrpSpPr/>
          <p:nvPr/>
        </p:nvGrpSpPr>
        <p:grpSpPr>
          <a:xfrm>
            <a:off x="5388120" y="3324240"/>
            <a:ext cx="2651040" cy="747720"/>
            <a:chOff x="5388120" y="3324240"/>
            <a:chExt cx="2651040" cy="747720"/>
          </a:xfrm>
        </p:grpSpPr>
        <p:grpSp>
          <p:nvGrpSpPr>
            <p:cNvPr id="342" name=""/>
            <p:cNvGrpSpPr/>
            <p:nvPr/>
          </p:nvGrpSpPr>
          <p:grpSpPr>
            <a:xfrm>
              <a:off x="5388120" y="3324240"/>
              <a:ext cx="2651040" cy="747720"/>
              <a:chOff x="5388120" y="3324240"/>
              <a:chExt cx="2651040" cy="74772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5765760" y="3341520"/>
                <a:ext cx="2273400" cy="730440"/>
                <a:chOff x="5765760" y="3341520"/>
                <a:chExt cx="2273400" cy="73044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765760" y="3341520"/>
                  <a:ext cx="1765440" cy="501840"/>
                </a:xfrm>
                <a:custGeom>
                  <a:avLst/>
                  <a:gdLst/>
                  <a:ahLst/>
                  <a:rect l="l" t="t" r="r" b="b"/>
                  <a:pathLst>
                    <a:path w="1112" h="316">
                      <a:moveTo>
                        <a:pt x="556" y="0"/>
                      </a:moveTo>
                      <a:lnTo>
                        <a:pt x="613" y="0"/>
                      </a:lnTo>
                      <a:lnTo>
                        <a:pt x="667" y="2"/>
                      </a:lnTo>
                      <a:lnTo>
                        <a:pt x="722" y="7"/>
                      </a:lnTo>
                      <a:lnTo>
                        <a:pt x="771" y="12"/>
                      </a:lnTo>
                      <a:lnTo>
                        <a:pt x="819" y="18"/>
                      </a:lnTo>
                      <a:lnTo>
                        <a:pt x="867" y="28"/>
                      </a:lnTo>
                      <a:lnTo>
                        <a:pt x="908" y="37"/>
                      </a:lnTo>
                      <a:lnTo>
                        <a:pt x="948" y="46"/>
                      </a:lnTo>
                      <a:lnTo>
                        <a:pt x="985" y="57"/>
                      </a:lnTo>
                      <a:lnTo>
                        <a:pt x="1016" y="71"/>
                      </a:lnTo>
                      <a:lnTo>
                        <a:pt x="1044" y="82"/>
                      </a:lnTo>
                      <a:lnTo>
                        <a:pt x="1066" y="96"/>
                      </a:lnTo>
                      <a:lnTo>
                        <a:pt x="1087" y="112"/>
                      </a:lnTo>
                      <a:lnTo>
                        <a:pt x="1100" y="126"/>
                      </a:lnTo>
                      <a:lnTo>
                        <a:pt x="1105" y="135"/>
                      </a:lnTo>
                      <a:lnTo>
                        <a:pt x="1107" y="142"/>
                      </a:lnTo>
                      <a:lnTo>
                        <a:pt x="1109" y="151"/>
                      </a:lnTo>
                      <a:lnTo>
                        <a:pt x="1112" y="158"/>
                      </a:lnTo>
                      <a:lnTo>
                        <a:pt x="1109" y="167"/>
                      </a:lnTo>
                      <a:lnTo>
                        <a:pt x="1107" y="174"/>
                      </a:lnTo>
                      <a:lnTo>
                        <a:pt x="1105" y="183"/>
                      </a:lnTo>
                      <a:lnTo>
                        <a:pt x="1100" y="190"/>
                      </a:lnTo>
                      <a:lnTo>
                        <a:pt x="1087" y="206"/>
                      </a:lnTo>
                      <a:lnTo>
                        <a:pt x="1066" y="220"/>
                      </a:lnTo>
                      <a:lnTo>
                        <a:pt x="1044" y="233"/>
                      </a:lnTo>
                      <a:lnTo>
                        <a:pt x="1016" y="247"/>
                      </a:lnTo>
                      <a:lnTo>
                        <a:pt x="985" y="258"/>
                      </a:lnTo>
                      <a:lnTo>
                        <a:pt x="948" y="270"/>
                      </a:lnTo>
                      <a:lnTo>
                        <a:pt x="908" y="281"/>
                      </a:lnTo>
                      <a:lnTo>
                        <a:pt x="867" y="290"/>
                      </a:lnTo>
                      <a:lnTo>
                        <a:pt x="819" y="297"/>
                      </a:lnTo>
                      <a:lnTo>
                        <a:pt x="771" y="304"/>
                      </a:lnTo>
                      <a:lnTo>
                        <a:pt x="722" y="309"/>
                      </a:lnTo>
                      <a:lnTo>
                        <a:pt x="667" y="313"/>
                      </a:lnTo>
                      <a:lnTo>
                        <a:pt x="613" y="316"/>
                      </a:lnTo>
                      <a:lnTo>
                        <a:pt x="556" y="316"/>
                      </a:lnTo>
                      <a:lnTo>
                        <a:pt x="499" y="316"/>
                      </a:lnTo>
                      <a:lnTo>
                        <a:pt x="445" y="313"/>
                      </a:lnTo>
                      <a:lnTo>
                        <a:pt x="390" y="309"/>
                      </a:lnTo>
                      <a:lnTo>
                        <a:pt x="340" y="304"/>
                      </a:lnTo>
                      <a:lnTo>
                        <a:pt x="291" y="297"/>
                      </a:lnTo>
                      <a:lnTo>
                        <a:pt x="245" y="290"/>
                      </a:lnTo>
                      <a:lnTo>
                        <a:pt x="202" y="281"/>
                      </a:lnTo>
                      <a:lnTo>
                        <a:pt x="164" y="270"/>
                      </a:lnTo>
                      <a:lnTo>
                        <a:pt x="127" y="258"/>
                      </a:lnTo>
                      <a:lnTo>
                        <a:pt x="95" y="247"/>
                      </a:lnTo>
                      <a:lnTo>
                        <a:pt x="68" y="233"/>
                      </a:lnTo>
                      <a:lnTo>
                        <a:pt x="43" y="220"/>
                      </a:lnTo>
                      <a:lnTo>
                        <a:pt x="25" y="206"/>
                      </a:lnTo>
                      <a:lnTo>
                        <a:pt x="12" y="190"/>
                      </a:lnTo>
                      <a:lnTo>
                        <a:pt x="7" y="183"/>
                      </a:lnTo>
                      <a:lnTo>
                        <a:pt x="2" y="174"/>
                      </a:lnTo>
                      <a:lnTo>
                        <a:pt x="0" y="167"/>
                      </a:lnTo>
                      <a:lnTo>
                        <a:pt x="0" y="158"/>
                      </a:lnTo>
                      <a:lnTo>
                        <a:pt x="0" y="151"/>
                      </a:lnTo>
                      <a:lnTo>
                        <a:pt x="2" y="142"/>
                      </a:lnTo>
                      <a:lnTo>
                        <a:pt x="7" y="135"/>
                      </a:lnTo>
                      <a:lnTo>
                        <a:pt x="12" y="126"/>
                      </a:lnTo>
                      <a:lnTo>
                        <a:pt x="25" y="112"/>
                      </a:lnTo>
                      <a:lnTo>
                        <a:pt x="43" y="96"/>
                      </a:lnTo>
                      <a:lnTo>
                        <a:pt x="68" y="82"/>
                      </a:lnTo>
                      <a:lnTo>
                        <a:pt x="95" y="71"/>
                      </a:lnTo>
                      <a:lnTo>
                        <a:pt x="127" y="57"/>
                      </a:lnTo>
                      <a:lnTo>
                        <a:pt x="164" y="46"/>
                      </a:lnTo>
                      <a:lnTo>
                        <a:pt x="202" y="37"/>
                      </a:lnTo>
                      <a:lnTo>
                        <a:pt x="245" y="28"/>
                      </a:lnTo>
                      <a:lnTo>
                        <a:pt x="291" y="18"/>
                      </a:lnTo>
                      <a:lnTo>
                        <a:pt x="340" y="12"/>
                      </a:lnTo>
                      <a:lnTo>
                        <a:pt x="390" y="7"/>
                      </a:lnTo>
                      <a:lnTo>
                        <a:pt x="445" y="2"/>
                      </a:lnTo>
                      <a:lnTo>
                        <a:pt x="499" y="0"/>
                      </a:lnTo>
                      <a:lnTo>
                        <a:pt x="55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765760" y="3341520"/>
                  <a:ext cx="1765440" cy="501840"/>
                </a:xfrm>
                <a:custGeom>
                  <a:avLst/>
                  <a:gdLst/>
                  <a:ahLst/>
                  <a:rect l="l" t="t" r="r" b="b"/>
                  <a:pathLst>
                    <a:path w="1112" h="316">
                      <a:moveTo>
                        <a:pt x="556" y="0"/>
                      </a:moveTo>
                      <a:lnTo>
                        <a:pt x="613" y="0"/>
                      </a:lnTo>
                      <a:lnTo>
                        <a:pt x="667" y="2"/>
                      </a:lnTo>
                      <a:lnTo>
                        <a:pt x="722" y="7"/>
                      </a:lnTo>
                      <a:lnTo>
                        <a:pt x="771" y="12"/>
                      </a:lnTo>
                      <a:lnTo>
                        <a:pt x="819" y="18"/>
                      </a:lnTo>
                      <a:lnTo>
                        <a:pt x="867" y="28"/>
                      </a:lnTo>
                      <a:lnTo>
                        <a:pt x="908" y="37"/>
                      </a:lnTo>
                      <a:lnTo>
                        <a:pt x="948" y="46"/>
                      </a:lnTo>
                      <a:lnTo>
                        <a:pt x="985" y="57"/>
                      </a:lnTo>
                      <a:lnTo>
                        <a:pt x="1016" y="71"/>
                      </a:lnTo>
                      <a:lnTo>
                        <a:pt x="1044" y="82"/>
                      </a:lnTo>
                      <a:lnTo>
                        <a:pt x="1066" y="96"/>
                      </a:lnTo>
                      <a:lnTo>
                        <a:pt x="1087" y="112"/>
                      </a:lnTo>
                      <a:lnTo>
                        <a:pt x="1100" y="126"/>
                      </a:lnTo>
                      <a:lnTo>
                        <a:pt x="1105" y="135"/>
                      </a:lnTo>
                      <a:lnTo>
                        <a:pt x="1107" y="142"/>
                      </a:lnTo>
                      <a:lnTo>
                        <a:pt x="1109" y="151"/>
                      </a:lnTo>
                      <a:lnTo>
                        <a:pt x="1112" y="158"/>
                      </a:lnTo>
                      <a:lnTo>
                        <a:pt x="1109" y="167"/>
                      </a:lnTo>
                      <a:lnTo>
                        <a:pt x="1107" y="174"/>
                      </a:lnTo>
                      <a:lnTo>
                        <a:pt x="1105" y="183"/>
                      </a:lnTo>
                      <a:lnTo>
                        <a:pt x="1100" y="190"/>
                      </a:lnTo>
                      <a:lnTo>
                        <a:pt x="1087" y="206"/>
                      </a:lnTo>
                      <a:lnTo>
                        <a:pt x="1066" y="220"/>
                      </a:lnTo>
                      <a:lnTo>
                        <a:pt x="1044" y="233"/>
                      </a:lnTo>
                      <a:lnTo>
                        <a:pt x="1016" y="247"/>
                      </a:lnTo>
                      <a:lnTo>
                        <a:pt x="985" y="258"/>
                      </a:lnTo>
                      <a:lnTo>
                        <a:pt x="948" y="270"/>
                      </a:lnTo>
                      <a:lnTo>
                        <a:pt x="908" y="281"/>
                      </a:lnTo>
                      <a:lnTo>
                        <a:pt x="867" y="290"/>
                      </a:lnTo>
                      <a:lnTo>
                        <a:pt x="819" y="297"/>
                      </a:lnTo>
                      <a:lnTo>
                        <a:pt x="771" y="304"/>
                      </a:lnTo>
                      <a:lnTo>
                        <a:pt x="722" y="309"/>
                      </a:lnTo>
                      <a:lnTo>
                        <a:pt x="667" y="313"/>
                      </a:lnTo>
                      <a:lnTo>
                        <a:pt x="613" y="316"/>
                      </a:lnTo>
                      <a:lnTo>
                        <a:pt x="556" y="316"/>
                      </a:lnTo>
                      <a:lnTo>
                        <a:pt x="499" y="316"/>
                      </a:lnTo>
                      <a:lnTo>
                        <a:pt x="445" y="313"/>
                      </a:lnTo>
                      <a:lnTo>
                        <a:pt x="390" y="309"/>
                      </a:lnTo>
                      <a:lnTo>
                        <a:pt x="340" y="304"/>
                      </a:lnTo>
                      <a:lnTo>
                        <a:pt x="291" y="297"/>
                      </a:lnTo>
                      <a:lnTo>
                        <a:pt x="245" y="290"/>
                      </a:lnTo>
                      <a:lnTo>
                        <a:pt x="202" y="281"/>
                      </a:lnTo>
                      <a:lnTo>
                        <a:pt x="164" y="270"/>
                      </a:lnTo>
                      <a:lnTo>
                        <a:pt x="127" y="258"/>
                      </a:lnTo>
                      <a:lnTo>
                        <a:pt x="95" y="247"/>
                      </a:lnTo>
                      <a:lnTo>
                        <a:pt x="68" y="233"/>
                      </a:lnTo>
                      <a:lnTo>
                        <a:pt x="43" y="220"/>
                      </a:lnTo>
                      <a:lnTo>
                        <a:pt x="25" y="206"/>
                      </a:lnTo>
                      <a:lnTo>
                        <a:pt x="12" y="190"/>
                      </a:lnTo>
                      <a:lnTo>
                        <a:pt x="7" y="183"/>
                      </a:lnTo>
                      <a:lnTo>
                        <a:pt x="2" y="174"/>
                      </a:lnTo>
                      <a:lnTo>
                        <a:pt x="0" y="167"/>
                      </a:lnTo>
                      <a:lnTo>
                        <a:pt x="0" y="158"/>
                      </a:lnTo>
                      <a:lnTo>
                        <a:pt x="0" y="151"/>
                      </a:lnTo>
                      <a:lnTo>
                        <a:pt x="2" y="142"/>
                      </a:lnTo>
                      <a:lnTo>
                        <a:pt x="7" y="135"/>
                      </a:lnTo>
                      <a:lnTo>
                        <a:pt x="12" y="126"/>
                      </a:lnTo>
                      <a:lnTo>
                        <a:pt x="25" y="112"/>
                      </a:lnTo>
                      <a:lnTo>
                        <a:pt x="43" y="96"/>
                      </a:lnTo>
                      <a:lnTo>
                        <a:pt x="68" y="82"/>
                      </a:lnTo>
                      <a:lnTo>
                        <a:pt x="95" y="71"/>
                      </a:lnTo>
                      <a:lnTo>
                        <a:pt x="127" y="57"/>
                      </a:lnTo>
                      <a:lnTo>
                        <a:pt x="164" y="46"/>
                      </a:lnTo>
                      <a:lnTo>
                        <a:pt x="202" y="37"/>
                      </a:lnTo>
                      <a:lnTo>
                        <a:pt x="245" y="28"/>
                      </a:lnTo>
                      <a:lnTo>
                        <a:pt x="291" y="18"/>
                      </a:lnTo>
                      <a:lnTo>
                        <a:pt x="340" y="12"/>
                      </a:lnTo>
                      <a:lnTo>
                        <a:pt x="390" y="7"/>
                      </a:lnTo>
                      <a:lnTo>
                        <a:pt x="445" y="2"/>
                      </a:lnTo>
                      <a:lnTo>
                        <a:pt x="499" y="0"/>
                      </a:lnTo>
                      <a:lnTo>
                        <a:pt x="556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026040" y="346248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026040" y="362124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230960" y="3817800"/>
                  <a:ext cx="39960" cy="39960"/>
                </a:xfrm>
                <a:custGeom>
                  <a:avLst/>
                  <a:gdLst/>
                  <a:ahLst/>
                  <a:rect l="l" t="t" r="r" b="b"/>
                  <a:pathLst>
                    <a:path w="25" h="25">
                      <a:moveTo>
                        <a:pt x="14" y="0"/>
                      </a:move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1" y="2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5" y="9"/>
                      </a:lnTo>
                      <a:lnTo>
                        <a:pt x="25" y="11"/>
                      </a:lnTo>
                      <a:lnTo>
                        <a:pt x="25" y="13"/>
                      </a:lnTo>
                      <a:lnTo>
                        <a:pt x="25" y="16"/>
                      </a:lnTo>
                      <a:lnTo>
                        <a:pt x="25" y="18"/>
                      </a:lnTo>
                      <a:lnTo>
                        <a:pt x="23" y="20"/>
                      </a:lnTo>
                      <a:lnTo>
                        <a:pt x="23" y="22"/>
                      </a:lnTo>
                      <a:lnTo>
                        <a:pt x="21" y="22"/>
                      </a:lnTo>
                      <a:lnTo>
                        <a:pt x="19" y="25"/>
                      </a:lnTo>
                      <a:lnTo>
                        <a:pt x="16" y="25"/>
                      </a:lnTo>
                      <a:lnTo>
                        <a:pt x="14" y="25"/>
                      </a:lnTo>
                      <a:lnTo>
                        <a:pt x="12" y="25"/>
                      </a:lnTo>
                      <a:lnTo>
                        <a:pt x="7" y="25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3" y="6"/>
                      </a:lnTo>
                      <a:lnTo>
                        <a:pt x="5" y="4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497720" y="382752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10"/>
                      </a:lnTo>
                      <a:lnTo>
                        <a:pt x="12" y="10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9" y="12"/>
                      </a:lnTo>
                      <a:lnTo>
                        <a:pt x="9" y="12"/>
                      </a:lnTo>
                      <a:lnTo>
                        <a:pt x="7" y="14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7497720" y="382752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10"/>
                      </a:lnTo>
                      <a:lnTo>
                        <a:pt x="12" y="10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9" y="12"/>
                      </a:lnTo>
                      <a:lnTo>
                        <a:pt x="9" y="12"/>
                      </a:lnTo>
                      <a:lnTo>
                        <a:pt x="7" y="14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7486560" y="3817800"/>
                  <a:ext cx="44640" cy="39960"/>
                </a:xfrm>
                <a:custGeom>
                  <a:avLst/>
                  <a:gdLst/>
                  <a:ahLst/>
                  <a:rect l="l" t="t" r="r" b="b"/>
                  <a:pathLst>
                    <a:path w="28" h="25">
                      <a:moveTo>
                        <a:pt x="14" y="0"/>
                      </a:move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1" y="2"/>
                      </a:lnTo>
                      <a:lnTo>
                        <a:pt x="23" y="4"/>
                      </a:lnTo>
                      <a:lnTo>
                        <a:pt x="25" y="6"/>
                      </a:lnTo>
                      <a:lnTo>
                        <a:pt x="25" y="9"/>
                      </a:lnTo>
                      <a:lnTo>
                        <a:pt x="28" y="11"/>
                      </a:lnTo>
                      <a:lnTo>
                        <a:pt x="28" y="13"/>
                      </a:lnTo>
                      <a:lnTo>
                        <a:pt x="28" y="16"/>
                      </a:lnTo>
                      <a:lnTo>
                        <a:pt x="25" y="18"/>
                      </a:lnTo>
                      <a:lnTo>
                        <a:pt x="25" y="20"/>
                      </a:lnTo>
                      <a:lnTo>
                        <a:pt x="23" y="22"/>
                      </a:lnTo>
                      <a:lnTo>
                        <a:pt x="21" y="22"/>
                      </a:lnTo>
                      <a:lnTo>
                        <a:pt x="19" y="25"/>
                      </a:lnTo>
                      <a:lnTo>
                        <a:pt x="16" y="25"/>
                      </a:lnTo>
                      <a:lnTo>
                        <a:pt x="14" y="25"/>
                      </a:lnTo>
                      <a:lnTo>
                        <a:pt x="12" y="25"/>
                      </a:lnTo>
                      <a:lnTo>
                        <a:pt x="10" y="25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3" y="18"/>
                      </a:lnTo>
                      <a:lnTo>
                        <a:pt x="0" y="16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3" y="9"/>
                      </a:lnTo>
                      <a:lnTo>
                        <a:pt x="3" y="6"/>
                      </a:lnTo>
                      <a:lnTo>
                        <a:pt x="5" y="4"/>
                      </a:lnTo>
                      <a:lnTo>
                        <a:pt x="7" y="2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743960" y="3817800"/>
                  <a:ext cx="37800" cy="3996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11" y="0"/>
                      </a:moveTo>
                      <a:lnTo>
                        <a:pt x="15" y="0"/>
                      </a:lnTo>
                      <a:lnTo>
                        <a:pt x="18" y="0"/>
                      </a:lnTo>
                      <a:lnTo>
                        <a:pt x="20" y="2"/>
                      </a:lnTo>
                      <a:lnTo>
                        <a:pt x="22" y="4"/>
                      </a:lnTo>
                      <a:lnTo>
                        <a:pt x="22" y="6"/>
                      </a:lnTo>
                      <a:lnTo>
                        <a:pt x="24" y="9"/>
                      </a:lnTo>
                      <a:lnTo>
                        <a:pt x="24" y="11"/>
                      </a:lnTo>
                      <a:lnTo>
                        <a:pt x="24" y="13"/>
                      </a:lnTo>
                      <a:lnTo>
                        <a:pt x="24" y="16"/>
                      </a:lnTo>
                      <a:lnTo>
                        <a:pt x="24" y="18"/>
                      </a:lnTo>
                      <a:lnTo>
                        <a:pt x="22" y="20"/>
                      </a:lnTo>
                      <a:lnTo>
                        <a:pt x="22" y="22"/>
                      </a:lnTo>
                      <a:lnTo>
                        <a:pt x="20" y="22"/>
                      </a:lnTo>
                      <a:lnTo>
                        <a:pt x="18" y="25"/>
                      </a:lnTo>
                      <a:lnTo>
                        <a:pt x="15" y="25"/>
                      </a:lnTo>
                      <a:lnTo>
                        <a:pt x="11" y="25"/>
                      </a:lnTo>
                      <a:lnTo>
                        <a:pt x="9" y="25"/>
                      </a:lnTo>
                      <a:lnTo>
                        <a:pt x="6" y="25"/>
                      </a:lnTo>
                      <a:lnTo>
                        <a:pt x="4" y="22"/>
                      </a:lnTo>
                      <a:lnTo>
                        <a:pt x="2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999560" y="3817800"/>
                  <a:ext cx="39600" cy="39960"/>
                </a:xfrm>
                <a:custGeom>
                  <a:avLst/>
                  <a:gdLst/>
                  <a:ahLst/>
                  <a:rect l="l" t="t" r="r" b="b"/>
                  <a:pathLst>
                    <a:path w="25" h="25">
                      <a:moveTo>
                        <a:pt x="11" y="0"/>
                      </a:moveTo>
                      <a:lnTo>
                        <a:pt x="13" y="0"/>
                      </a:lnTo>
                      <a:lnTo>
                        <a:pt x="18" y="0"/>
                      </a:lnTo>
                      <a:lnTo>
                        <a:pt x="20" y="2"/>
                      </a:lnTo>
                      <a:lnTo>
                        <a:pt x="20" y="4"/>
                      </a:lnTo>
                      <a:lnTo>
                        <a:pt x="22" y="6"/>
                      </a:lnTo>
                      <a:lnTo>
                        <a:pt x="25" y="9"/>
                      </a:lnTo>
                      <a:lnTo>
                        <a:pt x="25" y="11"/>
                      </a:lnTo>
                      <a:lnTo>
                        <a:pt x="25" y="13"/>
                      </a:lnTo>
                      <a:lnTo>
                        <a:pt x="25" y="16"/>
                      </a:lnTo>
                      <a:lnTo>
                        <a:pt x="25" y="18"/>
                      </a:lnTo>
                      <a:lnTo>
                        <a:pt x="22" y="20"/>
                      </a:lnTo>
                      <a:lnTo>
                        <a:pt x="20" y="22"/>
                      </a:lnTo>
                      <a:lnTo>
                        <a:pt x="20" y="22"/>
                      </a:lnTo>
                      <a:lnTo>
                        <a:pt x="18" y="25"/>
                      </a:lnTo>
                      <a:lnTo>
                        <a:pt x="13" y="25"/>
                      </a:lnTo>
                      <a:lnTo>
                        <a:pt x="11" y="25"/>
                      </a:lnTo>
                      <a:lnTo>
                        <a:pt x="9" y="25"/>
                      </a:lnTo>
                      <a:lnTo>
                        <a:pt x="6" y="25"/>
                      </a:lnTo>
                      <a:lnTo>
                        <a:pt x="4" y="22"/>
                      </a:lnTo>
                      <a:lnTo>
                        <a:pt x="2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261200" y="3657600"/>
                  <a:ext cx="752400" cy="149400"/>
                </a:xfrm>
                <a:custGeom>
                  <a:avLst/>
                  <a:gdLst/>
                  <a:ahLst/>
                  <a:rect l="l" t="t" r="r" b="b"/>
                  <a:pathLst>
                    <a:path w="474" h="94">
                      <a:moveTo>
                        <a:pt x="474" y="94"/>
                      </a:moveTo>
                      <a:lnTo>
                        <a:pt x="471" y="87"/>
                      </a:lnTo>
                      <a:lnTo>
                        <a:pt x="469" y="78"/>
                      </a:lnTo>
                      <a:lnTo>
                        <a:pt x="462" y="69"/>
                      </a:lnTo>
                      <a:lnTo>
                        <a:pt x="455" y="62"/>
                      </a:lnTo>
                      <a:lnTo>
                        <a:pt x="446" y="53"/>
                      </a:lnTo>
                      <a:lnTo>
                        <a:pt x="435" y="46"/>
                      </a:lnTo>
                      <a:lnTo>
                        <a:pt x="421" y="39"/>
                      </a:lnTo>
                      <a:lnTo>
                        <a:pt x="408" y="32"/>
                      </a:lnTo>
                      <a:lnTo>
                        <a:pt x="374" y="21"/>
                      </a:lnTo>
                      <a:lnTo>
                        <a:pt x="335" y="11"/>
                      </a:lnTo>
                      <a:lnTo>
                        <a:pt x="292" y="5"/>
                      </a:lnTo>
                      <a:lnTo>
                        <a:pt x="247" y="0"/>
                      </a:lnTo>
                      <a:lnTo>
                        <a:pt x="199" y="0"/>
                      </a:lnTo>
                      <a:lnTo>
                        <a:pt x="154" y="2"/>
                      </a:lnTo>
                      <a:lnTo>
                        <a:pt x="113" y="7"/>
                      </a:lnTo>
                      <a:lnTo>
                        <a:pt x="77" y="16"/>
                      </a:lnTo>
                      <a:lnTo>
                        <a:pt x="61" y="21"/>
                      </a:lnTo>
                      <a:lnTo>
                        <a:pt x="45" y="27"/>
                      </a:lnTo>
                      <a:lnTo>
                        <a:pt x="34" y="32"/>
                      </a:lnTo>
                      <a:lnTo>
                        <a:pt x="22" y="39"/>
                      </a:lnTo>
                      <a:lnTo>
                        <a:pt x="13" y="48"/>
                      </a:lnTo>
                      <a:lnTo>
                        <a:pt x="6" y="55"/>
                      </a:lnTo>
                      <a:lnTo>
                        <a:pt x="2" y="64"/>
                      </a:lnTo>
                      <a:lnTo>
                        <a:pt x="0" y="71"/>
                      </a:lnTo>
                    </a:path>
                  </a:pathLst>
                </a:cu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221600" y="3759120"/>
                  <a:ext cx="79200" cy="79560"/>
                </a:xfrm>
                <a:custGeom>
                  <a:avLst/>
                  <a:gdLst/>
                  <a:ahLst/>
                  <a:rect l="l" t="t" r="r" b="b"/>
                  <a:pathLst>
                    <a:path w="50" h="50">
                      <a:moveTo>
                        <a:pt x="50" y="7"/>
                      </a:moveTo>
                      <a:lnTo>
                        <a:pt x="20" y="50"/>
                      </a:lnTo>
                      <a:lnTo>
                        <a:pt x="0" y="0"/>
                      </a:lnTo>
                      <a:lnTo>
                        <a:pt x="50" y="7"/>
                      </a:lnTo>
                      <a:lnTo>
                        <a:pt x="20" y="50"/>
                      </a:lnTo>
                      <a:lnTo>
                        <a:pt x="50" y="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761240" y="3871800"/>
                  <a:ext cx="252360" cy="130320"/>
                </a:xfrm>
                <a:custGeom>
                  <a:avLst/>
                  <a:gdLst/>
                  <a:ahLst/>
                  <a:rect l="l" t="t" r="r" b="b"/>
                  <a:pathLst>
                    <a:path w="159" h="82">
                      <a:moveTo>
                        <a:pt x="159" y="0"/>
                      </a:moveTo>
                      <a:lnTo>
                        <a:pt x="159" y="14"/>
                      </a:lnTo>
                      <a:lnTo>
                        <a:pt x="154" y="27"/>
                      </a:lnTo>
                      <a:lnTo>
                        <a:pt x="147" y="41"/>
                      </a:lnTo>
                      <a:lnTo>
                        <a:pt x="138" y="52"/>
                      </a:lnTo>
                      <a:lnTo>
                        <a:pt x="127" y="64"/>
                      </a:lnTo>
                      <a:lnTo>
                        <a:pt x="113" y="73"/>
                      </a:lnTo>
                      <a:lnTo>
                        <a:pt x="100" y="78"/>
                      </a:lnTo>
                      <a:lnTo>
                        <a:pt x="84" y="82"/>
                      </a:lnTo>
                      <a:lnTo>
                        <a:pt x="68" y="82"/>
                      </a:lnTo>
                      <a:lnTo>
                        <a:pt x="52" y="80"/>
                      </a:lnTo>
                      <a:lnTo>
                        <a:pt x="38" y="75"/>
                      </a:lnTo>
                      <a:lnTo>
                        <a:pt x="27" y="68"/>
                      </a:lnTo>
                      <a:lnTo>
                        <a:pt x="16" y="59"/>
                      </a:lnTo>
                      <a:lnTo>
                        <a:pt x="9" y="48"/>
                      </a:lnTo>
                      <a:lnTo>
                        <a:pt x="2" y="34"/>
                      </a:lnTo>
                      <a:lnTo>
                        <a:pt x="0" y="18"/>
                      </a:lnTo>
                    </a:path>
                  </a:pathLst>
                </a:cu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724880" y="3835440"/>
                  <a:ext cx="79200" cy="73080"/>
                </a:xfrm>
                <a:custGeom>
                  <a:avLst/>
                  <a:gdLst/>
                  <a:ahLst/>
                  <a:rect l="l" t="t" r="r" b="b"/>
                  <a:pathLst>
                    <a:path w="50" h="46">
                      <a:moveTo>
                        <a:pt x="0" y="46"/>
                      </a:moveTo>
                      <a:lnTo>
                        <a:pt x="23" y="0"/>
                      </a:lnTo>
                      <a:lnTo>
                        <a:pt x="50" y="43"/>
                      </a:lnTo>
                      <a:lnTo>
                        <a:pt x="0" y="46"/>
                      </a:lnTo>
                      <a:lnTo>
                        <a:pt x="23" y="0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386480" y="3773520"/>
                  <a:ext cx="1800" cy="127080"/>
                </a:xfrm>
                <a:prstGeom prst="line">
                  <a:avLst/>
                </a:prstGeom>
                <a:ln w="792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634160" y="3773520"/>
                  <a:ext cx="1800" cy="130320"/>
                </a:xfrm>
                <a:prstGeom prst="line">
                  <a:avLst/>
                </a:prstGeom>
                <a:ln w="792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891560" y="3776760"/>
                  <a:ext cx="1440" cy="127080"/>
                </a:xfrm>
                <a:prstGeom prst="line">
                  <a:avLst/>
                </a:prstGeom>
                <a:ln w="792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599240" y="3592440"/>
                  <a:ext cx="1800" cy="130320"/>
                </a:xfrm>
                <a:prstGeom prst="line">
                  <a:avLst/>
                </a:prstGeom>
                <a:ln w="792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880400" y="3940200"/>
                  <a:ext cx="1440" cy="131760"/>
                </a:xfrm>
                <a:prstGeom prst="line">
                  <a:avLst/>
                </a:prstGeom>
                <a:ln w="792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281720" y="3838680"/>
                  <a:ext cx="20484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415280" y="3798720"/>
                  <a:ext cx="71280" cy="79560"/>
                </a:xfrm>
                <a:custGeom>
                  <a:avLst/>
                  <a:gdLst/>
                  <a:ahLst/>
                  <a:rect l="l" t="t" r="r" b="b"/>
                  <a:pathLst>
                    <a:path w="45" h="50">
                      <a:moveTo>
                        <a:pt x="0" y="0"/>
                      </a:moveTo>
                      <a:lnTo>
                        <a:pt x="45" y="25"/>
                      </a:lnTo>
                      <a:lnTo>
                        <a:pt x="0" y="50"/>
                      </a:lnTo>
                      <a:lnTo>
                        <a:pt x="0" y="0"/>
                      </a:lnTo>
                      <a:lnTo>
                        <a:pt x="45" y="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531200" y="3838680"/>
                  <a:ext cx="20484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664400" y="3798720"/>
                  <a:ext cx="71640" cy="79560"/>
                </a:xfrm>
                <a:custGeom>
                  <a:avLst/>
                  <a:gdLst/>
                  <a:ahLst/>
                  <a:rect l="l" t="t" r="r" b="b"/>
                  <a:pathLst>
                    <a:path w="45" h="50">
                      <a:moveTo>
                        <a:pt x="0" y="0"/>
                      </a:moveTo>
                      <a:lnTo>
                        <a:pt x="45" y="25"/>
                      </a:lnTo>
                      <a:lnTo>
                        <a:pt x="0" y="50"/>
                      </a:lnTo>
                      <a:lnTo>
                        <a:pt x="0" y="0"/>
                      </a:lnTo>
                      <a:lnTo>
                        <a:pt x="45" y="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790040" y="3838680"/>
                  <a:ext cx="20448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923240" y="3801960"/>
                  <a:ext cx="71280" cy="76320"/>
                </a:xfrm>
                <a:custGeom>
                  <a:avLst/>
                  <a:gdLst/>
                  <a:ahLst/>
                  <a:rect l="l" t="t" r="r" b="b"/>
                  <a:pathLst>
                    <a:path w="45" h="48">
                      <a:moveTo>
                        <a:pt x="0" y="0"/>
                      </a:moveTo>
                      <a:lnTo>
                        <a:pt x="45" y="23"/>
                      </a:lnTo>
                      <a:lnTo>
                        <a:pt x="0" y="48"/>
                      </a:lnTo>
                      <a:lnTo>
                        <a:pt x="0" y="0"/>
                      </a:lnTo>
                      <a:lnTo>
                        <a:pt x="45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9" name=""/>
              <p:cNvSpPr/>
              <p:nvPr/>
            </p:nvSpPr>
            <p:spPr>
              <a:xfrm>
                <a:off x="5388120" y="3324240"/>
                <a:ext cx="436320" cy="453960"/>
              </a:xfrm>
              <a:custGeom>
                <a:avLst/>
                <a:gdLst/>
                <a:ahLst/>
                <a:rect l="l" t="t" r="r" b="b"/>
                <a:pathLst>
                  <a:path w="275" h="286">
                    <a:moveTo>
                      <a:pt x="206" y="0"/>
                    </a:moveTo>
                    <a:lnTo>
                      <a:pt x="206" y="71"/>
                    </a:lnTo>
                    <a:lnTo>
                      <a:pt x="0" y="71"/>
                    </a:lnTo>
                    <a:lnTo>
                      <a:pt x="0" y="214"/>
                    </a:lnTo>
                    <a:lnTo>
                      <a:pt x="206" y="214"/>
                    </a:lnTo>
                    <a:lnTo>
                      <a:pt x="206" y="286"/>
                    </a:lnTo>
                    <a:lnTo>
                      <a:pt x="275" y="143"/>
                    </a:lnTo>
                    <a:lnTo>
                      <a:pt x="206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6202440" y="3360600"/>
              <a:ext cx="912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333cc"/>
                  </a:solidFill>
                  <a:latin typeface="Arial"/>
                </a:rPr>
                <a:t>Formal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333cc"/>
                  </a:solidFill>
                  <a:latin typeface="Arial"/>
                </a:rPr>
                <a:t>Mode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388120" y="4140360"/>
            <a:ext cx="2519280" cy="823680"/>
            <a:chOff x="5388120" y="4140360"/>
            <a:chExt cx="2519280" cy="823680"/>
          </a:xfrm>
        </p:grpSpPr>
        <p:grpSp>
          <p:nvGrpSpPr>
            <p:cNvPr id="372" name=""/>
            <p:cNvGrpSpPr/>
            <p:nvPr/>
          </p:nvGrpSpPr>
          <p:grpSpPr>
            <a:xfrm>
              <a:off x="5388120" y="4140360"/>
              <a:ext cx="2519280" cy="823680"/>
              <a:chOff x="5388120" y="4140360"/>
              <a:chExt cx="2519280" cy="82368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5765760" y="4159080"/>
                <a:ext cx="2141640" cy="804960"/>
                <a:chOff x="5765760" y="4159080"/>
                <a:chExt cx="2141640" cy="804960"/>
              </a:xfrm>
            </p:grpSpPr>
            <p:grpSp>
              <p:nvGrpSpPr>
                <p:cNvPr id="374" name=""/>
                <p:cNvGrpSpPr/>
                <p:nvPr/>
              </p:nvGrpSpPr>
              <p:grpSpPr>
                <a:xfrm>
                  <a:off x="5765760" y="4159080"/>
                  <a:ext cx="2141640" cy="804960"/>
                  <a:chOff x="5765760" y="4159080"/>
                  <a:chExt cx="2141640" cy="80496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5765760" y="4159080"/>
                    <a:ext cx="1763640" cy="5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1" h="324">
                        <a:moveTo>
                          <a:pt x="556" y="0"/>
                        </a:moveTo>
                        <a:lnTo>
                          <a:pt x="612" y="0"/>
                        </a:lnTo>
                        <a:lnTo>
                          <a:pt x="667" y="2"/>
                        </a:lnTo>
                        <a:lnTo>
                          <a:pt x="721" y="7"/>
                        </a:lnTo>
                        <a:lnTo>
                          <a:pt x="771" y="14"/>
                        </a:lnTo>
                        <a:lnTo>
                          <a:pt x="821" y="21"/>
                        </a:lnTo>
                        <a:lnTo>
                          <a:pt x="866" y="27"/>
                        </a:lnTo>
                        <a:lnTo>
                          <a:pt x="910" y="37"/>
                        </a:lnTo>
                        <a:lnTo>
                          <a:pt x="948" y="48"/>
                        </a:lnTo>
                        <a:lnTo>
                          <a:pt x="984" y="59"/>
                        </a:lnTo>
                        <a:lnTo>
                          <a:pt x="1016" y="71"/>
                        </a:lnTo>
                        <a:lnTo>
                          <a:pt x="1043" y="84"/>
                        </a:lnTo>
                        <a:lnTo>
                          <a:pt x="1068" y="98"/>
                        </a:lnTo>
                        <a:lnTo>
                          <a:pt x="1086" y="114"/>
                        </a:lnTo>
                        <a:lnTo>
                          <a:pt x="1100" y="130"/>
                        </a:lnTo>
                        <a:lnTo>
                          <a:pt x="1105" y="137"/>
                        </a:lnTo>
                        <a:lnTo>
                          <a:pt x="1109" y="146"/>
                        </a:lnTo>
                        <a:lnTo>
                          <a:pt x="1111" y="153"/>
                        </a:lnTo>
                        <a:lnTo>
                          <a:pt x="1111" y="162"/>
                        </a:lnTo>
                        <a:lnTo>
                          <a:pt x="1111" y="169"/>
                        </a:lnTo>
                        <a:lnTo>
                          <a:pt x="1109" y="178"/>
                        </a:lnTo>
                        <a:lnTo>
                          <a:pt x="1105" y="187"/>
                        </a:lnTo>
                        <a:lnTo>
                          <a:pt x="1100" y="194"/>
                        </a:lnTo>
                        <a:lnTo>
                          <a:pt x="1086" y="210"/>
                        </a:lnTo>
                        <a:lnTo>
                          <a:pt x="1068" y="224"/>
                        </a:lnTo>
                        <a:lnTo>
                          <a:pt x="1043" y="240"/>
                        </a:lnTo>
                        <a:lnTo>
                          <a:pt x="1016" y="251"/>
                        </a:lnTo>
                        <a:lnTo>
                          <a:pt x="984" y="265"/>
                        </a:lnTo>
                        <a:lnTo>
                          <a:pt x="948" y="276"/>
                        </a:lnTo>
                        <a:lnTo>
                          <a:pt x="910" y="285"/>
                        </a:lnTo>
                        <a:lnTo>
                          <a:pt x="866" y="297"/>
                        </a:lnTo>
                        <a:lnTo>
                          <a:pt x="821" y="303"/>
                        </a:lnTo>
                        <a:lnTo>
                          <a:pt x="771" y="310"/>
                        </a:lnTo>
                        <a:lnTo>
                          <a:pt x="721" y="317"/>
                        </a:lnTo>
                        <a:lnTo>
                          <a:pt x="667" y="319"/>
                        </a:lnTo>
                        <a:lnTo>
                          <a:pt x="612" y="322"/>
                        </a:lnTo>
                        <a:lnTo>
                          <a:pt x="556" y="324"/>
                        </a:lnTo>
                        <a:lnTo>
                          <a:pt x="499" y="322"/>
                        </a:lnTo>
                        <a:lnTo>
                          <a:pt x="445" y="319"/>
                        </a:lnTo>
                        <a:lnTo>
                          <a:pt x="390" y="317"/>
                        </a:lnTo>
                        <a:lnTo>
                          <a:pt x="340" y="310"/>
                        </a:lnTo>
                        <a:lnTo>
                          <a:pt x="290" y="303"/>
                        </a:lnTo>
                        <a:lnTo>
                          <a:pt x="245" y="297"/>
                        </a:lnTo>
                        <a:lnTo>
                          <a:pt x="202" y="285"/>
                        </a:lnTo>
                        <a:lnTo>
                          <a:pt x="163" y="276"/>
                        </a:lnTo>
                        <a:lnTo>
                          <a:pt x="127" y="265"/>
                        </a:lnTo>
                        <a:lnTo>
                          <a:pt x="95" y="251"/>
                        </a:lnTo>
                        <a:lnTo>
                          <a:pt x="68" y="240"/>
                        </a:lnTo>
                        <a:lnTo>
                          <a:pt x="43" y="224"/>
                        </a:lnTo>
                        <a:lnTo>
                          <a:pt x="25" y="210"/>
                        </a:lnTo>
                        <a:lnTo>
                          <a:pt x="11" y="194"/>
                        </a:lnTo>
                        <a:lnTo>
                          <a:pt x="7" y="187"/>
                        </a:lnTo>
                        <a:lnTo>
                          <a:pt x="2" y="178"/>
                        </a:lnTo>
                        <a:lnTo>
                          <a:pt x="0" y="169"/>
                        </a:lnTo>
                        <a:lnTo>
                          <a:pt x="0" y="162"/>
                        </a:lnTo>
                        <a:lnTo>
                          <a:pt x="0" y="153"/>
                        </a:lnTo>
                        <a:lnTo>
                          <a:pt x="2" y="146"/>
                        </a:lnTo>
                        <a:lnTo>
                          <a:pt x="7" y="137"/>
                        </a:lnTo>
                        <a:lnTo>
                          <a:pt x="11" y="130"/>
                        </a:lnTo>
                        <a:lnTo>
                          <a:pt x="25" y="114"/>
                        </a:lnTo>
                        <a:lnTo>
                          <a:pt x="43" y="98"/>
                        </a:lnTo>
                        <a:lnTo>
                          <a:pt x="68" y="84"/>
                        </a:lnTo>
                        <a:lnTo>
                          <a:pt x="95" y="71"/>
                        </a:lnTo>
                        <a:lnTo>
                          <a:pt x="127" y="59"/>
                        </a:lnTo>
                        <a:lnTo>
                          <a:pt x="163" y="48"/>
                        </a:lnTo>
                        <a:lnTo>
                          <a:pt x="202" y="37"/>
                        </a:lnTo>
                        <a:lnTo>
                          <a:pt x="245" y="27"/>
                        </a:lnTo>
                        <a:lnTo>
                          <a:pt x="290" y="21"/>
                        </a:lnTo>
                        <a:lnTo>
                          <a:pt x="340" y="14"/>
                        </a:lnTo>
                        <a:lnTo>
                          <a:pt x="390" y="7"/>
                        </a:lnTo>
                        <a:lnTo>
                          <a:pt x="445" y="2"/>
                        </a:lnTo>
                        <a:lnTo>
                          <a:pt x="499" y="0"/>
                        </a:lnTo>
                        <a:lnTo>
                          <a:pt x="55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5765760" y="4159080"/>
                    <a:ext cx="1763640" cy="5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1" h="324">
                        <a:moveTo>
                          <a:pt x="556" y="0"/>
                        </a:moveTo>
                        <a:lnTo>
                          <a:pt x="612" y="0"/>
                        </a:lnTo>
                        <a:lnTo>
                          <a:pt x="667" y="2"/>
                        </a:lnTo>
                        <a:lnTo>
                          <a:pt x="721" y="7"/>
                        </a:lnTo>
                        <a:lnTo>
                          <a:pt x="771" y="14"/>
                        </a:lnTo>
                        <a:lnTo>
                          <a:pt x="821" y="21"/>
                        </a:lnTo>
                        <a:lnTo>
                          <a:pt x="866" y="27"/>
                        </a:lnTo>
                        <a:lnTo>
                          <a:pt x="910" y="37"/>
                        </a:lnTo>
                        <a:lnTo>
                          <a:pt x="948" y="48"/>
                        </a:lnTo>
                        <a:lnTo>
                          <a:pt x="984" y="59"/>
                        </a:lnTo>
                        <a:lnTo>
                          <a:pt x="1016" y="71"/>
                        </a:lnTo>
                        <a:lnTo>
                          <a:pt x="1043" y="84"/>
                        </a:lnTo>
                        <a:lnTo>
                          <a:pt x="1068" y="98"/>
                        </a:lnTo>
                        <a:lnTo>
                          <a:pt x="1086" y="114"/>
                        </a:lnTo>
                        <a:lnTo>
                          <a:pt x="1100" y="130"/>
                        </a:lnTo>
                        <a:lnTo>
                          <a:pt x="1105" y="137"/>
                        </a:lnTo>
                        <a:lnTo>
                          <a:pt x="1109" y="146"/>
                        </a:lnTo>
                        <a:lnTo>
                          <a:pt x="1111" y="153"/>
                        </a:lnTo>
                        <a:lnTo>
                          <a:pt x="1111" y="162"/>
                        </a:lnTo>
                        <a:lnTo>
                          <a:pt x="1111" y="169"/>
                        </a:lnTo>
                        <a:lnTo>
                          <a:pt x="1109" y="178"/>
                        </a:lnTo>
                        <a:lnTo>
                          <a:pt x="1105" y="187"/>
                        </a:lnTo>
                        <a:lnTo>
                          <a:pt x="1100" y="194"/>
                        </a:lnTo>
                        <a:lnTo>
                          <a:pt x="1086" y="210"/>
                        </a:lnTo>
                        <a:lnTo>
                          <a:pt x="1068" y="224"/>
                        </a:lnTo>
                        <a:lnTo>
                          <a:pt x="1043" y="240"/>
                        </a:lnTo>
                        <a:lnTo>
                          <a:pt x="1016" y="251"/>
                        </a:lnTo>
                        <a:lnTo>
                          <a:pt x="984" y="265"/>
                        </a:lnTo>
                        <a:lnTo>
                          <a:pt x="948" y="276"/>
                        </a:lnTo>
                        <a:lnTo>
                          <a:pt x="910" y="285"/>
                        </a:lnTo>
                        <a:lnTo>
                          <a:pt x="866" y="297"/>
                        </a:lnTo>
                        <a:lnTo>
                          <a:pt x="821" y="303"/>
                        </a:lnTo>
                        <a:lnTo>
                          <a:pt x="771" y="310"/>
                        </a:lnTo>
                        <a:lnTo>
                          <a:pt x="721" y="317"/>
                        </a:lnTo>
                        <a:lnTo>
                          <a:pt x="667" y="319"/>
                        </a:lnTo>
                        <a:lnTo>
                          <a:pt x="612" y="322"/>
                        </a:lnTo>
                        <a:lnTo>
                          <a:pt x="556" y="324"/>
                        </a:lnTo>
                        <a:lnTo>
                          <a:pt x="499" y="322"/>
                        </a:lnTo>
                        <a:lnTo>
                          <a:pt x="445" y="319"/>
                        </a:lnTo>
                        <a:lnTo>
                          <a:pt x="390" y="317"/>
                        </a:lnTo>
                        <a:lnTo>
                          <a:pt x="340" y="310"/>
                        </a:lnTo>
                        <a:lnTo>
                          <a:pt x="290" y="303"/>
                        </a:lnTo>
                        <a:lnTo>
                          <a:pt x="245" y="297"/>
                        </a:lnTo>
                        <a:lnTo>
                          <a:pt x="202" y="285"/>
                        </a:lnTo>
                        <a:lnTo>
                          <a:pt x="163" y="276"/>
                        </a:lnTo>
                        <a:lnTo>
                          <a:pt x="127" y="265"/>
                        </a:lnTo>
                        <a:lnTo>
                          <a:pt x="95" y="251"/>
                        </a:lnTo>
                        <a:lnTo>
                          <a:pt x="68" y="240"/>
                        </a:lnTo>
                        <a:lnTo>
                          <a:pt x="43" y="224"/>
                        </a:lnTo>
                        <a:lnTo>
                          <a:pt x="25" y="210"/>
                        </a:lnTo>
                        <a:lnTo>
                          <a:pt x="11" y="194"/>
                        </a:lnTo>
                        <a:lnTo>
                          <a:pt x="7" y="187"/>
                        </a:lnTo>
                        <a:lnTo>
                          <a:pt x="2" y="178"/>
                        </a:lnTo>
                        <a:lnTo>
                          <a:pt x="0" y="169"/>
                        </a:lnTo>
                        <a:lnTo>
                          <a:pt x="0" y="162"/>
                        </a:lnTo>
                        <a:lnTo>
                          <a:pt x="0" y="153"/>
                        </a:lnTo>
                        <a:lnTo>
                          <a:pt x="2" y="146"/>
                        </a:lnTo>
                        <a:lnTo>
                          <a:pt x="7" y="137"/>
                        </a:lnTo>
                        <a:lnTo>
                          <a:pt x="11" y="130"/>
                        </a:lnTo>
                        <a:lnTo>
                          <a:pt x="25" y="114"/>
                        </a:lnTo>
                        <a:lnTo>
                          <a:pt x="43" y="98"/>
                        </a:lnTo>
                        <a:lnTo>
                          <a:pt x="68" y="84"/>
                        </a:lnTo>
                        <a:lnTo>
                          <a:pt x="95" y="71"/>
                        </a:lnTo>
                        <a:lnTo>
                          <a:pt x="127" y="59"/>
                        </a:lnTo>
                        <a:lnTo>
                          <a:pt x="163" y="48"/>
                        </a:lnTo>
                        <a:lnTo>
                          <a:pt x="202" y="37"/>
                        </a:lnTo>
                        <a:lnTo>
                          <a:pt x="245" y="27"/>
                        </a:lnTo>
                        <a:lnTo>
                          <a:pt x="290" y="21"/>
                        </a:lnTo>
                        <a:lnTo>
                          <a:pt x="340" y="14"/>
                        </a:lnTo>
                        <a:lnTo>
                          <a:pt x="390" y="7"/>
                        </a:lnTo>
                        <a:lnTo>
                          <a:pt x="445" y="2"/>
                        </a:lnTo>
                        <a:lnTo>
                          <a:pt x="499" y="0"/>
                        </a:lnTo>
                        <a:lnTo>
                          <a:pt x="556" y="0"/>
                        </a:lnTo>
                      </a:path>
                    </a:pathLst>
                  </a:custGeom>
                  <a:noFill/>
                  <a:ln w="3240">
                    <a:solidFill>
                      <a:srgbClr val="1f1a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6054840" y="4311720"/>
                    <a:ext cx="36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6054840" y="4475160"/>
                    <a:ext cx="36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7458120" y="4492800"/>
                    <a:ext cx="449280" cy="30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3" h="194">
                        <a:moveTo>
                          <a:pt x="0" y="194"/>
                        </a:move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4"/>
                        </a:lnTo>
                        <a:lnTo>
                          <a:pt x="0" y="11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7"/>
                        </a:lnTo>
                        <a:lnTo>
                          <a:pt x="5" y="7"/>
                        </a:lnTo>
                        <a:lnTo>
                          <a:pt x="5" y="4"/>
                        </a:lnTo>
                        <a:lnTo>
                          <a:pt x="5" y="4"/>
                        </a:lnTo>
                        <a:lnTo>
                          <a:pt x="7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11" y="0"/>
                        </a:lnTo>
                        <a:lnTo>
                          <a:pt x="14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265" y="0"/>
                        </a:lnTo>
                        <a:lnTo>
                          <a:pt x="268" y="0"/>
                        </a:lnTo>
                        <a:lnTo>
                          <a:pt x="270" y="0"/>
                        </a:lnTo>
                        <a:lnTo>
                          <a:pt x="270" y="0"/>
                        </a:lnTo>
                        <a:lnTo>
                          <a:pt x="272" y="2"/>
                        </a:lnTo>
                        <a:lnTo>
                          <a:pt x="274" y="2"/>
                        </a:lnTo>
                        <a:lnTo>
                          <a:pt x="274" y="2"/>
                        </a:lnTo>
                        <a:lnTo>
                          <a:pt x="277" y="4"/>
                        </a:lnTo>
                        <a:lnTo>
                          <a:pt x="279" y="4"/>
                        </a:lnTo>
                        <a:lnTo>
                          <a:pt x="279" y="7"/>
                        </a:lnTo>
                        <a:lnTo>
                          <a:pt x="281" y="7"/>
                        </a:lnTo>
                        <a:lnTo>
                          <a:pt x="281" y="9"/>
                        </a:lnTo>
                        <a:lnTo>
                          <a:pt x="281" y="11"/>
                        </a:lnTo>
                        <a:lnTo>
                          <a:pt x="283" y="11"/>
                        </a:lnTo>
                        <a:lnTo>
                          <a:pt x="283" y="14"/>
                        </a:lnTo>
                        <a:lnTo>
                          <a:pt x="283" y="16"/>
                        </a:lnTo>
                        <a:lnTo>
                          <a:pt x="283" y="18"/>
                        </a:lnTo>
                        <a:lnTo>
                          <a:pt x="283" y="194"/>
                        </a:lnTo>
                        <a:lnTo>
                          <a:pt x="0" y="194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7458120" y="4800600"/>
                    <a:ext cx="449280" cy="11160"/>
                  </a:xfrm>
                  <a:prstGeom prst="rect">
                    <a:avLst/>
                  </a:pr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7574040" y="4811760"/>
                    <a:ext cx="216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61">
                        <a:moveTo>
                          <a:pt x="136" y="61"/>
                        </a:moveTo>
                        <a:lnTo>
                          <a:pt x="136" y="47"/>
                        </a:lnTo>
                        <a:lnTo>
                          <a:pt x="127" y="29"/>
                        </a:lnTo>
                        <a:lnTo>
                          <a:pt x="136" y="11"/>
                        </a:lnTo>
                        <a:lnTo>
                          <a:pt x="136" y="0"/>
                        </a:lnTo>
                        <a:lnTo>
                          <a:pt x="0" y="0"/>
                        </a:lnTo>
                        <a:lnTo>
                          <a:pt x="0" y="11"/>
                        </a:lnTo>
                        <a:lnTo>
                          <a:pt x="9" y="29"/>
                        </a:lnTo>
                        <a:lnTo>
                          <a:pt x="0" y="47"/>
                        </a:lnTo>
                        <a:lnTo>
                          <a:pt x="0" y="61"/>
                        </a:lnTo>
                        <a:lnTo>
                          <a:pt x="136" y="61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7458120" y="4492800"/>
                    <a:ext cx="449280" cy="31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3" h="201">
                        <a:moveTo>
                          <a:pt x="0" y="201"/>
                        </a:move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1"/>
                        </a:lnTo>
                        <a:lnTo>
                          <a:pt x="0" y="11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5" y="4"/>
                        </a:lnTo>
                        <a:lnTo>
                          <a:pt x="5" y="4"/>
                        </a:lnTo>
                        <a:lnTo>
                          <a:pt x="7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11" y="0"/>
                        </a:lnTo>
                        <a:lnTo>
                          <a:pt x="14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263" y="0"/>
                        </a:lnTo>
                        <a:lnTo>
                          <a:pt x="265" y="0"/>
                        </a:lnTo>
                        <a:lnTo>
                          <a:pt x="268" y="0"/>
                        </a:lnTo>
                        <a:lnTo>
                          <a:pt x="270" y="0"/>
                        </a:lnTo>
                        <a:lnTo>
                          <a:pt x="272" y="2"/>
                        </a:lnTo>
                        <a:lnTo>
                          <a:pt x="274" y="2"/>
                        </a:lnTo>
                        <a:lnTo>
                          <a:pt x="274" y="2"/>
                        </a:lnTo>
                        <a:lnTo>
                          <a:pt x="277" y="4"/>
                        </a:lnTo>
                        <a:lnTo>
                          <a:pt x="279" y="4"/>
                        </a:lnTo>
                        <a:lnTo>
                          <a:pt x="279" y="7"/>
                        </a:lnTo>
                        <a:lnTo>
                          <a:pt x="279" y="7"/>
                        </a:lnTo>
                        <a:lnTo>
                          <a:pt x="281" y="9"/>
                        </a:lnTo>
                        <a:lnTo>
                          <a:pt x="281" y="11"/>
                        </a:lnTo>
                        <a:lnTo>
                          <a:pt x="283" y="11"/>
                        </a:lnTo>
                        <a:lnTo>
                          <a:pt x="283" y="14"/>
                        </a:lnTo>
                        <a:lnTo>
                          <a:pt x="283" y="16"/>
                        </a:lnTo>
                        <a:lnTo>
                          <a:pt x="283" y="16"/>
                        </a:lnTo>
                        <a:lnTo>
                          <a:pt x="283" y="201"/>
                        </a:lnTo>
                        <a:lnTo>
                          <a:pt x="0" y="201"/>
                        </a:lnTo>
                      </a:path>
                    </a:pathLst>
                  </a:custGeom>
                  <a:noFill/>
                  <a:ln w="3240">
                    <a:solidFill>
                      <a:srgbClr val="12141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7574040" y="4811760"/>
                    <a:ext cx="216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61">
                        <a:moveTo>
                          <a:pt x="136" y="61"/>
                        </a:moveTo>
                        <a:lnTo>
                          <a:pt x="136" y="47"/>
                        </a:lnTo>
                        <a:lnTo>
                          <a:pt x="127" y="29"/>
                        </a:lnTo>
                        <a:lnTo>
                          <a:pt x="136" y="11"/>
                        </a:lnTo>
                        <a:lnTo>
                          <a:pt x="136" y="0"/>
                        </a:lnTo>
                        <a:lnTo>
                          <a:pt x="0" y="0"/>
                        </a:lnTo>
                        <a:lnTo>
                          <a:pt x="0" y="11"/>
                        </a:lnTo>
                        <a:lnTo>
                          <a:pt x="9" y="29"/>
                        </a:lnTo>
                        <a:lnTo>
                          <a:pt x="0" y="47"/>
                        </a:lnTo>
                        <a:lnTo>
                          <a:pt x="0" y="61"/>
                        </a:lnTo>
                        <a:lnTo>
                          <a:pt x="136" y="61"/>
                        </a:lnTo>
                      </a:path>
                    </a:pathLst>
                  </a:custGeom>
                  <a:noFill/>
                  <a:ln w="3240">
                    <a:solidFill>
                      <a:srgbClr val="12141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7504200" y="4529160"/>
                    <a:ext cx="357120" cy="241200"/>
                  </a:xfrm>
                  <a:prstGeom prst="rect">
                    <a:avLst/>
                  </a:prstGeom>
                  <a:solidFill>
                    <a:srgbClr val="3685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504200" y="4529160"/>
                    <a:ext cx="357120" cy="241200"/>
                  </a:xfrm>
                  <a:prstGeom prst="rect">
                    <a:avLst/>
                  </a:prstGeom>
                  <a:noFill/>
                  <a:ln w="3240">
                    <a:solidFill>
                      <a:srgbClr val="12141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7486560" y="4518000"/>
                    <a:ext cx="39204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169">
                        <a:moveTo>
                          <a:pt x="0" y="169"/>
                        </a:moveTo>
                        <a:lnTo>
                          <a:pt x="11" y="159"/>
                        </a:lnTo>
                        <a:lnTo>
                          <a:pt x="236" y="159"/>
                        </a:lnTo>
                        <a:lnTo>
                          <a:pt x="236" y="7"/>
                        </a:lnTo>
                        <a:lnTo>
                          <a:pt x="247" y="0"/>
                        </a:lnTo>
                        <a:lnTo>
                          <a:pt x="247" y="169"/>
                        </a:lnTo>
                        <a:lnTo>
                          <a:pt x="0" y="169"/>
                        </a:lnTo>
                        <a:close/>
                      </a:path>
                    </a:pathLst>
                  </a:custGeom>
                  <a:solidFill>
                    <a:srgbClr val="7c84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7486560" y="4518000"/>
                    <a:ext cx="39204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169">
                        <a:moveTo>
                          <a:pt x="0" y="169"/>
                        </a:moveTo>
                        <a:lnTo>
                          <a:pt x="11" y="159"/>
                        </a:lnTo>
                        <a:lnTo>
                          <a:pt x="236" y="159"/>
                        </a:lnTo>
                        <a:lnTo>
                          <a:pt x="236" y="7"/>
                        </a:lnTo>
                        <a:lnTo>
                          <a:pt x="247" y="0"/>
                        </a:lnTo>
                        <a:lnTo>
                          <a:pt x="247" y="169"/>
                        </a:lnTo>
                        <a:lnTo>
                          <a:pt x="0" y="169"/>
                        </a:lnTo>
                      </a:path>
                    </a:pathLst>
                  </a:custGeom>
                  <a:noFill/>
                  <a:ln w="3240">
                    <a:solidFill>
                      <a:srgbClr val="12141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7574040" y="4857840"/>
                    <a:ext cx="2160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8">
                        <a:moveTo>
                          <a:pt x="0" y="18"/>
                        </a:moveTo>
                        <a:lnTo>
                          <a:pt x="136" y="18"/>
                        </a:lnTo>
                        <a:lnTo>
                          <a:pt x="127" y="0"/>
                        </a:lnTo>
                        <a:lnTo>
                          <a:pt x="9" y="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4248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7574040" y="4857840"/>
                    <a:ext cx="2160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8">
                        <a:moveTo>
                          <a:pt x="0" y="18"/>
                        </a:moveTo>
                        <a:lnTo>
                          <a:pt x="136" y="18"/>
                        </a:lnTo>
                        <a:lnTo>
                          <a:pt x="127" y="0"/>
                        </a:lnTo>
                        <a:lnTo>
                          <a:pt x="9" y="0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w="3240">
                    <a:solidFill>
                      <a:srgbClr val="12141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7878600" y="45180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7486560" y="4518000"/>
                    <a:ext cx="392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0">
                        <a:moveTo>
                          <a:pt x="0" y="0"/>
                        </a:moveTo>
                        <a:lnTo>
                          <a:pt x="247" y="0"/>
                        </a:lnTo>
                        <a:lnTo>
                          <a:pt x="247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7486560" y="4518000"/>
                    <a:ext cx="360" cy="268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7486560" y="4786200"/>
                    <a:ext cx="3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7591320" y="4857840"/>
                    <a:ext cx="3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7591320" y="4857840"/>
                    <a:ext cx="1796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7770960" y="4857840"/>
                    <a:ext cx="46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0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7574040" y="482904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7574040" y="4829040"/>
                    <a:ext cx="21600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7790040" y="4829040"/>
                    <a:ext cx="3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7574040" y="4886280"/>
                    <a:ext cx="3240" cy="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7577280" y="4886280"/>
                    <a:ext cx="212760" cy="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7790040" y="4886280"/>
                    <a:ext cx="1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3">
                        <a:moveTo>
                          <a:pt x="0" y="3"/>
                        </a:moveTo>
                        <a:lnTo>
                          <a:pt x="0" y="0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7083360" y="4597560"/>
                    <a:ext cx="343080" cy="311040"/>
                  </a:xfrm>
                  <a:prstGeom prst="rect">
                    <a:avLst/>
                  </a:pr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7083360" y="4597560"/>
                    <a:ext cx="343080" cy="311040"/>
                  </a:xfrm>
                  <a:prstGeom prst="rect">
                    <a:avLst/>
                  </a:prstGeom>
                  <a:noFill/>
                  <a:ln w="3240">
                    <a:solidFill>
                      <a:srgbClr val="12141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7159680" y="4597560"/>
                    <a:ext cx="18720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82">
                        <a:moveTo>
                          <a:pt x="0" y="82"/>
                        </a:moveTo>
                        <a:lnTo>
                          <a:pt x="0" y="0"/>
                        </a:lnTo>
                        <a:lnTo>
                          <a:pt x="118" y="0"/>
                        </a:lnTo>
                        <a:lnTo>
                          <a:pt x="118" y="82"/>
                        </a:lnTo>
                        <a:lnTo>
                          <a:pt x="118" y="82"/>
                        </a:lnTo>
                        <a:lnTo>
                          <a:pt x="118" y="78"/>
                        </a:lnTo>
                        <a:lnTo>
                          <a:pt x="2" y="78"/>
                        </a:lnTo>
                        <a:lnTo>
                          <a:pt x="2" y="82"/>
                        </a:lnTo>
                        <a:lnTo>
                          <a:pt x="0" y="82"/>
                        </a:lnTo>
                        <a:close/>
                      </a:path>
                    </a:pathLst>
                  </a:custGeom>
                  <a:solidFill>
                    <a:srgbClr val="4248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7159680" y="4727520"/>
                    <a:ext cx="1872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18">
                        <a:moveTo>
                          <a:pt x="0" y="0"/>
                        </a:moveTo>
                        <a:lnTo>
                          <a:pt x="0" y="18"/>
                        </a:lnTo>
                        <a:lnTo>
                          <a:pt x="118" y="18"/>
                        </a:lnTo>
                        <a:lnTo>
                          <a:pt x="118" y="0"/>
                        </a:lnTo>
                        <a:lnTo>
                          <a:pt x="118" y="0"/>
                        </a:lnTo>
                        <a:lnTo>
                          <a:pt x="118" y="5"/>
                        </a:lnTo>
                        <a:lnTo>
                          <a:pt x="2" y="5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248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7159680" y="4597560"/>
                    <a:ext cx="187200" cy="158760"/>
                  </a:xfrm>
                  <a:prstGeom prst="rect">
                    <a:avLst/>
                  </a:prstGeom>
                  <a:noFill/>
                  <a:ln w="3240">
                    <a:solidFill>
                      <a:srgbClr val="12141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7162920" y="4721400"/>
                    <a:ext cx="183960" cy="14040"/>
                  </a:xfrm>
                  <a:prstGeom prst="rect">
                    <a:avLst/>
                  </a:prstGeom>
                  <a:noFill/>
                  <a:ln w="3240">
                    <a:solidFill>
                      <a:srgbClr val="12141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7162920" y="4710240"/>
                    <a:ext cx="1839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4">
                        <a:moveTo>
                          <a:pt x="116" y="2"/>
                        </a:moveTo>
                        <a:lnTo>
                          <a:pt x="116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116" y="4"/>
                        </a:lnTo>
                        <a:lnTo>
                          <a:pt x="116" y="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7162920" y="470520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7162920" y="469908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7162920" y="469116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7162920" y="4684680"/>
                    <a:ext cx="183960" cy="3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7162920" y="467676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7162920" y="467028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7162920" y="466236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7162920" y="465444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7162920" y="464832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7162920" y="464040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7162920" y="463392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7162920" y="462600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7162920" y="461952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7162920" y="4611600"/>
                    <a:ext cx="183960" cy="3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7162920" y="4605480"/>
                    <a:ext cx="183960" cy="28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7162920" y="4738680"/>
                    <a:ext cx="183960" cy="3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7162920" y="474984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7292880" y="4905360"/>
                    <a:ext cx="5716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36">
                        <a:moveTo>
                          <a:pt x="27" y="0"/>
                        </a:moveTo>
                        <a:lnTo>
                          <a:pt x="38" y="0"/>
                        </a:lnTo>
                        <a:lnTo>
                          <a:pt x="40" y="0"/>
                        </a:lnTo>
                        <a:lnTo>
                          <a:pt x="190" y="0"/>
                        </a:lnTo>
                        <a:lnTo>
                          <a:pt x="190" y="0"/>
                        </a:lnTo>
                        <a:lnTo>
                          <a:pt x="217" y="0"/>
                        </a:lnTo>
                        <a:lnTo>
                          <a:pt x="217" y="0"/>
                        </a:lnTo>
                        <a:lnTo>
                          <a:pt x="258" y="0"/>
                        </a:lnTo>
                        <a:lnTo>
                          <a:pt x="258" y="0"/>
                        </a:lnTo>
                        <a:lnTo>
                          <a:pt x="270" y="0"/>
                        </a:lnTo>
                        <a:lnTo>
                          <a:pt x="270" y="0"/>
                        </a:lnTo>
                        <a:lnTo>
                          <a:pt x="326" y="0"/>
                        </a:lnTo>
                        <a:lnTo>
                          <a:pt x="326" y="0"/>
                        </a:lnTo>
                        <a:lnTo>
                          <a:pt x="335" y="0"/>
                        </a:lnTo>
                        <a:lnTo>
                          <a:pt x="360" y="27"/>
                        </a:lnTo>
                        <a:lnTo>
                          <a:pt x="360" y="36"/>
                        </a:lnTo>
                        <a:lnTo>
                          <a:pt x="0" y="36"/>
                        </a:lnTo>
                        <a:lnTo>
                          <a:pt x="0" y="27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7335720" y="4905360"/>
                    <a:ext cx="20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0">
                        <a:moveTo>
                          <a:pt x="1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3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7353360" y="490212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7356600" y="4902120"/>
                    <a:ext cx="2379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2">
                        <a:moveTo>
                          <a:pt x="150" y="2"/>
                        </a:moveTo>
                        <a:lnTo>
                          <a:pt x="15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150" y="2"/>
                        </a:lnTo>
                        <a:lnTo>
                          <a:pt x="150" y="2"/>
                        </a:lnTo>
                        <a:lnTo>
                          <a:pt x="150" y="0"/>
                        </a:lnTo>
                        <a:lnTo>
                          <a:pt x="150" y="0"/>
                        </a:lnTo>
                        <a:lnTo>
                          <a:pt x="150" y="2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7594560" y="49053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7594560" y="4905360"/>
                    <a:ext cx="42840" cy="360"/>
                  </a:xfrm>
                  <a:prstGeom prst="rect">
                    <a:avLst/>
                  </a:pr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7637400" y="4902120"/>
                    <a:ext cx="18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2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7637400" y="4902120"/>
                    <a:ext cx="651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">
                        <a:moveTo>
                          <a:pt x="41" y="0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41" y="2"/>
                        </a:lnTo>
                        <a:lnTo>
                          <a:pt x="39" y="2"/>
                        </a:lnTo>
                        <a:lnTo>
                          <a:pt x="41" y="2"/>
                        </a:lnTo>
                        <a:lnTo>
                          <a:pt x="41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7699320" y="490212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2" y="2"/>
                        </a:move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7702560" y="4905360"/>
                    <a:ext cx="19080" cy="360"/>
                  </a:xfrm>
                  <a:prstGeom prst="rect">
                    <a:avLst/>
                  </a:pr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7721640" y="4902120"/>
                    <a:ext cx="14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2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7721640" y="4902120"/>
                    <a:ext cx="889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">
                        <a:moveTo>
                          <a:pt x="56" y="2"/>
                        </a:moveTo>
                        <a:lnTo>
                          <a:pt x="56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56" y="2"/>
                        </a:lnTo>
                        <a:lnTo>
                          <a:pt x="56" y="2"/>
                        </a:lnTo>
                        <a:lnTo>
                          <a:pt x="56" y="0"/>
                        </a:lnTo>
                        <a:lnTo>
                          <a:pt x="56" y="2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7810560" y="49053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810560" y="490536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9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7824960" y="4905360"/>
                    <a:ext cx="396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25" y="27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5" y="27"/>
                        </a:lnTo>
                        <a:lnTo>
                          <a:pt x="25" y="27"/>
                        </a:lnTo>
                        <a:lnTo>
                          <a:pt x="25" y="27"/>
                        </a:lnTo>
                        <a:lnTo>
                          <a:pt x="25" y="27"/>
                        </a:lnTo>
                        <a:lnTo>
                          <a:pt x="25" y="27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7864560" y="4948200"/>
                    <a:ext cx="14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9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7292880" y="4962600"/>
                    <a:ext cx="5716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0">
                        <a:moveTo>
                          <a:pt x="0" y="0"/>
                        </a:moveTo>
                        <a:lnTo>
                          <a:pt x="360" y="0"/>
                        </a:lnTo>
                        <a:lnTo>
                          <a:pt x="36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7292880" y="4948200"/>
                    <a:ext cx="18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9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7292880" y="4905360"/>
                    <a:ext cx="428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0"/>
                        </a:moveTo>
                        <a:lnTo>
                          <a:pt x="25" y="0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5" y="0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7296120" y="494820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7296120" y="4948200"/>
                    <a:ext cx="56520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7861320" y="494820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7327800" y="493380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7324560" y="493380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7">
                        <a:moveTo>
                          <a:pt x="0" y="7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7353360" y="493380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7350120" y="493380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7">
                        <a:moveTo>
                          <a:pt x="0" y="7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378560" y="4933800"/>
                    <a:ext cx="1875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0">
                        <a:moveTo>
                          <a:pt x="0" y="0"/>
                        </a:moveTo>
                        <a:lnTo>
                          <a:pt x="118" y="0"/>
                        </a:lnTo>
                        <a:lnTo>
                          <a:pt x="11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75680" y="493380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7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574040" y="4933800"/>
                    <a:ext cx="17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7569360" y="4933800"/>
                    <a:ext cx="79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7602480" y="493380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7597800" y="4933800"/>
                    <a:ext cx="4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7642080" y="4933800"/>
                    <a:ext cx="17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7637400" y="4933800"/>
                    <a:ext cx="79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7667640" y="4933800"/>
                    <a:ext cx="1440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7662960" y="4933800"/>
                    <a:ext cx="4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7691400" y="4933800"/>
                    <a:ext cx="1440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7688160" y="493380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7">
                        <a:moveTo>
                          <a:pt x="0" y="7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7731000" y="4933800"/>
                    <a:ext cx="44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0">
                        <a:moveTo>
                          <a:pt x="3" y="0"/>
                        </a:moveTo>
                        <a:lnTo>
                          <a:pt x="28" y="0"/>
                        </a:lnTo>
                        <a:lnTo>
                          <a:pt x="28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7728120" y="4933800"/>
                    <a:ext cx="79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7"/>
                        </a:move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2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7781760" y="4933800"/>
                    <a:ext cx="17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7778880" y="4933800"/>
                    <a:ext cx="61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2" y="7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2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7807320" y="4933800"/>
                    <a:ext cx="17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7804080" y="4933800"/>
                    <a:ext cx="64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2" y="7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7335720" y="492588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7332840" y="4925880"/>
                    <a:ext cx="6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2" y="5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7361280" y="492588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7356600" y="492588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3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386480" y="492588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7381800" y="492588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3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407360" y="4925880"/>
                    <a:ext cx="19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0">
                        <a:moveTo>
                          <a:pt x="3" y="0"/>
                        </a:moveTo>
                        <a:lnTo>
                          <a:pt x="12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7404120" y="492588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2" y="5"/>
                        </a:moveTo>
                        <a:lnTo>
                          <a:pt x="2" y="5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7432560" y="4925880"/>
                    <a:ext cx="17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11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7429680" y="4925880"/>
                    <a:ext cx="6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2" y="5"/>
                        </a:moveTo>
                        <a:lnTo>
                          <a:pt x="2" y="5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7458120" y="492588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2" y="0"/>
                        </a:moveTo>
                        <a:lnTo>
                          <a:pt x="9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458120" y="492588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483320" y="4925880"/>
                    <a:ext cx="17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7480440" y="4925880"/>
                    <a:ext cx="6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2" y="5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7508880" y="492588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7504200" y="492588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7534440" y="4925880"/>
                    <a:ext cx="14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7529400" y="4925880"/>
                    <a:ext cx="50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3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7558200" y="4925880"/>
                    <a:ext cx="111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7554960" y="492588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7580160" y="4925880"/>
                    <a:ext cx="17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11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7577280" y="4925880"/>
                    <a:ext cx="6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2" y="5"/>
                        </a:moveTo>
                        <a:lnTo>
                          <a:pt x="2" y="5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7342200" y="491976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7338960" y="4919760"/>
                    <a:ext cx="3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7367760" y="491976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7364520" y="4919760"/>
                    <a:ext cx="3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7389720" y="4919760"/>
                    <a:ext cx="176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7389720" y="4919760"/>
                    <a:ext cx="3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7418520" y="4919760"/>
                    <a:ext cx="140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7415280" y="4919760"/>
                    <a:ext cx="3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7443720" y="4919760"/>
                    <a:ext cx="1440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7435800" y="4919760"/>
                    <a:ext cx="79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4">
                        <a:moveTo>
                          <a:pt x="0" y="4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7466040" y="491976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7461360" y="4919760"/>
                    <a:ext cx="46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3" y="4"/>
                        </a:move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4"/>
                        </a:lnTo>
                        <a:lnTo>
                          <a:pt x="3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7489800" y="491976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7486560" y="4919760"/>
                    <a:ext cx="3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7515360" y="491976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7512120" y="4919760"/>
                    <a:ext cx="3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7540560" y="491976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534440" y="491976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4"/>
                        </a:moveTo>
                        <a:lnTo>
                          <a:pt x="2" y="4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7562880" y="4919760"/>
                    <a:ext cx="172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7562880" y="4919760"/>
                    <a:ext cx="3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7591320" y="4919760"/>
                    <a:ext cx="1440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7583400" y="4919760"/>
                    <a:ext cx="79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4">
                        <a:moveTo>
                          <a:pt x="0" y="4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7667640" y="492588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7662960" y="492588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5"/>
                        </a:moveTo>
                        <a:lnTo>
                          <a:pt x="3" y="5"/>
                        </a:lnTo>
                        <a:lnTo>
                          <a:pt x="3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7728120" y="4925880"/>
                    <a:ext cx="17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11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7728120" y="4925880"/>
                    <a:ext cx="2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7756560" y="492588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7753320" y="492588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778880" y="4925880"/>
                    <a:ext cx="17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11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778880" y="4925880"/>
                    <a:ext cx="2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728120" y="4919760"/>
                    <a:ext cx="140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7724880" y="4919760"/>
                    <a:ext cx="3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7753320" y="4919760"/>
                    <a:ext cx="1440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7750080" y="4919760"/>
                    <a:ext cx="3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7778880" y="491976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7775640" y="4919760"/>
                    <a:ext cx="3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7804080" y="491976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7799400" y="4919760"/>
                    <a:ext cx="46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7637400" y="491184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7634160" y="491184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7659720" y="4911840"/>
                    <a:ext cx="172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7659720" y="491184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7684920" y="4911840"/>
                    <a:ext cx="176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7682040" y="4911840"/>
                    <a:ext cx="6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2" y="5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7724880" y="4911840"/>
                    <a:ext cx="172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0" y="0"/>
                        </a:moveTo>
                        <a:lnTo>
                          <a:pt x="1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7721640" y="491184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2" y="5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7750080" y="491184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7745400" y="491184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5"/>
                        </a:moveTo>
                        <a:lnTo>
                          <a:pt x="3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7775640" y="491184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7770960" y="491184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5"/>
                        </a:move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637400" y="490536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7634160" y="4905360"/>
                    <a:ext cx="3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659720" y="4905360"/>
                    <a:ext cx="172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7659720" y="4905360"/>
                    <a:ext cx="3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7684920" y="4905360"/>
                    <a:ext cx="176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7682040" y="4905360"/>
                    <a:ext cx="2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4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7721640" y="4905360"/>
                    <a:ext cx="172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721640" y="4905360"/>
                    <a:ext cx="3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745400" y="4905360"/>
                    <a:ext cx="1908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7742160" y="4905360"/>
                    <a:ext cx="3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7770960" y="4905360"/>
                    <a:ext cx="140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7767720" y="4905360"/>
                    <a:ext cx="3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7796160" y="490536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7792920" y="4905360"/>
                    <a:ext cx="3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7350120" y="491184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7346880" y="491184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7375680" y="491184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7367760" y="491184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3" y="5"/>
                        </a:moveTo>
                        <a:lnTo>
                          <a:pt x="5" y="0"/>
                        </a:lnTo>
                        <a:lnTo>
                          <a:pt x="0" y="5"/>
                        </a:lnTo>
                        <a:lnTo>
                          <a:pt x="3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7396200" y="4911840"/>
                    <a:ext cx="19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0">
                        <a:moveTo>
                          <a:pt x="3" y="0"/>
                        </a:moveTo>
                        <a:lnTo>
                          <a:pt x="12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7392960" y="491184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5"/>
                        </a:moveTo>
                        <a:lnTo>
                          <a:pt x="2" y="5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7421400" y="491184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3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7421400" y="4911840"/>
                    <a:ext cx="50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7446960" y="4911840"/>
                    <a:ext cx="19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7443720" y="491184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2" y="5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7472520" y="491184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7469280" y="491184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2" y="5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7497720" y="491184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7494480" y="491184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7523280" y="491184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7520040" y="491184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7548480" y="491184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7540560" y="491184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2" y="5"/>
                        </a:moveTo>
                        <a:lnTo>
                          <a:pt x="5" y="0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5" name=""/>
                <p:cNvSpPr/>
                <p:nvPr/>
              </p:nvSpPr>
              <p:spPr>
                <a:xfrm>
                  <a:off x="7569360" y="4911840"/>
                  <a:ext cx="1404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7566120" y="491184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2" y="5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7353360" y="490536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2" h="0">
                      <a:moveTo>
                        <a:pt x="2" y="0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735336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7381800" y="490536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37856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7404120" y="4905360"/>
                  <a:ext cx="17280" cy="144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740412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29680" y="4905360"/>
                  <a:ext cx="17280" cy="144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429680" y="4905360"/>
                  <a:ext cx="288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458120" y="490536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45488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480440" y="4905360"/>
                  <a:ext cx="17280" cy="144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7475400" y="490536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4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504200" y="4905360"/>
                  <a:ext cx="1584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50096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529400" y="4905360"/>
                  <a:ext cx="1440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52616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7554960" y="490536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755172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7577280" y="4905360"/>
                  <a:ext cx="17280" cy="144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7574040" y="490536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4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5388120" y="4140360"/>
                <a:ext cx="436320" cy="452160"/>
              </a:xfrm>
              <a:custGeom>
                <a:avLst/>
                <a:gdLst/>
                <a:ahLst/>
                <a:rect l="l" t="t" r="r" b="b"/>
                <a:pathLst>
                  <a:path w="275" h="285">
                    <a:moveTo>
                      <a:pt x="206" y="0"/>
                    </a:moveTo>
                    <a:lnTo>
                      <a:pt x="206" y="71"/>
                    </a:lnTo>
                    <a:lnTo>
                      <a:pt x="0" y="71"/>
                    </a:lnTo>
                    <a:lnTo>
                      <a:pt x="0" y="214"/>
                    </a:lnTo>
                    <a:lnTo>
                      <a:pt x="206" y="214"/>
                    </a:lnTo>
                    <a:lnTo>
                      <a:pt x="206" y="285"/>
                    </a:lnTo>
                    <a:lnTo>
                      <a:pt x="275" y="142"/>
                    </a:lnTo>
                    <a:lnTo>
                      <a:pt x="206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6035760" y="4179960"/>
              <a:ext cx="1250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8000"/>
                  </a:solidFill>
                  <a:latin typeface="Arial"/>
                </a:rPr>
                <a:t>Ausführbar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8000"/>
                  </a:solidFill>
                  <a:latin typeface="Arial"/>
                </a:rPr>
                <a:t>Mode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5934240" y="51195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5388120" y="4956120"/>
            <a:ext cx="2738160" cy="944640"/>
            <a:chOff x="5388120" y="4956120"/>
            <a:chExt cx="2738160" cy="944640"/>
          </a:xfrm>
        </p:grpSpPr>
        <p:sp>
          <p:nvSpPr>
            <p:cNvPr id="601" name=""/>
            <p:cNvSpPr/>
            <p:nvPr/>
          </p:nvSpPr>
          <p:spPr>
            <a:xfrm>
              <a:off x="5765760" y="4975200"/>
              <a:ext cx="1762200" cy="509760"/>
            </a:xfrm>
            <a:custGeom>
              <a:avLst/>
              <a:gdLst/>
              <a:ahLst/>
              <a:rect l="l" t="t" r="r" b="b"/>
              <a:pathLst>
                <a:path w="1110" h="321">
                  <a:moveTo>
                    <a:pt x="555" y="0"/>
                  </a:moveTo>
                  <a:lnTo>
                    <a:pt x="612" y="0"/>
                  </a:lnTo>
                  <a:lnTo>
                    <a:pt x="666" y="2"/>
                  </a:lnTo>
                  <a:lnTo>
                    <a:pt x="721" y="6"/>
                  </a:lnTo>
                  <a:lnTo>
                    <a:pt x="770" y="13"/>
                  </a:lnTo>
                  <a:lnTo>
                    <a:pt x="818" y="20"/>
                  </a:lnTo>
                  <a:lnTo>
                    <a:pt x="866" y="27"/>
                  </a:lnTo>
                  <a:lnTo>
                    <a:pt x="906" y="36"/>
                  </a:lnTo>
                  <a:lnTo>
                    <a:pt x="947" y="47"/>
                  </a:lnTo>
                  <a:lnTo>
                    <a:pt x="983" y="59"/>
                  </a:lnTo>
                  <a:lnTo>
                    <a:pt x="1015" y="70"/>
                  </a:lnTo>
                  <a:lnTo>
                    <a:pt x="1042" y="84"/>
                  </a:lnTo>
                  <a:lnTo>
                    <a:pt x="1065" y="98"/>
                  </a:lnTo>
                  <a:lnTo>
                    <a:pt x="1085" y="113"/>
                  </a:lnTo>
                  <a:lnTo>
                    <a:pt x="1099" y="127"/>
                  </a:lnTo>
                  <a:lnTo>
                    <a:pt x="1104" y="136"/>
                  </a:lnTo>
                  <a:lnTo>
                    <a:pt x="1106" y="143"/>
                  </a:lnTo>
                  <a:lnTo>
                    <a:pt x="1108" y="152"/>
                  </a:lnTo>
                  <a:lnTo>
                    <a:pt x="1110" y="161"/>
                  </a:lnTo>
                  <a:lnTo>
                    <a:pt x="1108" y="168"/>
                  </a:lnTo>
                  <a:lnTo>
                    <a:pt x="1106" y="177"/>
                  </a:lnTo>
                  <a:lnTo>
                    <a:pt x="1104" y="184"/>
                  </a:lnTo>
                  <a:lnTo>
                    <a:pt x="1099" y="193"/>
                  </a:lnTo>
                  <a:lnTo>
                    <a:pt x="1085" y="209"/>
                  </a:lnTo>
                  <a:lnTo>
                    <a:pt x="1065" y="223"/>
                  </a:lnTo>
                  <a:lnTo>
                    <a:pt x="1042" y="236"/>
                  </a:lnTo>
                  <a:lnTo>
                    <a:pt x="1015" y="250"/>
                  </a:lnTo>
                  <a:lnTo>
                    <a:pt x="983" y="264"/>
                  </a:lnTo>
                  <a:lnTo>
                    <a:pt x="947" y="275"/>
                  </a:lnTo>
                  <a:lnTo>
                    <a:pt x="906" y="284"/>
                  </a:lnTo>
                  <a:lnTo>
                    <a:pt x="866" y="293"/>
                  </a:lnTo>
                  <a:lnTo>
                    <a:pt x="818" y="303"/>
                  </a:lnTo>
                  <a:lnTo>
                    <a:pt x="770" y="309"/>
                  </a:lnTo>
                  <a:lnTo>
                    <a:pt x="721" y="314"/>
                  </a:lnTo>
                  <a:lnTo>
                    <a:pt x="666" y="319"/>
                  </a:lnTo>
                  <a:lnTo>
                    <a:pt x="612" y="321"/>
                  </a:lnTo>
                  <a:lnTo>
                    <a:pt x="555" y="321"/>
                  </a:lnTo>
                  <a:lnTo>
                    <a:pt x="498" y="321"/>
                  </a:lnTo>
                  <a:lnTo>
                    <a:pt x="444" y="319"/>
                  </a:lnTo>
                  <a:lnTo>
                    <a:pt x="390" y="314"/>
                  </a:lnTo>
                  <a:lnTo>
                    <a:pt x="340" y="309"/>
                  </a:lnTo>
                  <a:lnTo>
                    <a:pt x="290" y="303"/>
                  </a:lnTo>
                  <a:lnTo>
                    <a:pt x="245" y="293"/>
                  </a:lnTo>
                  <a:lnTo>
                    <a:pt x="202" y="284"/>
                  </a:lnTo>
                  <a:lnTo>
                    <a:pt x="163" y="275"/>
                  </a:lnTo>
                  <a:lnTo>
                    <a:pt x="127" y="264"/>
                  </a:lnTo>
                  <a:lnTo>
                    <a:pt x="95" y="250"/>
                  </a:lnTo>
                  <a:lnTo>
                    <a:pt x="68" y="236"/>
                  </a:lnTo>
                  <a:lnTo>
                    <a:pt x="43" y="223"/>
                  </a:lnTo>
                  <a:lnTo>
                    <a:pt x="25" y="209"/>
                  </a:lnTo>
                  <a:lnTo>
                    <a:pt x="11" y="193"/>
                  </a:lnTo>
                  <a:lnTo>
                    <a:pt x="7" y="184"/>
                  </a:lnTo>
                  <a:lnTo>
                    <a:pt x="2" y="177"/>
                  </a:lnTo>
                  <a:lnTo>
                    <a:pt x="0" y="168"/>
                  </a:lnTo>
                  <a:lnTo>
                    <a:pt x="0" y="161"/>
                  </a:lnTo>
                  <a:lnTo>
                    <a:pt x="0" y="152"/>
                  </a:lnTo>
                  <a:lnTo>
                    <a:pt x="2" y="143"/>
                  </a:lnTo>
                  <a:lnTo>
                    <a:pt x="7" y="136"/>
                  </a:lnTo>
                  <a:lnTo>
                    <a:pt x="11" y="127"/>
                  </a:lnTo>
                  <a:lnTo>
                    <a:pt x="25" y="113"/>
                  </a:lnTo>
                  <a:lnTo>
                    <a:pt x="43" y="98"/>
                  </a:lnTo>
                  <a:lnTo>
                    <a:pt x="68" y="84"/>
                  </a:lnTo>
                  <a:lnTo>
                    <a:pt x="95" y="70"/>
                  </a:lnTo>
                  <a:lnTo>
                    <a:pt x="127" y="59"/>
                  </a:lnTo>
                  <a:lnTo>
                    <a:pt x="163" y="47"/>
                  </a:lnTo>
                  <a:lnTo>
                    <a:pt x="202" y="36"/>
                  </a:lnTo>
                  <a:lnTo>
                    <a:pt x="245" y="27"/>
                  </a:lnTo>
                  <a:lnTo>
                    <a:pt x="290" y="20"/>
                  </a:lnTo>
                  <a:lnTo>
                    <a:pt x="340" y="13"/>
                  </a:lnTo>
                  <a:lnTo>
                    <a:pt x="390" y="6"/>
                  </a:lnTo>
                  <a:lnTo>
                    <a:pt x="444" y="2"/>
                  </a:lnTo>
                  <a:lnTo>
                    <a:pt x="498" y="0"/>
                  </a:lnTo>
                  <a:lnTo>
                    <a:pt x="5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65760" y="4975200"/>
              <a:ext cx="1762200" cy="509760"/>
            </a:xfrm>
            <a:custGeom>
              <a:avLst/>
              <a:gdLst/>
              <a:ahLst/>
              <a:rect l="l" t="t" r="r" b="b"/>
              <a:pathLst>
                <a:path w="1110" h="321">
                  <a:moveTo>
                    <a:pt x="555" y="0"/>
                  </a:moveTo>
                  <a:lnTo>
                    <a:pt x="612" y="0"/>
                  </a:lnTo>
                  <a:lnTo>
                    <a:pt x="666" y="2"/>
                  </a:lnTo>
                  <a:lnTo>
                    <a:pt x="721" y="6"/>
                  </a:lnTo>
                  <a:lnTo>
                    <a:pt x="770" y="13"/>
                  </a:lnTo>
                  <a:lnTo>
                    <a:pt x="818" y="20"/>
                  </a:lnTo>
                  <a:lnTo>
                    <a:pt x="866" y="27"/>
                  </a:lnTo>
                  <a:lnTo>
                    <a:pt x="906" y="36"/>
                  </a:lnTo>
                  <a:lnTo>
                    <a:pt x="947" y="47"/>
                  </a:lnTo>
                  <a:lnTo>
                    <a:pt x="983" y="59"/>
                  </a:lnTo>
                  <a:lnTo>
                    <a:pt x="1015" y="70"/>
                  </a:lnTo>
                  <a:lnTo>
                    <a:pt x="1042" y="84"/>
                  </a:lnTo>
                  <a:lnTo>
                    <a:pt x="1065" y="98"/>
                  </a:lnTo>
                  <a:lnTo>
                    <a:pt x="1085" y="113"/>
                  </a:lnTo>
                  <a:lnTo>
                    <a:pt x="1099" y="127"/>
                  </a:lnTo>
                  <a:lnTo>
                    <a:pt x="1104" y="136"/>
                  </a:lnTo>
                  <a:lnTo>
                    <a:pt x="1106" y="143"/>
                  </a:lnTo>
                  <a:lnTo>
                    <a:pt x="1108" y="152"/>
                  </a:lnTo>
                  <a:lnTo>
                    <a:pt x="1110" y="161"/>
                  </a:lnTo>
                  <a:lnTo>
                    <a:pt x="1108" y="168"/>
                  </a:lnTo>
                  <a:lnTo>
                    <a:pt x="1106" y="177"/>
                  </a:lnTo>
                  <a:lnTo>
                    <a:pt x="1104" y="184"/>
                  </a:lnTo>
                  <a:lnTo>
                    <a:pt x="1099" y="193"/>
                  </a:lnTo>
                  <a:lnTo>
                    <a:pt x="1085" y="209"/>
                  </a:lnTo>
                  <a:lnTo>
                    <a:pt x="1065" y="223"/>
                  </a:lnTo>
                  <a:lnTo>
                    <a:pt x="1042" y="236"/>
                  </a:lnTo>
                  <a:lnTo>
                    <a:pt x="1015" y="250"/>
                  </a:lnTo>
                  <a:lnTo>
                    <a:pt x="983" y="264"/>
                  </a:lnTo>
                  <a:lnTo>
                    <a:pt x="947" y="275"/>
                  </a:lnTo>
                  <a:lnTo>
                    <a:pt x="906" y="284"/>
                  </a:lnTo>
                  <a:lnTo>
                    <a:pt x="866" y="293"/>
                  </a:lnTo>
                  <a:lnTo>
                    <a:pt x="818" y="303"/>
                  </a:lnTo>
                  <a:lnTo>
                    <a:pt x="770" y="309"/>
                  </a:lnTo>
                  <a:lnTo>
                    <a:pt x="721" y="314"/>
                  </a:lnTo>
                  <a:lnTo>
                    <a:pt x="666" y="319"/>
                  </a:lnTo>
                  <a:lnTo>
                    <a:pt x="612" y="321"/>
                  </a:lnTo>
                  <a:lnTo>
                    <a:pt x="555" y="321"/>
                  </a:lnTo>
                  <a:lnTo>
                    <a:pt x="498" y="321"/>
                  </a:lnTo>
                  <a:lnTo>
                    <a:pt x="444" y="319"/>
                  </a:lnTo>
                  <a:lnTo>
                    <a:pt x="390" y="314"/>
                  </a:lnTo>
                  <a:lnTo>
                    <a:pt x="340" y="309"/>
                  </a:lnTo>
                  <a:lnTo>
                    <a:pt x="290" y="303"/>
                  </a:lnTo>
                  <a:lnTo>
                    <a:pt x="245" y="293"/>
                  </a:lnTo>
                  <a:lnTo>
                    <a:pt x="202" y="284"/>
                  </a:lnTo>
                  <a:lnTo>
                    <a:pt x="163" y="275"/>
                  </a:lnTo>
                  <a:lnTo>
                    <a:pt x="127" y="264"/>
                  </a:lnTo>
                  <a:lnTo>
                    <a:pt x="95" y="250"/>
                  </a:lnTo>
                  <a:lnTo>
                    <a:pt x="68" y="236"/>
                  </a:lnTo>
                  <a:lnTo>
                    <a:pt x="43" y="223"/>
                  </a:lnTo>
                  <a:lnTo>
                    <a:pt x="25" y="209"/>
                  </a:lnTo>
                  <a:lnTo>
                    <a:pt x="11" y="193"/>
                  </a:lnTo>
                  <a:lnTo>
                    <a:pt x="7" y="184"/>
                  </a:lnTo>
                  <a:lnTo>
                    <a:pt x="2" y="177"/>
                  </a:lnTo>
                  <a:lnTo>
                    <a:pt x="0" y="168"/>
                  </a:lnTo>
                  <a:lnTo>
                    <a:pt x="0" y="161"/>
                  </a:lnTo>
                  <a:lnTo>
                    <a:pt x="0" y="152"/>
                  </a:lnTo>
                  <a:lnTo>
                    <a:pt x="2" y="143"/>
                  </a:lnTo>
                  <a:lnTo>
                    <a:pt x="7" y="136"/>
                  </a:lnTo>
                  <a:lnTo>
                    <a:pt x="11" y="127"/>
                  </a:lnTo>
                  <a:lnTo>
                    <a:pt x="25" y="113"/>
                  </a:lnTo>
                  <a:lnTo>
                    <a:pt x="43" y="98"/>
                  </a:lnTo>
                  <a:lnTo>
                    <a:pt x="68" y="84"/>
                  </a:lnTo>
                  <a:lnTo>
                    <a:pt x="95" y="70"/>
                  </a:lnTo>
                  <a:lnTo>
                    <a:pt x="127" y="59"/>
                  </a:lnTo>
                  <a:lnTo>
                    <a:pt x="163" y="47"/>
                  </a:lnTo>
                  <a:lnTo>
                    <a:pt x="202" y="36"/>
                  </a:lnTo>
                  <a:lnTo>
                    <a:pt x="245" y="27"/>
                  </a:lnTo>
                  <a:lnTo>
                    <a:pt x="290" y="20"/>
                  </a:lnTo>
                  <a:lnTo>
                    <a:pt x="340" y="13"/>
                  </a:lnTo>
                  <a:lnTo>
                    <a:pt x="390" y="6"/>
                  </a:lnTo>
                  <a:lnTo>
                    <a:pt x="444" y="2"/>
                  </a:lnTo>
                  <a:lnTo>
                    <a:pt x="498" y="0"/>
                  </a:lnTo>
                  <a:lnTo>
                    <a:pt x="55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27880" y="5386320"/>
              <a:ext cx="6480" cy="506520"/>
            </a:xfrm>
            <a:prstGeom prst="rect">
              <a:avLst/>
            </a:prstGeom>
            <a:solidFill>
              <a:srgbClr val="1f1a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391520" y="5318280"/>
              <a:ext cx="7920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46"/>
                  </a:moveTo>
                  <a:lnTo>
                    <a:pt x="25" y="0"/>
                  </a:lnTo>
                  <a:lnTo>
                    <a:pt x="50" y="46"/>
                  </a:lnTo>
                  <a:lnTo>
                    <a:pt x="0" y="46"/>
                  </a:lnTo>
                  <a:lnTo>
                    <a:pt x="25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1f1a1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410600" y="5861160"/>
              <a:ext cx="645840" cy="3240"/>
            </a:xfrm>
            <a:prstGeom prst="rect">
              <a:avLst/>
            </a:prstGeom>
            <a:solidFill>
              <a:srgbClr val="1f1a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053560" y="5824440"/>
              <a:ext cx="72720" cy="76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0" y="0"/>
                  </a:moveTo>
                  <a:lnTo>
                    <a:pt x="46" y="25"/>
                  </a:lnTo>
                  <a:lnTo>
                    <a:pt x="0" y="48"/>
                  </a:lnTo>
                  <a:lnTo>
                    <a:pt x="0" y="0"/>
                  </a:lnTo>
                  <a:lnTo>
                    <a:pt x="4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493040" y="5375160"/>
              <a:ext cx="585720" cy="438120"/>
            </a:xfrm>
            <a:custGeom>
              <a:avLst/>
              <a:gdLst/>
              <a:ahLst/>
              <a:rect l="l" t="t" r="r" b="b"/>
              <a:pathLst>
                <a:path w="369" h="276">
                  <a:moveTo>
                    <a:pt x="369" y="276"/>
                  </a:moveTo>
                  <a:lnTo>
                    <a:pt x="333" y="276"/>
                  </a:lnTo>
                  <a:lnTo>
                    <a:pt x="297" y="272"/>
                  </a:lnTo>
                  <a:lnTo>
                    <a:pt x="260" y="265"/>
                  </a:lnTo>
                  <a:lnTo>
                    <a:pt x="226" y="256"/>
                  </a:lnTo>
                  <a:lnTo>
                    <a:pt x="195" y="244"/>
                  </a:lnTo>
                  <a:lnTo>
                    <a:pt x="163" y="228"/>
                  </a:lnTo>
                  <a:lnTo>
                    <a:pt x="136" y="215"/>
                  </a:lnTo>
                  <a:lnTo>
                    <a:pt x="108" y="196"/>
                  </a:lnTo>
                  <a:lnTo>
                    <a:pt x="86" y="176"/>
                  </a:lnTo>
                  <a:lnTo>
                    <a:pt x="63" y="155"/>
                  </a:lnTo>
                  <a:lnTo>
                    <a:pt x="45" y="133"/>
                  </a:lnTo>
                  <a:lnTo>
                    <a:pt x="29" y="108"/>
                  </a:lnTo>
                  <a:lnTo>
                    <a:pt x="18" y="82"/>
                  </a:lnTo>
                  <a:lnTo>
                    <a:pt x="9" y="57"/>
                  </a:lnTo>
                  <a:lnTo>
                    <a:pt x="2" y="3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88120" y="4956120"/>
              <a:ext cx="436320" cy="452520"/>
            </a:xfrm>
            <a:custGeom>
              <a:avLst/>
              <a:gdLst/>
              <a:ahLst/>
              <a:rect l="l" t="t" r="r" b="b"/>
              <a:pathLst>
                <a:path w="275" h="285">
                  <a:moveTo>
                    <a:pt x="206" y="0"/>
                  </a:moveTo>
                  <a:lnTo>
                    <a:pt x="206" y="71"/>
                  </a:lnTo>
                  <a:lnTo>
                    <a:pt x="0" y="71"/>
                  </a:lnTo>
                  <a:lnTo>
                    <a:pt x="0" y="214"/>
                  </a:lnTo>
                  <a:lnTo>
                    <a:pt x="206" y="214"/>
                  </a:lnTo>
                  <a:lnTo>
                    <a:pt x="206" y="285"/>
                  </a:lnTo>
                  <a:lnTo>
                    <a:pt x="275" y="142"/>
                  </a:lnTo>
                  <a:lnTo>
                    <a:pt x="20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129000" y="4979880"/>
              <a:ext cx="1067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Modell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Ergebniss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1266840" y="1676520"/>
            <a:ext cx="2158560" cy="580680"/>
            <a:chOff x="1266840" y="1676520"/>
            <a:chExt cx="2158560" cy="580680"/>
          </a:xfrm>
        </p:grpSpPr>
        <p:grpSp>
          <p:nvGrpSpPr>
            <p:cNvPr id="611" name=""/>
            <p:cNvGrpSpPr/>
            <p:nvPr/>
          </p:nvGrpSpPr>
          <p:grpSpPr>
            <a:xfrm>
              <a:off x="1266840" y="1690560"/>
              <a:ext cx="2158560" cy="542520"/>
              <a:chOff x="1266840" y="1690560"/>
              <a:chExt cx="2158560" cy="54252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1266840" y="1690560"/>
                <a:ext cx="2158560" cy="542520"/>
                <a:chOff x="1266840" y="1690560"/>
                <a:chExt cx="2158560" cy="54252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1266840" y="1690560"/>
                  <a:ext cx="2158560" cy="542520"/>
                </a:xfrm>
                <a:custGeom>
                  <a:avLst/>
                  <a:gdLst>
                    <a:gd name="textAreaLeft" fmla="*/ 0 w 2158560"/>
                    <a:gd name="textAreaRight" fmla="*/ 2158920 w 2158560"/>
                    <a:gd name="textAreaTop" fmla="*/ 0 h 542520"/>
                    <a:gd name="textAreaBottom" fmla="*/ 542880 h 542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446840" y="1746720"/>
                  <a:ext cx="169200" cy="33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5" name=""/>
              <p:cNvSpPr/>
              <p:nvPr/>
            </p:nvSpPr>
            <p:spPr>
              <a:xfrm>
                <a:off x="1273320" y="175572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"/>
            <p:cNvSpPr/>
            <p:nvPr/>
          </p:nvSpPr>
          <p:spPr>
            <a:xfrm>
              <a:off x="1295640" y="1676520"/>
              <a:ext cx="1750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scharf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fgabenstell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1266840" y="2486160"/>
            <a:ext cx="2158920" cy="580680"/>
            <a:chOff x="1266840" y="2486160"/>
            <a:chExt cx="2158920" cy="580680"/>
          </a:xfrm>
        </p:grpSpPr>
        <p:grpSp>
          <p:nvGrpSpPr>
            <p:cNvPr id="618" name=""/>
            <p:cNvGrpSpPr/>
            <p:nvPr/>
          </p:nvGrpSpPr>
          <p:grpSpPr>
            <a:xfrm>
              <a:off x="1266840" y="2506680"/>
              <a:ext cx="2158920" cy="542880"/>
              <a:chOff x="1266840" y="2506680"/>
              <a:chExt cx="2158920" cy="542880"/>
            </a:xfrm>
          </p:grpSpPr>
          <p:sp>
            <p:nvSpPr>
              <p:cNvPr id="619" name=""/>
              <p:cNvSpPr/>
              <p:nvPr/>
            </p:nvSpPr>
            <p:spPr>
              <a:xfrm>
                <a:off x="1266840" y="2506680"/>
                <a:ext cx="2158920" cy="542880"/>
              </a:xfrm>
              <a:custGeom>
                <a:avLst/>
                <a:gdLst>
                  <a:gd name="textAreaLeft" fmla="*/ 0 w 2158920"/>
                  <a:gd name="textAreaRight" fmla="*/ 2159280 w 215892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266840" y="258444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1296720" y="2486160"/>
              <a:ext cx="1694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issen über d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a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1266840" y="3314880"/>
            <a:ext cx="2158560" cy="580680"/>
            <a:chOff x="1266840" y="3314880"/>
            <a:chExt cx="2158560" cy="580680"/>
          </a:xfrm>
        </p:grpSpPr>
        <p:grpSp>
          <p:nvGrpSpPr>
            <p:cNvPr id="623" name=""/>
            <p:cNvGrpSpPr/>
            <p:nvPr/>
          </p:nvGrpSpPr>
          <p:grpSpPr>
            <a:xfrm>
              <a:off x="1266840" y="3321000"/>
              <a:ext cx="2158560" cy="544320"/>
              <a:chOff x="1266840" y="3321000"/>
              <a:chExt cx="2158560" cy="54432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1266840" y="3321000"/>
                <a:ext cx="2158560" cy="544320"/>
                <a:chOff x="1266840" y="3321000"/>
                <a:chExt cx="2158560" cy="54432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1266840" y="3321000"/>
                  <a:ext cx="2158560" cy="544320"/>
                </a:xfrm>
                <a:custGeom>
                  <a:avLst/>
                  <a:gdLst>
                    <a:gd name="textAreaLeft" fmla="*/ 0 w 2158560"/>
                    <a:gd name="textAreaRight" fmla="*/ 2158920 w 2158560"/>
                    <a:gd name="textAreaTop" fmla="*/ 0 h 544320"/>
                    <a:gd name="textAreaBottom" fmla="*/ 544680 h 544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1273680" y="3321000"/>
                  <a:ext cx="1786680" cy="30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1273320" y="3411360"/>
                <a:ext cx="1839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1296000" y="3314880"/>
              <a:ext cx="151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odellierung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ethod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266840" y="4137120"/>
            <a:ext cx="2158920" cy="542880"/>
            <a:chOff x="1266840" y="4137120"/>
            <a:chExt cx="2158920" cy="542880"/>
          </a:xfrm>
        </p:grpSpPr>
        <p:grpSp>
          <p:nvGrpSpPr>
            <p:cNvPr id="630" name=""/>
            <p:cNvGrpSpPr/>
            <p:nvPr/>
          </p:nvGrpSpPr>
          <p:grpSpPr>
            <a:xfrm>
              <a:off x="1266840" y="4137120"/>
              <a:ext cx="2158920" cy="542880"/>
              <a:chOff x="1266840" y="4137120"/>
              <a:chExt cx="2158920" cy="542880"/>
            </a:xfrm>
          </p:grpSpPr>
          <p:sp>
            <p:nvSpPr>
              <p:cNvPr id="631" name=""/>
              <p:cNvSpPr/>
              <p:nvPr/>
            </p:nvSpPr>
            <p:spPr>
              <a:xfrm>
                <a:off x="1266840" y="4137120"/>
                <a:ext cx="2158920" cy="542880"/>
              </a:xfrm>
              <a:custGeom>
                <a:avLst/>
                <a:gdLst>
                  <a:gd name="textAreaLeft" fmla="*/ 0 w 2158920"/>
                  <a:gd name="textAreaRight" fmla="*/ 2159280 w 215892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273320" y="4230720"/>
                <a:ext cx="183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1295280" y="4238640"/>
              <a:ext cx="181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ösungstechnik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1266840" y="4952880"/>
            <a:ext cx="2158920" cy="542880"/>
            <a:chOff x="1266840" y="4952880"/>
            <a:chExt cx="2158920" cy="542880"/>
          </a:xfrm>
        </p:grpSpPr>
        <p:sp>
          <p:nvSpPr>
            <p:cNvPr id="635" name=""/>
            <p:cNvSpPr/>
            <p:nvPr/>
          </p:nvSpPr>
          <p:spPr>
            <a:xfrm>
              <a:off x="1266840" y="4952880"/>
              <a:ext cx="2158920" cy="54288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287720" y="5057640"/>
              <a:ext cx="171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perimentda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633840" y="1617840"/>
            <a:ext cx="1834920" cy="672480"/>
            <a:chOff x="3633840" y="1617840"/>
            <a:chExt cx="1834920" cy="672480"/>
          </a:xfrm>
        </p:grpSpPr>
        <p:sp>
          <p:nvSpPr>
            <p:cNvPr id="638" name=""/>
            <p:cNvSpPr/>
            <p:nvPr/>
          </p:nvSpPr>
          <p:spPr>
            <a:xfrm>
              <a:off x="3633840" y="1617840"/>
              <a:ext cx="1834920" cy="6346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633840" y="1617840"/>
              <a:ext cx="1834920" cy="63468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676680" y="1647720"/>
              <a:ext cx="175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Problem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3633840" y="2433600"/>
            <a:ext cx="1834920" cy="647280"/>
            <a:chOff x="3633840" y="2433600"/>
            <a:chExt cx="1834920" cy="647280"/>
          </a:xfrm>
        </p:grpSpPr>
        <p:sp>
          <p:nvSpPr>
            <p:cNvPr id="642" name=""/>
            <p:cNvSpPr/>
            <p:nvPr/>
          </p:nvSpPr>
          <p:spPr>
            <a:xfrm>
              <a:off x="3633840" y="2433600"/>
              <a:ext cx="1834920" cy="635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633840" y="2433600"/>
              <a:ext cx="1834920" cy="63504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657600" y="2438280"/>
              <a:ext cx="175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System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analy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3581280" y="3238560"/>
            <a:ext cx="1981440" cy="644400"/>
            <a:chOff x="3581280" y="3238560"/>
            <a:chExt cx="1981440" cy="644400"/>
          </a:xfrm>
        </p:grpSpPr>
        <p:sp>
          <p:nvSpPr>
            <p:cNvPr id="646" name=""/>
            <p:cNvSpPr/>
            <p:nvPr/>
          </p:nvSpPr>
          <p:spPr>
            <a:xfrm>
              <a:off x="3633840" y="3247920"/>
              <a:ext cx="1834920" cy="635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633840" y="3247920"/>
              <a:ext cx="1834920" cy="63504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581280" y="323856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Modell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formalisier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633840" y="4064040"/>
            <a:ext cx="1834920" cy="655200"/>
            <a:chOff x="3633840" y="4064040"/>
            <a:chExt cx="1834920" cy="655200"/>
          </a:xfrm>
        </p:grpSpPr>
        <p:sp>
          <p:nvSpPr>
            <p:cNvPr id="650" name=""/>
            <p:cNvSpPr/>
            <p:nvPr/>
          </p:nvSpPr>
          <p:spPr>
            <a:xfrm>
              <a:off x="3633840" y="4064040"/>
              <a:ext cx="1834920" cy="635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633840" y="4064040"/>
              <a:ext cx="1834920" cy="63504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666960" y="4076640"/>
              <a:ext cx="175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Implementier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3633840" y="4879800"/>
            <a:ext cx="1834920" cy="635040"/>
            <a:chOff x="3633840" y="4879800"/>
            <a:chExt cx="1834920" cy="635040"/>
          </a:xfrm>
        </p:grpSpPr>
        <p:sp>
          <p:nvSpPr>
            <p:cNvPr id="654" name=""/>
            <p:cNvSpPr/>
            <p:nvPr/>
          </p:nvSpPr>
          <p:spPr>
            <a:xfrm>
              <a:off x="3633840" y="4879800"/>
              <a:ext cx="1834920" cy="635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633840" y="4879800"/>
              <a:ext cx="1834920" cy="63504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657600" y="5029200"/>
              <a:ext cx="17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xperi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4008600" y="4700520"/>
            <a:ext cx="1176120" cy="231840"/>
          </a:xfrm>
          <a:custGeom>
            <a:avLst/>
            <a:gdLst/>
            <a:ahLst/>
            <a:rect l="l" t="t" r="r" b="b"/>
            <a:pathLst>
              <a:path w="680" h="122">
                <a:moveTo>
                  <a:pt x="340" y="122"/>
                </a:moveTo>
                <a:lnTo>
                  <a:pt x="680" y="0"/>
                </a:lnTo>
                <a:lnTo>
                  <a:pt x="0" y="0"/>
                </a:lnTo>
                <a:lnTo>
                  <a:pt x="340" y="122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014720" y="3865680"/>
            <a:ext cx="1176480" cy="230040"/>
          </a:xfrm>
          <a:custGeom>
            <a:avLst/>
            <a:gdLst/>
            <a:ahLst/>
            <a:rect l="l" t="t" r="r" b="b"/>
            <a:pathLst>
              <a:path w="680" h="122">
                <a:moveTo>
                  <a:pt x="340" y="122"/>
                </a:moveTo>
                <a:lnTo>
                  <a:pt x="680" y="0"/>
                </a:lnTo>
                <a:lnTo>
                  <a:pt x="0" y="0"/>
                </a:lnTo>
                <a:lnTo>
                  <a:pt x="340" y="122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014720" y="3049560"/>
            <a:ext cx="1176480" cy="230040"/>
          </a:xfrm>
          <a:custGeom>
            <a:avLst/>
            <a:gdLst/>
            <a:ahLst/>
            <a:rect l="l" t="t" r="r" b="b"/>
            <a:pathLst>
              <a:path w="680" h="122">
                <a:moveTo>
                  <a:pt x="340" y="122"/>
                </a:moveTo>
                <a:lnTo>
                  <a:pt x="680" y="0"/>
                </a:lnTo>
                <a:lnTo>
                  <a:pt x="0" y="0"/>
                </a:lnTo>
                <a:lnTo>
                  <a:pt x="340" y="122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014720" y="2233440"/>
            <a:ext cx="1176480" cy="231840"/>
          </a:xfrm>
          <a:custGeom>
            <a:avLst/>
            <a:gdLst/>
            <a:ahLst/>
            <a:rect l="l" t="t" r="r" b="b"/>
            <a:pathLst>
              <a:path w="680" h="122">
                <a:moveTo>
                  <a:pt x="340" y="122"/>
                </a:moveTo>
                <a:lnTo>
                  <a:pt x="680" y="0"/>
                </a:lnTo>
                <a:lnTo>
                  <a:pt x="0" y="0"/>
                </a:lnTo>
                <a:lnTo>
                  <a:pt x="340" y="122"/>
                </a:lnTo>
                <a:lnTo>
                  <a:pt x="340" y="122"/>
                </a:lnTo>
                <a:close/>
              </a:path>
            </a:pathLst>
          </a:custGeom>
          <a:noFill/>
          <a:ln w="1908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s Mode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29080" y="1790640"/>
            <a:ext cx="3886200" cy="32767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ied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nnzeichen komponentenbasierter Modelli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onenten: Modelle versus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lbildung: Fundame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: Modell-Kompon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nten komponentenbasierter Modellentwick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7010280" y="3429000"/>
            <a:ext cx="1524240" cy="152388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114800" y="3429000"/>
            <a:ext cx="1523880" cy="152388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581280" y="3962520"/>
            <a:ext cx="1524240" cy="152388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10280" y="2057400"/>
            <a:ext cx="152424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114800" y="2057400"/>
            <a:ext cx="1523880" cy="152388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581280" y="2590920"/>
            <a:ext cx="1524240" cy="152388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685800"/>
            <a:ext cx="1523880" cy="15238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048120" y="4495680"/>
            <a:ext cx="1523880" cy="152424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048120" y="3124080"/>
            <a:ext cx="1523880" cy="152424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581280" y="1219320"/>
            <a:ext cx="1524240" cy="15238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42900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029200" y="396252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562720" y="205740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029200" y="259092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562720" y="685800"/>
            <a:ext cx="1523880" cy="15238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495680" y="4495680"/>
            <a:ext cx="1524240" cy="1524240"/>
          </a:xfrm>
          <a:prstGeom prst="cube">
            <a:avLst>
              <a:gd name="adj" fmla="val 25000"/>
            </a:avLst>
          </a:prstGeom>
          <a:solidFill>
            <a:srgbClr val="ff99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495680" y="3124080"/>
            <a:ext cx="1524240" cy="152424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029200" y="1219320"/>
            <a:ext cx="1523880" cy="15238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809880" y="1371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257800" y="1371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086600" y="1600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5288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6705720" y="2590920"/>
            <a:ext cx="1143000" cy="1295280"/>
            <a:chOff x="6705720" y="2590920"/>
            <a:chExt cx="1143000" cy="1295280"/>
          </a:xfrm>
        </p:grpSpPr>
        <p:sp>
          <p:nvSpPr>
            <p:cNvPr id="686" name=""/>
            <p:cNvSpPr/>
            <p:nvPr/>
          </p:nvSpPr>
          <p:spPr>
            <a:xfrm>
              <a:off x="6705720" y="27432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7086600" y="25909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48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6705720" y="1219320"/>
            <a:ext cx="1143000" cy="1295280"/>
            <a:chOff x="6705720" y="1219320"/>
            <a:chExt cx="1143000" cy="1295280"/>
          </a:xfrm>
        </p:grpSpPr>
        <p:sp>
          <p:nvSpPr>
            <p:cNvPr id="690" name=""/>
            <p:cNvSpPr/>
            <p:nvPr/>
          </p:nvSpPr>
          <p:spPr>
            <a:xfrm>
              <a:off x="6705720" y="13716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086600" y="12193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848720" y="13716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64008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6705720" y="3962520"/>
            <a:ext cx="1143000" cy="1295280"/>
            <a:chOff x="6705720" y="3962520"/>
            <a:chExt cx="1143000" cy="1295280"/>
          </a:xfrm>
        </p:grpSpPr>
        <p:sp>
          <p:nvSpPr>
            <p:cNvPr id="695" name=""/>
            <p:cNvSpPr/>
            <p:nvPr/>
          </p:nvSpPr>
          <p:spPr>
            <a:xfrm>
              <a:off x="6705720" y="4114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7086600" y="39625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848720" y="41148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6477120" y="396252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010280" y="685800"/>
            <a:ext cx="1524240" cy="15238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943600" y="4495680"/>
            <a:ext cx="1523880" cy="152424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6172200" y="685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934320" y="838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17220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533520" y="2438280"/>
            <a:ext cx="2361960" cy="3416400"/>
            <a:chOff x="533520" y="2438280"/>
            <a:chExt cx="2361960" cy="3416400"/>
          </a:xfrm>
        </p:grpSpPr>
        <p:sp>
          <p:nvSpPr>
            <p:cNvPr id="705" name=""/>
            <p:cNvSpPr/>
            <p:nvPr/>
          </p:nvSpPr>
          <p:spPr>
            <a:xfrm>
              <a:off x="609480" y="24382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onzeptionelles Mod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533520" y="3657600"/>
              <a:ext cx="2057400" cy="2197080"/>
              <a:chOff x="533520" y="3657600"/>
              <a:chExt cx="2057400" cy="2197080"/>
            </a:xfrm>
          </p:grpSpPr>
          <p:sp>
            <p:nvSpPr>
              <p:cNvPr id="707" name=""/>
              <p:cNvSpPr/>
              <p:nvPr/>
            </p:nvSpPr>
            <p:spPr>
              <a:xfrm>
                <a:off x="533520" y="3657600"/>
                <a:ext cx="2057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ormales Mode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33520" y="5029200"/>
                <a:ext cx="2057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usführbares Mode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9" name=""/>
          <p:cNvGrpSpPr/>
          <p:nvPr/>
        </p:nvGrpSpPr>
        <p:grpSpPr>
          <a:xfrm>
            <a:off x="0" y="152280"/>
            <a:ext cx="4343400" cy="1907640"/>
            <a:chOff x="0" y="152280"/>
            <a:chExt cx="4343400" cy="1907640"/>
          </a:xfrm>
        </p:grpSpPr>
        <p:sp>
          <p:nvSpPr>
            <p:cNvPr id="710" name=""/>
            <p:cNvSpPr/>
            <p:nvPr/>
          </p:nvSpPr>
          <p:spPr>
            <a:xfrm>
              <a:off x="1143000" y="1600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ystemebe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371600" y="11430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systemebe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600200" y="6094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subsystemebe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533520" y="304920"/>
              <a:ext cx="1218960" cy="1676160"/>
            </a:xfrm>
            <a:prstGeom prst="line">
              <a:avLst/>
            </a:prstGeom>
            <a:ln w="73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0" y="1522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uflös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4343400" y="76320"/>
            <a:ext cx="5257800" cy="459720"/>
            <a:chOff x="4343400" y="76320"/>
            <a:chExt cx="5257800" cy="459720"/>
          </a:xfrm>
        </p:grpSpPr>
        <p:sp>
          <p:nvSpPr>
            <p:cNvPr id="716" name=""/>
            <p:cNvSpPr/>
            <p:nvPr/>
          </p:nvSpPr>
          <p:spPr>
            <a:xfrm>
              <a:off x="7391520" y="763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ynt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867280" y="76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manti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343400" y="763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agmati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5791320" y="838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343400" y="838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724280" y="6858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486400" y="838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72428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7238880" y="685800"/>
            <a:ext cx="1295640" cy="1295280"/>
            <a:chOff x="7238880" y="685800"/>
            <a:chExt cx="1295640" cy="1295280"/>
          </a:xfrm>
        </p:grpSpPr>
        <p:grpSp>
          <p:nvGrpSpPr>
            <p:cNvPr id="725" name=""/>
            <p:cNvGrpSpPr/>
            <p:nvPr/>
          </p:nvGrpSpPr>
          <p:grpSpPr>
            <a:xfrm>
              <a:off x="7238880" y="685800"/>
              <a:ext cx="1143000" cy="1295280"/>
              <a:chOff x="7238880" y="685800"/>
              <a:chExt cx="1143000" cy="129528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7238880" y="685800"/>
                <a:ext cx="1143000" cy="1295280"/>
                <a:chOff x="7238880" y="685800"/>
                <a:chExt cx="1143000" cy="129528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7238880" y="83808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flipV="1">
                  <a:off x="7619760" y="685800"/>
                  <a:ext cx="38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8381880" y="83808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0" name=""/>
              <p:cNvSpPr/>
              <p:nvPr/>
            </p:nvSpPr>
            <p:spPr>
              <a:xfrm>
                <a:off x="7619760" y="10666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 flipH="1">
              <a:off x="8000640" y="1600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8153280" y="121932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3048120" y="1752480"/>
            <a:ext cx="1523880" cy="15242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05720" y="1371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848720" y="1371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84872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848720" y="4114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7467120" y="2743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746712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7238880" y="2057400"/>
            <a:ext cx="1295640" cy="1295280"/>
            <a:chOff x="7238880" y="2057400"/>
            <a:chExt cx="1295640" cy="1295280"/>
          </a:xfrm>
        </p:grpSpPr>
        <p:grpSp>
          <p:nvGrpSpPr>
            <p:cNvPr id="741" name=""/>
            <p:cNvGrpSpPr/>
            <p:nvPr/>
          </p:nvGrpSpPr>
          <p:grpSpPr>
            <a:xfrm>
              <a:off x="7238880" y="2057400"/>
              <a:ext cx="1143000" cy="1295280"/>
              <a:chOff x="7238880" y="2057400"/>
              <a:chExt cx="1143000" cy="1295280"/>
            </a:xfrm>
          </p:grpSpPr>
          <p:grpSp>
            <p:nvGrpSpPr>
              <p:cNvPr id="742" name=""/>
              <p:cNvGrpSpPr/>
              <p:nvPr/>
            </p:nvGrpSpPr>
            <p:grpSpPr>
              <a:xfrm>
                <a:off x="7238880" y="2057400"/>
                <a:ext cx="1143000" cy="1295280"/>
                <a:chOff x="7238880" y="2057400"/>
                <a:chExt cx="1143000" cy="129528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7238880" y="220968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 flipV="1">
                  <a:off x="7619760" y="2057400"/>
                  <a:ext cx="38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8381880" y="220968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6" name=""/>
              <p:cNvSpPr/>
              <p:nvPr/>
            </p:nvSpPr>
            <p:spPr>
              <a:xfrm>
                <a:off x="7619760" y="24382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 flipH="1">
              <a:off x="8000640" y="2971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8153280" y="259092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7238880" y="3429000"/>
            <a:ext cx="1295640" cy="1295280"/>
            <a:chOff x="7238880" y="3429000"/>
            <a:chExt cx="1295640" cy="1295280"/>
          </a:xfrm>
        </p:grpSpPr>
        <p:grpSp>
          <p:nvGrpSpPr>
            <p:cNvPr id="750" name=""/>
            <p:cNvGrpSpPr/>
            <p:nvPr/>
          </p:nvGrpSpPr>
          <p:grpSpPr>
            <a:xfrm>
              <a:off x="7238880" y="3429000"/>
              <a:ext cx="1143000" cy="1295280"/>
              <a:chOff x="7238880" y="3429000"/>
              <a:chExt cx="1143000" cy="1295280"/>
            </a:xfrm>
          </p:grpSpPr>
          <p:grpSp>
            <p:nvGrpSpPr>
              <p:cNvPr id="751" name=""/>
              <p:cNvGrpSpPr/>
              <p:nvPr/>
            </p:nvGrpSpPr>
            <p:grpSpPr>
              <a:xfrm>
                <a:off x="7238880" y="3429000"/>
                <a:ext cx="1143000" cy="1295280"/>
                <a:chOff x="7238880" y="3429000"/>
                <a:chExt cx="1143000" cy="129528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7238880" y="358128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V="1">
                  <a:off x="7619760" y="3429000"/>
                  <a:ext cx="38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8381880" y="3581280"/>
                  <a:ext cx="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5" name=""/>
              <p:cNvSpPr/>
              <p:nvPr/>
            </p:nvSpPr>
            <p:spPr>
              <a:xfrm>
                <a:off x="7619760" y="38098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 flipH="1">
              <a:off x="8000640" y="4343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8153280" y="396252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6477120" y="2590920"/>
            <a:ext cx="1523880" cy="152388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943600" y="3124080"/>
            <a:ext cx="1523880" cy="1524240"/>
          </a:xfrm>
          <a:prstGeom prst="cube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477120" y="1219320"/>
            <a:ext cx="1523880" cy="15238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943600" y="1752480"/>
            <a:ext cx="1523880" cy="15242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1371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848720" y="1371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84872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7467120" y="2743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495680" y="1752480"/>
            <a:ext cx="1524240" cy="15242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2971800" y="952200"/>
            <a:ext cx="2057400" cy="2999160"/>
            <a:chOff x="2971800" y="952200"/>
            <a:chExt cx="2057400" cy="2999160"/>
          </a:xfrm>
        </p:grpSpPr>
        <p:sp>
          <p:nvSpPr>
            <p:cNvPr id="768" name=""/>
            <p:cNvSpPr/>
            <p:nvPr/>
          </p:nvSpPr>
          <p:spPr>
            <a:xfrm>
              <a:off x="2971800" y="2286000"/>
              <a:ext cx="1219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usgangs-punk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3429000" y="952200"/>
              <a:ext cx="1600200" cy="2999160"/>
              <a:chOff x="3429000" y="952200"/>
              <a:chExt cx="1600200" cy="2999160"/>
            </a:xfrm>
          </p:grpSpPr>
          <p:sp>
            <p:nvSpPr>
              <p:cNvPr id="770" name=""/>
              <p:cNvSpPr/>
              <p:nvPr/>
            </p:nvSpPr>
            <p:spPr>
              <a:xfrm>
                <a:off x="3429000" y="3265560"/>
                <a:ext cx="380880" cy="685800"/>
              </a:xfrm>
              <a:prstGeom prst="downArrow">
                <a:avLst>
                  <a:gd name="adj1" fmla="val 50000"/>
                  <a:gd name="adj2" fmla="val 4501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191120" y="2427120"/>
                <a:ext cx="838080" cy="381240"/>
              </a:xfrm>
              <a:prstGeom prst="rightArrow">
                <a:avLst>
                  <a:gd name="adj1" fmla="val 50000"/>
                  <a:gd name="adj2" fmla="val 54958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12879600">
                <a:off x="4149720" y="990000"/>
                <a:ext cx="393840" cy="834840"/>
              </a:xfrm>
              <a:prstGeom prst="downArrow">
                <a:avLst>
                  <a:gd name="adj1" fmla="val 50000"/>
                  <a:gd name="adj2" fmla="val 5299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ied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nnzeichen komponentenbasierter Modelli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onenten: Modelle versus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lbildung: Fundame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finition: Modell-Kompon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nten komponentenbasierter Modellentwick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4764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omponentendefinition für die Modellbild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713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ine Komponente ist die modellhafte Abstraktion eines über problemspezifisch definierte Grenzen bestimmten Konzeptes (strukturell und/oder prozessual)  mit dem Ziel der erfolgreichen Kombination mit anderen Komponen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4764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lhafte Abstraktion eines Konzept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rundlage aller Modellbildung ist Abstrak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onzepte dienen zur Beschreibung 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statischer und dynamischer Eigenschaften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der zu modellierenden Syst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4764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lhafte Abstraktion eines Konzep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90440" y="182844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riff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lle Produkte der Modellieru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pezifikationen, Dokumentationen usw.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besondere kann sie sich al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onzeptionelles, formales oder ausführbares Mod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nifestiere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Abstraktion bestimmt problemorientiert auch di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ranularitä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 Mod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4764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Über problemspezifisch definierte Grenzen bestimm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Zerlegung eines zu modellierenden Systems ist stets abhängig von der Problemstel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Komponentengrenzen ergeben sich aus einer problemspezifische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kompositionsrichtu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d einer dafür gewählte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kompositions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4764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Über problemspezifisch definierte Grenzen bestimm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er Regel legen die Probleme auch di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omä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r Dekomposition fes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den Grenzen werden auch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ber- und Untersyste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iert (Randbedingungen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t dem Ziel der erfolgreichen Kombination mit anderen Komponen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ls Komponenten werden nur Artefakte bezeichnet, die nicht als „Stand alone“-Modell verwendet we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ombination dann erfolgreich, wenn sie 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</a:rPr>
              <a:t>zumindest eine </a:t>
            </a:r>
            <a:r>
              <a:rPr b="0" i="1" lang="de-DE" sz="3200" spc="-1" strike="noStrike">
                <a:solidFill>
                  <a:srgbClr val="ff0000"/>
                </a:solidFill>
                <a:latin typeface="Times New Roman"/>
              </a:rPr>
              <a:t>technisch, syntaktisch, semantisch und pragmatisch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</a:rPr>
              <a:t> korrekte, abgeschlossene Interaktionen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zwischen den Komponenten ermögli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ied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nnzeichen komponentenbasierter Modelli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onenten: Modelle versus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lbildung: Fundame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: Modell-Kompon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terminanten komponentenbasierter Modellentwick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ei Beispiele der Modellverwend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648320" y="1066680"/>
            <a:ext cx="3809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e hängt B von A ab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geschieht, wenn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müssen wir tun, um … zu erreich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914400" y="914400"/>
            <a:ext cx="2971800" cy="1450440"/>
            <a:chOff x="914400" y="914400"/>
            <a:chExt cx="2971800" cy="1450440"/>
          </a:xfrm>
        </p:grpSpPr>
        <p:sp>
          <p:nvSpPr>
            <p:cNvPr id="792" name=""/>
            <p:cNvSpPr/>
            <p:nvPr/>
          </p:nvSpPr>
          <p:spPr>
            <a:xfrm>
              <a:off x="1523880" y="1371600"/>
              <a:ext cx="175284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914400" y="167652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276720" y="167652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066680" y="12193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42900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828800" y="9144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od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752480" y="19051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naly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209680" y="1447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66680" y="1676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276720" y="1676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914400" y="2666880"/>
            <a:ext cx="2971800" cy="1526760"/>
            <a:chOff x="914400" y="2666880"/>
            <a:chExt cx="2971800" cy="1526760"/>
          </a:xfrm>
        </p:grpSpPr>
        <p:sp>
          <p:nvSpPr>
            <p:cNvPr id="803" name=""/>
            <p:cNvSpPr/>
            <p:nvPr/>
          </p:nvSpPr>
          <p:spPr>
            <a:xfrm>
              <a:off x="1523880" y="3124080"/>
              <a:ext cx="1752840" cy="609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914400" y="342900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276720" y="342900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066680" y="2971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429000" y="2971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828800" y="26668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od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600200" y="37339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rogno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914400" y="4495680"/>
            <a:ext cx="2971800" cy="1450440"/>
            <a:chOff x="914400" y="4495680"/>
            <a:chExt cx="2971800" cy="1450440"/>
          </a:xfrm>
        </p:grpSpPr>
        <p:sp>
          <p:nvSpPr>
            <p:cNvPr id="811" name=""/>
            <p:cNvSpPr/>
            <p:nvPr/>
          </p:nvSpPr>
          <p:spPr>
            <a:xfrm>
              <a:off x="1523880" y="4952880"/>
              <a:ext cx="1752840" cy="609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914400" y="5257800"/>
              <a:ext cx="609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276720" y="5257800"/>
              <a:ext cx="609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066680" y="48006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429000" y="4800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828800" y="44956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od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523880" y="54864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ptimi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ied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Kennzeichen komponentenbasierter Modelli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onenten: Modelle versus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lbildung: Fundame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: Modell-Kompon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nten komponentenbasierter Modellentwick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ispiele für den Fokus der Modelli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cherh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uverläss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lebig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exibilitä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nfache Bedienbarkei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ür Ausbildungszweck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kompositionsricht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ealität zu komplex um unabhängig von speziellen Problemstellungen und Zielen modelliert zu werd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ein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General Problem Solve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ein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ilver Bullet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 Sic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ichtung der Zerlegung eines Systems in Subsysteme daher stets abhängig v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omänenspezifischem Probl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Modellierungsfoku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Modellverwendung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kompositionsstrategi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kompositionsstrategien lege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thode der Systemzerlegu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est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eben der offensichtlichen funktionalen Strategie gibt es viele andere (nächste Foli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rgebnisse unterschiedlicher Strategi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könn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rotz erheblicher Abweichungen gleiches Problem löse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e sind deshalb jedoch nicht zwingend zueinander kompatibe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kompositionsstrategi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k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l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sche Zerlegung von (postulierten) System-Funk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l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legung von (postulierten) Datenstrukturen eine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ust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l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legung eines Systems auf der Basis (postulierte) Zustä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eign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l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legung eines Systems aufgrund seiner (p.) internen Interak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lau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l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zerlegung aufgrund seiner (postulierten) Dynam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l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zerlegung über (postulierte) Ursache-Wirkungsbezieh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k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l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zerlegung auf Basis (postulierter) Ob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infaches statisches Beispie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57200" y="1143000"/>
            <a:ext cx="61722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905120" y="1600200"/>
            <a:ext cx="53316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1219320" y="3429000"/>
            <a:ext cx="1752480" cy="914400"/>
            <a:chOff x="1219320" y="3429000"/>
            <a:chExt cx="1752480" cy="914400"/>
          </a:xfrm>
        </p:grpSpPr>
        <p:sp>
          <p:nvSpPr>
            <p:cNvPr id="830" name=""/>
            <p:cNvSpPr/>
            <p:nvPr/>
          </p:nvSpPr>
          <p:spPr>
            <a:xfrm>
              <a:off x="2438640" y="3962520"/>
              <a:ext cx="533160" cy="3808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219320" y="3429000"/>
              <a:ext cx="533520" cy="3808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048120" y="2133720"/>
            <a:ext cx="3124080" cy="3352680"/>
            <a:chOff x="3048120" y="2133720"/>
            <a:chExt cx="3124080" cy="3352680"/>
          </a:xfrm>
        </p:grpSpPr>
        <p:sp>
          <p:nvSpPr>
            <p:cNvPr id="833" name=""/>
            <p:cNvSpPr/>
            <p:nvPr/>
          </p:nvSpPr>
          <p:spPr>
            <a:xfrm>
              <a:off x="4267440" y="4876920"/>
              <a:ext cx="533160" cy="60948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" name=""/>
            <p:cNvGrpSpPr/>
            <p:nvPr/>
          </p:nvGrpSpPr>
          <p:grpSpPr>
            <a:xfrm>
              <a:off x="3048120" y="2133720"/>
              <a:ext cx="3124080" cy="1828800"/>
              <a:chOff x="3048120" y="2133720"/>
              <a:chExt cx="3124080" cy="1828800"/>
            </a:xfrm>
          </p:grpSpPr>
          <p:sp>
            <p:nvSpPr>
              <p:cNvPr id="835" name=""/>
              <p:cNvSpPr/>
              <p:nvPr/>
            </p:nvSpPr>
            <p:spPr>
              <a:xfrm>
                <a:off x="5562720" y="3124080"/>
                <a:ext cx="533520" cy="609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8120" y="3352680"/>
                <a:ext cx="533520" cy="609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715000" y="2133720"/>
                <a:ext cx="457200" cy="4572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8" name=""/>
          <p:cNvGrpSpPr/>
          <p:nvPr/>
        </p:nvGrpSpPr>
        <p:grpSpPr>
          <a:xfrm>
            <a:off x="609480" y="1676520"/>
            <a:ext cx="4038480" cy="3657600"/>
            <a:chOff x="609480" y="1676520"/>
            <a:chExt cx="4038480" cy="3657600"/>
          </a:xfrm>
        </p:grpSpPr>
        <p:sp>
          <p:nvSpPr>
            <p:cNvPr id="839" name=""/>
            <p:cNvSpPr/>
            <p:nvPr/>
          </p:nvSpPr>
          <p:spPr>
            <a:xfrm>
              <a:off x="3733560" y="2666880"/>
              <a:ext cx="4572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962160" y="16765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38280" y="2895480"/>
              <a:ext cx="4572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90760" y="3886200"/>
              <a:ext cx="4572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09480" y="259092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218960" y="46483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742840" y="4952880"/>
              <a:ext cx="533520" cy="3812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1676520" y="3809880"/>
            <a:ext cx="838080" cy="3812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495680" y="2057400"/>
            <a:ext cx="1143000" cy="11430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990720" y="3124080"/>
            <a:ext cx="380880" cy="4572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1600200" y="3200400"/>
            <a:ext cx="838080" cy="3808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4724280" y="3733920"/>
            <a:ext cx="990720" cy="12952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743200" y="4343400"/>
            <a:ext cx="16002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2666880" y="21337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590920" y="3352680"/>
            <a:ext cx="457200" cy="3812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 flipV="1">
            <a:off x="761760" y="3124080"/>
            <a:ext cx="685800" cy="1524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5" name=""/>
          <p:cNvCxnSpPr>
            <a:stCxn id="839" idx="2"/>
            <a:endCxn id="836" idx="3"/>
          </p:cNvCxnSpPr>
          <p:nvPr/>
        </p:nvCxnSpPr>
        <p:spPr>
          <a:xfrm flipH="1">
            <a:off x="3580560" y="3124080"/>
            <a:ext cx="381960" cy="5342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56" name=""/>
          <p:cNvSpPr/>
          <p:nvPr/>
        </p:nvSpPr>
        <p:spPr>
          <a:xfrm>
            <a:off x="6705720" y="1371600"/>
            <a:ext cx="22860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arbe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:   gemeinsame Daten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:        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feile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:               starke und schwache Wechselwirk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rlegung nach Da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600200" y="1143000"/>
            <a:ext cx="61722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590920" y="1523880"/>
            <a:ext cx="53316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1676520" y="1752480"/>
            <a:ext cx="1752480" cy="914400"/>
            <a:chOff x="1676520" y="1752480"/>
            <a:chExt cx="1752480" cy="914400"/>
          </a:xfrm>
        </p:grpSpPr>
        <p:sp>
          <p:nvSpPr>
            <p:cNvPr id="861" name=""/>
            <p:cNvSpPr/>
            <p:nvPr/>
          </p:nvSpPr>
          <p:spPr>
            <a:xfrm>
              <a:off x="2895840" y="2286000"/>
              <a:ext cx="533160" cy="3808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676520" y="1752480"/>
              <a:ext cx="533520" cy="3808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586728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781680" y="1295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943600" y="1295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819840" y="2133720"/>
            <a:ext cx="457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419720" y="2971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95288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581280" y="35812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181480" y="3429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343400" y="3809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733920" y="45720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343400" y="5029200"/>
            <a:ext cx="533520" cy="380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orientierte Zerleg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447920" y="1143000"/>
            <a:ext cx="61722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553080" y="3124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895480" y="1600200"/>
            <a:ext cx="53352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724280" y="26668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952880" y="16765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257800" y="4876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038480" y="3352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429000" y="2971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81480" y="39625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600200" y="2590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209680" y="46483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429000" y="3962520"/>
            <a:ext cx="53352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209680" y="3429000"/>
            <a:ext cx="53352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4571640" y="3428280"/>
            <a:ext cx="2248200" cy="1448640"/>
            <a:chOff x="4571640" y="3428280"/>
            <a:chExt cx="2248200" cy="1448640"/>
          </a:xfrm>
        </p:grpSpPr>
        <p:cxnSp>
          <p:nvCxnSpPr>
            <p:cNvPr id="889" name=""/>
            <p:cNvCxnSpPr>
              <a:stCxn id="881" idx="3"/>
              <a:endCxn id="876" idx="1"/>
            </p:cNvCxnSpPr>
            <p:nvPr/>
          </p:nvCxnSpPr>
          <p:spPr>
            <a:xfrm flipV="1">
              <a:off x="4571640" y="3428280"/>
              <a:ext cx="1981800" cy="2293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890" name=""/>
            <p:cNvCxnSpPr>
              <a:stCxn id="876" idx="2"/>
              <a:endCxn id="880" idx="0"/>
            </p:cNvCxnSpPr>
            <p:nvPr/>
          </p:nvCxnSpPr>
          <p:spPr>
            <a:xfrm rot="5400000">
              <a:off x="5600160" y="3657600"/>
              <a:ext cx="1143720" cy="1296000"/>
            </a:xfrm>
            <a:prstGeom prst="curvedConnector5">
              <a:avLst>
                <a:gd name="adj1" fmla="val 50000"/>
                <a:gd name="adj2" fmla="val 49986"/>
                <a:gd name="adj3" fmla="val 50000"/>
              </a:avLst>
            </a:prstGeom>
            <a:ln w="38160">
              <a:solidFill>
                <a:srgbClr val="000000"/>
              </a:solidFill>
              <a:prstDash val="dash"/>
              <a:miter/>
            </a:ln>
          </p:spPr>
        </p:cxnSp>
      </p:grpSp>
      <p:grpSp>
        <p:nvGrpSpPr>
          <p:cNvPr id="891" name=""/>
          <p:cNvGrpSpPr/>
          <p:nvPr/>
        </p:nvGrpSpPr>
        <p:grpSpPr>
          <a:xfrm>
            <a:off x="1865880" y="1447560"/>
            <a:ext cx="3353760" cy="3201120"/>
            <a:chOff x="1865880" y="1447560"/>
            <a:chExt cx="3353760" cy="3201120"/>
          </a:xfrm>
        </p:grpSpPr>
        <p:cxnSp>
          <p:nvCxnSpPr>
            <p:cNvPr id="892" name=""/>
            <p:cNvCxnSpPr>
              <a:stCxn id="884" idx="4"/>
              <a:endCxn id="885" idx="0"/>
            </p:cNvCxnSpPr>
            <p:nvPr/>
          </p:nvCxnSpPr>
          <p:spPr>
            <a:xfrm flipH="1" rot="16200000">
              <a:off x="1408680" y="3581280"/>
              <a:ext cx="1524960" cy="610200"/>
            </a:xfrm>
            <a:prstGeom prst="curvedConnector5">
              <a:avLst>
                <a:gd name="adj1" fmla="val 49988"/>
                <a:gd name="adj2" fmla="val 50000"/>
                <a:gd name="adj3" fmla="val 49988"/>
              </a:avLst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893" name=""/>
            <p:cNvCxnSpPr>
              <a:stCxn id="884" idx="7"/>
              <a:endCxn id="879" idx="0"/>
            </p:cNvCxnSpPr>
            <p:nvPr/>
          </p:nvCxnSpPr>
          <p:spPr>
            <a:xfrm flipH="1" flipV="1" rot="5400000">
              <a:off x="3141000" y="590040"/>
              <a:ext cx="992880" cy="3164760"/>
            </a:xfrm>
            <a:prstGeom prst="curvedConnector5">
              <a:avLst>
                <a:gd name="adj1" fmla="val 123032"/>
                <a:gd name="adj2" fmla="val 50000"/>
                <a:gd name="adj3" fmla="val 123032"/>
              </a:avLst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  <p:sp>
        <p:nvSpPr>
          <p:cNvPr id="894" name=""/>
          <p:cNvSpPr/>
          <p:nvPr/>
        </p:nvSpPr>
        <p:spPr>
          <a:xfrm>
            <a:off x="6705720" y="2133720"/>
            <a:ext cx="457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733920" y="4952880"/>
            <a:ext cx="533160" cy="3812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2475720" y="1981080"/>
            <a:ext cx="1524960" cy="2971800"/>
            <a:chOff x="2475720" y="1981080"/>
            <a:chExt cx="1524960" cy="2971800"/>
          </a:xfrm>
        </p:grpSpPr>
        <p:cxnSp>
          <p:nvCxnSpPr>
            <p:cNvPr id="897" name=""/>
            <p:cNvCxnSpPr>
              <a:stCxn id="877" idx="3"/>
              <a:endCxn id="887" idx="0"/>
            </p:cNvCxnSpPr>
            <p:nvPr/>
          </p:nvCxnSpPr>
          <p:spPr>
            <a:xfrm rot="5400000">
              <a:off x="2094480" y="2361960"/>
              <a:ext cx="1448640" cy="686520"/>
            </a:xfrm>
            <a:prstGeom prst="curvedConnector5">
              <a:avLst>
                <a:gd name="adj1" fmla="val 49987"/>
                <a:gd name="adj2" fmla="val 50000"/>
                <a:gd name="adj3" fmla="val 49987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898" name=""/>
            <p:cNvCxnSpPr>
              <a:stCxn id="887" idx="4"/>
              <a:endCxn id="886" idx="1"/>
            </p:cNvCxnSpPr>
            <p:nvPr/>
          </p:nvCxnSpPr>
          <p:spPr>
            <a:xfrm flipH="1" rot="16200000">
              <a:off x="2980080" y="3571560"/>
              <a:ext cx="343800" cy="8197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899" name=""/>
            <p:cNvCxnSpPr>
              <a:stCxn id="886" idx="3"/>
              <a:endCxn id="895" idx="0"/>
            </p:cNvCxnSpPr>
            <p:nvPr/>
          </p:nvCxnSpPr>
          <p:spPr>
            <a:xfrm flipH="1" rot="16200000">
              <a:off x="3543120" y="4495320"/>
              <a:ext cx="610200" cy="305280"/>
            </a:xfrm>
            <a:prstGeom prst="curvedConnector5">
              <a:avLst>
                <a:gd name="adj1" fmla="val 50000"/>
                <a:gd name="adj2" fmla="val 49940"/>
                <a:gd name="adj3" fmla="val 50000"/>
              </a:avLst>
            </a:prstGeom>
            <a:ln w="38160">
              <a:solidFill>
                <a:srgbClr val="000000"/>
              </a:solidFill>
              <a:miter/>
            </a:ln>
          </p:spPr>
        </p:cxnSp>
      </p:grpSp>
      <p:grpSp>
        <p:nvGrpSpPr>
          <p:cNvPr id="900" name=""/>
          <p:cNvGrpSpPr/>
          <p:nvPr/>
        </p:nvGrpSpPr>
        <p:grpSpPr>
          <a:xfrm>
            <a:off x="3657600" y="2437560"/>
            <a:ext cx="3047760" cy="2210760"/>
            <a:chOff x="3657600" y="2437560"/>
            <a:chExt cx="3047760" cy="2210760"/>
          </a:xfrm>
        </p:grpSpPr>
        <p:cxnSp>
          <p:nvCxnSpPr>
            <p:cNvPr id="901" name=""/>
            <p:cNvCxnSpPr>
              <a:stCxn id="878" idx="1"/>
              <a:endCxn id="882" idx="3"/>
            </p:cNvCxnSpPr>
            <p:nvPr/>
          </p:nvCxnSpPr>
          <p:spPr>
            <a:xfrm flipV="1" rot="10800000">
              <a:off x="3885480" y="2970360"/>
              <a:ext cx="838800" cy="229320"/>
            </a:xfrm>
            <a:prstGeom prst="curvedConnector5">
              <a:avLst>
                <a:gd name="adj1" fmla="val 49978"/>
                <a:gd name="adj2" fmla="val 50000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2" name=""/>
            <p:cNvCxnSpPr>
              <a:stCxn id="882" idx="2"/>
              <a:endCxn id="883" idx="2"/>
            </p:cNvCxnSpPr>
            <p:nvPr/>
          </p:nvCxnSpPr>
          <p:spPr>
            <a:xfrm flipH="1" rot="16200000">
              <a:off x="4038480" y="3047400"/>
              <a:ext cx="991440" cy="1753200"/>
            </a:xfrm>
            <a:prstGeom prst="curvedConnector5">
              <a:avLst>
                <a:gd name="adj1" fmla="val 123065"/>
                <a:gd name="adj2" fmla="val 49989"/>
                <a:gd name="adj3" fmla="val 12306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3" name=""/>
            <p:cNvCxnSpPr>
              <a:stCxn id="878" idx="3"/>
              <a:endCxn id="894" idx="1"/>
            </p:cNvCxnSpPr>
            <p:nvPr/>
          </p:nvCxnSpPr>
          <p:spPr>
            <a:xfrm flipV="1">
              <a:off x="5181120" y="2437560"/>
              <a:ext cx="1524600" cy="5338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4660920" y="1308240"/>
            <a:ext cx="2870280" cy="4406760"/>
          </a:xfrm>
          <a:custGeom>
            <a:avLst/>
            <a:gdLst/>
            <a:ahLst/>
            <a:rect l="l" t="t" r="r" b="b"/>
            <a:pathLst>
              <a:path w="1808" h="2776">
                <a:moveTo>
                  <a:pt x="184" y="184"/>
                </a:moveTo>
                <a:cubicBezTo>
                  <a:pt x="304" y="144"/>
                  <a:pt x="560" y="0"/>
                  <a:pt x="760" y="136"/>
                </a:cubicBezTo>
                <a:cubicBezTo>
                  <a:pt x="960" y="272"/>
                  <a:pt x="1232" y="840"/>
                  <a:pt x="1384" y="1000"/>
                </a:cubicBezTo>
                <a:cubicBezTo>
                  <a:pt x="1536" y="1160"/>
                  <a:pt x="1624" y="984"/>
                  <a:pt x="1672" y="1096"/>
                </a:cubicBezTo>
                <a:cubicBezTo>
                  <a:pt x="1720" y="1208"/>
                  <a:pt x="1808" y="1416"/>
                  <a:pt x="1672" y="1672"/>
                </a:cubicBezTo>
                <a:cubicBezTo>
                  <a:pt x="1536" y="1928"/>
                  <a:pt x="1080" y="2488"/>
                  <a:pt x="856" y="2632"/>
                </a:cubicBezTo>
                <a:cubicBezTo>
                  <a:pt x="632" y="2776"/>
                  <a:pt x="392" y="2624"/>
                  <a:pt x="328" y="2536"/>
                </a:cubicBezTo>
                <a:cubicBezTo>
                  <a:pt x="264" y="2448"/>
                  <a:pt x="344" y="2280"/>
                  <a:pt x="472" y="2104"/>
                </a:cubicBezTo>
                <a:cubicBezTo>
                  <a:pt x="600" y="1928"/>
                  <a:pt x="1104" y="1720"/>
                  <a:pt x="1096" y="1480"/>
                </a:cubicBezTo>
                <a:cubicBezTo>
                  <a:pt x="1088" y="1240"/>
                  <a:pt x="600" y="848"/>
                  <a:pt x="424" y="664"/>
                </a:cubicBezTo>
                <a:cubicBezTo>
                  <a:pt x="248" y="480"/>
                  <a:pt x="80" y="456"/>
                  <a:pt x="40" y="376"/>
                </a:cubicBezTo>
                <a:cubicBezTo>
                  <a:pt x="0" y="296"/>
                  <a:pt x="64" y="224"/>
                  <a:pt x="184" y="184"/>
                </a:cubicBezTo>
                <a:close/>
              </a:path>
            </a:pathLst>
          </a:cu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557360" y="2222640"/>
            <a:ext cx="4157640" cy="2474640"/>
          </a:xfrm>
          <a:custGeom>
            <a:avLst/>
            <a:gdLst/>
            <a:ahLst/>
            <a:rect l="l" t="t" r="r" b="b"/>
            <a:pathLst>
              <a:path w="2619" h="1559">
                <a:moveTo>
                  <a:pt x="23" y="370"/>
                </a:moveTo>
                <a:cubicBezTo>
                  <a:pt x="23" y="282"/>
                  <a:pt x="42" y="223"/>
                  <a:pt x="123" y="184"/>
                </a:cubicBezTo>
                <a:cubicBezTo>
                  <a:pt x="204" y="145"/>
                  <a:pt x="131" y="136"/>
                  <a:pt x="507" y="136"/>
                </a:cubicBezTo>
                <a:cubicBezTo>
                  <a:pt x="883" y="136"/>
                  <a:pt x="2139" y="0"/>
                  <a:pt x="2379" y="184"/>
                </a:cubicBezTo>
                <a:cubicBezTo>
                  <a:pt x="2619" y="368"/>
                  <a:pt x="2155" y="1024"/>
                  <a:pt x="1947" y="1240"/>
                </a:cubicBezTo>
                <a:cubicBezTo>
                  <a:pt x="1739" y="1456"/>
                  <a:pt x="1425" y="1559"/>
                  <a:pt x="1131" y="1480"/>
                </a:cubicBezTo>
                <a:cubicBezTo>
                  <a:pt x="837" y="1401"/>
                  <a:pt x="370" y="949"/>
                  <a:pt x="185" y="764"/>
                </a:cubicBezTo>
                <a:cubicBezTo>
                  <a:pt x="0" y="579"/>
                  <a:pt x="57" y="452"/>
                  <a:pt x="23" y="370"/>
                </a:cubicBezTo>
                <a:close/>
              </a:path>
            </a:pathLst>
          </a:cu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aktionsorientierte Zerlegu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371600" y="1143000"/>
            <a:ext cx="61722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048120" y="1600200"/>
            <a:ext cx="53316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2362320" y="3429000"/>
            <a:ext cx="1752480" cy="914400"/>
            <a:chOff x="2362320" y="3429000"/>
            <a:chExt cx="1752480" cy="914400"/>
          </a:xfrm>
        </p:grpSpPr>
        <p:sp>
          <p:nvSpPr>
            <p:cNvPr id="910" name=""/>
            <p:cNvSpPr/>
            <p:nvPr/>
          </p:nvSpPr>
          <p:spPr>
            <a:xfrm>
              <a:off x="3581640" y="3962520"/>
              <a:ext cx="533160" cy="3808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362320" y="3429000"/>
              <a:ext cx="533520" cy="3808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4191120" y="2133720"/>
            <a:ext cx="3124080" cy="3352680"/>
            <a:chOff x="4191120" y="2133720"/>
            <a:chExt cx="3124080" cy="3352680"/>
          </a:xfrm>
        </p:grpSpPr>
        <p:sp>
          <p:nvSpPr>
            <p:cNvPr id="913" name=""/>
            <p:cNvSpPr/>
            <p:nvPr/>
          </p:nvSpPr>
          <p:spPr>
            <a:xfrm>
              <a:off x="5410440" y="4876920"/>
              <a:ext cx="533160" cy="60948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4" name=""/>
            <p:cNvGrpSpPr/>
            <p:nvPr/>
          </p:nvGrpSpPr>
          <p:grpSpPr>
            <a:xfrm>
              <a:off x="4191120" y="2133720"/>
              <a:ext cx="3124080" cy="1828800"/>
              <a:chOff x="4191120" y="2133720"/>
              <a:chExt cx="3124080" cy="1828800"/>
            </a:xfrm>
          </p:grpSpPr>
          <p:sp>
            <p:nvSpPr>
              <p:cNvPr id="915" name=""/>
              <p:cNvSpPr/>
              <p:nvPr/>
            </p:nvSpPr>
            <p:spPr>
              <a:xfrm>
                <a:off x="6705720" y="3124080"/>
                <a:ext cx="533520" cy="609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191120" y="3352680"/>
                <a:ext cx="533520" cy="609840"/>
              </a:xfrm>
              <a:prstGeom prst="octagon">
                <a:avLst>
                  <a:gd name="adj" fmla="val 29287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858000" y="2133720"/>
                <a:ext cx="457200" cy="4572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8" name=""/>
          <p:cNvSpPr/>
          <p:nvPr/>
        </p:nvSpPr>
        <p:spPr>
          <a:xfrm>
            <a:off x="4876920" y="26668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105520" y="16765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581280" y="28954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257800" y="3733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752480" y="2590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362320" y="46483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886200" y="4952880"/>
            <a:ext cx="533520" cy="3812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819520" y="3809880"/>
            <a:ext cx="838080" cy="3812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638680" y="2057400"/>
            <a:ext cx="1143000" cy="11430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133720" y="3124080"/>
            <a:ext cx="380880" cy="4572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2743200" y="3200400"/>
            <a:ext cx="838080" cy="3808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5867280" y="3733920"/>
            <a:ext cx="990720" cy="12952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886200" y="4343400"/>
            <a:ext cx="16002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3809880" y="21337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733920" y="3352680"/>
            <a:ext cx="457200" cy="3812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 flipV="1">
            <a:off x="1904760" y="3124080"/>
            <a:ext cx="685800" cy="1524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4" name=""/>
          <p:cNvCxnSpPr>
            <a:stCxn id="918" idx="2"/>
            <a:endCxn id="916" idx="3"/>
          </p:cNvCxnSpPr>
          <p:nvPr/>
        </p:nvCxnSpPr>
        <p:spPr>
          <a:xfrm flipH="1">
            <a:off x="4723560" y="3124080"/>
            <a:ext cx="381960" cy="5342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5" name=""/>
          <p:cNvGrpSpPr/>
          <p:nvPr/>
        </p:nvGrpSpPr>
        <p:grpSpPr>
          <a:xfrm>
            <a:off x="1523880" y="2209680"/>
            <a:ext cx="6629400" cy="2286000"/>
            <a:chOff x="1523880" y="2209680"/>
            <a:chExt cx="6629400" cy="2286000"/>
          </a:xfrm>
        </p:grpSpPr>
        <p:sp>
          <p:nvSpPr>
            <p:cNvPr id="936" name=""/>
            <p:cNvSpPr/>
            <p:nvPr/>
          </p:nvSpPr>
          <p:spPr>
            <a:xfrm>
              <a:off x="4800600" y="2819520"/>
              <a:ext cx="3352680" cy="167616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523880" y="2209680"/>
              <a:ext cx="2362320" cy="16765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52280" y="260676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l- eb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334120" y="1143000"/>
            <a:ext cx="3809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ltwirt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lkswirtscha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rtschaftl. Sekto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erneh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abr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schi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schinente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rkstof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0" y="1143000"/>
            <a:ext cx="3429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s Leben in Biosphä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z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kü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er- und Untersyst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352680" y="1219320"/>
            <a:ext cx="1905120" cy="4343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133720" y="5562720"/>
            <a:ext cx="5029200" cy="535680"/>
            <a:chOff x="2133720" y="5562720"/>
            <a:chExt cx="5029200" cy="535680"/>
          </a:xfrm>
        </p:grpSpPr>
        <p:sp>
          <p:nvSpPr>
            <p:cNvPr id="944" name=""/>
            <p:cNvSpPr/>
            <p:nvPr/>
          </p:nvSpPr>
          <p:spPr>
            <a:xfrm>
              <a:off x="3733920" y="55627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to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133720" y="56386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at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486400" y="55627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irtscha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230040" y="912960"/>
            <a:ext cx="8686800" cy="4878000"/>
            <a:chOff x="230040" y="912960"/>
            <a:chExt cx="8686800" cy="4878000"/>
          </a:xfrm>
        </p:grpSpPr>
        <p:sp>
          <p:nvSpPr>
            <p:cNvPr id="948" name=""/>
            <p:cNvSpPr/>
            <p:nvPr/>
          </p:nvSpPr>
          <p:spPr>
            <a:xfrm flipV="1">
              <a:off x="1830240" y="4038120"/>
              <a:ext cx="0" cy="175284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7392960" y="4570200"/>
              <a:ext cx="0" cy="114444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504600" y="914400"/>
              <a:ext cx="2880" cy="129528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180040" y="912960"/>
              <a:ext cx="6480" cy="1828800"/>
            </a:xfrm>
            <a:prstGeom prst="line">
              <a:avLst/>
            </a:prstGeom>
            <a:ln w="1080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659040" y="914400"/>
              <a:ext cx="129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ber-Syste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30040" y="419112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nter-Syste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621560" y="464652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nter-Syste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tikale Separi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952880" y="3048120"/>
            <a:ext cx="4038840" cy="1292040"/>
          </a:xfrm>
          <a:prstGeom prst="rect">
            <a:avLst/>
          </a:prstGeom>
          <a:solidFill>
            <a:srgbClr val="c0c0c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bene des Interesses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 Beobachtungen in  [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 ,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 und [d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,  D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28600" y="4822920"/>
            <a:ext cx="4572000" cy="1292040"/>
          </a:xfrm>
          <a:prstGeom prst="rect">
            <a:avLst/>
          </a:prstGeom>
          <a:solidFill>
            <a:srgbClr val="c0c0c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Untergeordnete Ebene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l-1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 Fluktuationen schneller als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 und/oder kleiner als d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04920" y="1295280"/>
            <a:ext cx="4419360" cy="1241640"/>
          </a:xfrm>
          <a:prstGeom prst="rect">
            <a:avLst/>
          </a:prstGeom>
          <a:solidFill>
            <a:srgbClr val="c0c0c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Übergeordnete Eben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+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Veränderungen mit Amplitude &gt; als 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/oder Ausdehnung &gt;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5486400" y="1550880"/>
            <a:ext cx="2971800" cy="1420920"/>
            <a:chOff x="5486400" y="1550880"/>
            <a:chExt cx="2971800" cy="1420920"/>
          </a:xfrm>
        </p:grpSpPr>
        <p:sp>
          <p:nvSpPr>
            <p:cNvPr id="960" name=""/>
            <p:cNvSpPr/>
            <p:nvPr/>
          </p:nvSpPr>
          <p:spPr>
            <a:xfrm>
              <a:off x="5486400" y="1550880"/>
              <a:ext cx="2971800" cy="703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orgabe v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konstanten Grenzwer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781680" y="2438280"/>
              <a:ext cx="457200" cy="533520"/>
            </a:xfrm>
            <a:prstGeom prst="downArrow">
              <a:avLst>
                <a:gd name="adj1" fmla="val 50000"/>
                <a:gd name="adj2" fmla="val 2917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457200" y="3124080"/>
            <a:ext cx="38862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harakteristische Zustandsänderungsfrequenz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und Beobachtungsgröße </a:t>
            </a:r>
            <a:r>
              <a:rPr b="0" i="1" lang="de-DE" sz="2000" spc="-1" strike="noStrike">
                <a:solidFill>
                  <a:srgbClr val="000000"/>
                </a:solidFill>
                <a:latin typeface="Math1"/>
                <a:ea typeface="Math1"/>
              </a:rPr>
              <a:t>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5257800" y="4343400"/>
            <a:ext cx="3657600" cy="1522800"/>
            <a:chOff x="5257800" y="4343400"/>
            <a:chExt cx="3657600" cy="1522800"/>
          </a:xfrm>
        </p:grpSpPr>
        <p:sp>
          <p:nvSpPr>
            <p:cNvPr id="964" name=""/>
            <p:cNvSpPr/>
            <p:nvPr/>
          </p:nvSpPr>
          <p:spPr>
            <a:xfrm>
              <a:off x="5257800" y="5003640"/>
              <a:ext cx="3657600" cy="862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orgabe einer Anfangslösung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uflösungsbedingtes Rausch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rot="10800000">
              <a:off x="6781680" y="4343400"/>
              <a:ext cx="457200" cy="533520"/>
            </a:xfrm>
            <a:prstGeom prst="downArrow">
              <a:avLst>
                <a:gd name="adj1" fmla="val 50000"/>
                <a:gd name="adj2" fmla="val 2917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omponentenorientierte Modellier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40" y="251424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ionalisierung durc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ederverwend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ecompos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47640" y="12949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Perfectly decomposabl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ubsysteme sind nicht messbar miteinander verknüp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leichgewichtspunkte werden in den Subsystem völlig unabhängig voneinander ere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Near decomposabl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eraktionen zwischen Subsystemen sind sehr viel schwächer als Interaktionen innerhalb der Subsy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leichgewichtspunkte: Satz von Simon und A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Not decomposabl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eraktionen zwischen und innerhalb von Subsystem sind von vergleichbarer Intens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leichgewichtspunkte können nur global bestimm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ecomposability: Übergangsmatriz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9" name=""/>
          <p:cNvGraphicFramePr/>
          <p:nvPr/>
        </p:nvGraphicFramePr>
        <p:xfrm>
          <a:off x="457200" y="1447920"/>
          <a:ext cx="3809880" cy="41400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4480"/>
                <a:gridCol w="476280"/>
                <a:gridCol w="479520"/>
                <a:gridCol w="476280"/>
                <a:gridCol w="474480"/>
                <a:gridCol w="47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0" name=""/>
          <p:cNvSpPr/>
          <p:nvPr/>
        </p:nvSpPr>
        <p:spPr>
          <a:xfrm>
            <a:off x="914400" y="5562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erfectly decompo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257800" y="5562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ot decompo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2" name=""/>
          <p:cNvGraphicFramePr/>
          <p:nvPr/>
        </p:nvGraphicFramePr>
        <p:xfrm>
          <a:off x="4952880" y="1447920"/>
          <a:ext cx="3809880" cy="41400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4480"/>
                <a:gridCol w="476280"/>
                <a:gridCol w="479520"/>
                <a:gridCol w="476280"/>
                <a:gridCol w="474480"/>
                <a:gridCol w="47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ecomposability: Übergangsmatriz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200400" y="5486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arly decompo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5" name=""/>
          <p:cNvGraphicFramePr/>
          <p:nvPr/>
        </p:nvGraphicFramePr>
        <p:xfrm>
          <a:off x="2286000" y="1359000"/>
          <a:ext cx="4191120" cy="4140000"/>
        </p:xfrm>
        <a:graphic>
          <a:graphicData uri="http://schemas.openxmlformats.org/drawingml/2006/table">
            <a:tbl>
              <a:tblPr/>
              <a:tblGrid>
                <a:gridCol w="523800"/>
                <a:gridCol w="523800"/>
                <a:gridCol w="522360"/>
                <a:gridCol w="523800"/>
                <a:gridCol w="527040"/>
                <a:gridCol w="524160"/>
                <a:gridCol w="522000"/>
                <a:gridCol w="524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Nearly Decomposabl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85800" y="1447920"/>
            <a:ext cx="7848720" cy="4343400"/>
          </a:xfrm>
          <a:prstGeom prst="rect">
            <a:avLst/>
          </a:prstGeom>
          <a:solidFill>
            <a:srgbClr val="eaeae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828800" y="35053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981080" y="2209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590920" y="28954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600200" y="4495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286000" y="50292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572000" y="45720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78168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876920" y="35812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276720" y="19810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724280" y="19051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315200" y="28954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5053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581280" y="2743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715000" y="51055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791320" y="24382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696080" y="5257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172200" y="3809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066680" y="24382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581280" y="37339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286000" y="39625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391520" y="43434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9" name=""/>
          <p:cNvCxnSpPr>
            <a:stCxn id="995" idx="6"/>
            <a:endCxn id="979" idx="2"/>
          </p:cNvCxnSpPr>
          <p:nvPr/>
        </p:nvCxnSpPr>
        <p:spPr>
          <a:xfrm flipV="1">
            <a:off x="1294920" y="2323440"/>
            <a:ext cx="686520" cy="22932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00" name=""/>
          <p:cNvCxnSpPr>
            <a:stCxn id="979" idx="4"/>
            <a:endCxn id="978" idx="0"/>
          </p:cNvCxnSpPr>
          <p:nvPr/>
        </p:nvCxnSpPr>
        <p:spPr>
          <a:xfrm flipH="1">
            <a:off x="1942560" y="2438280"/>
            <a:ext cx="153000" cy="10677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01" name=""/>
          <p:cNvCxnSpPr>
            <a:stCxn id="978" idx="4"/>
            <a:endCxn id="981" idx="0"/>
          </p:cNvCxnSpPr>
          <p:nvPr/>
        </p:nvCxnSpPr>
        <p:spPr>
          <a:xfrm flipH="1">
            <a:off x="1713960" y="3733920"/>
            <a:ext cx="229320" cy="7624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02" name=""/>
          <p:cNvCxnSpPr>
            <a:stCxn id="978" idx="5"/>
            <a:endCxn id="997" idx="1"/>
          </p:cNvCxnSpPr>
          <p:nvPr/>
        </p:nvCxnSpPr>
        <p:spPr>
          <a:xfrm>
            <a:off x="2023560" y="3700440"/>
            <a:ext cx="296280" cy="2955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03" name=""/>
          <p:cNvCxnSpPr>
            <a:stCxn id="978" idx="7"/>
            <a:endCxn id="980" idx="3"/>
          </p:cNvCxnSpPr>
          <p:nvPr/>
        </p:nvCxnSpPr>
        <p:spPr>
          <a:xfrm flipV="1">
            <a:off x="2023560" y="3090240"/>
            <a:ext cx="600840" cy="44820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04" name=""/>
          <p:cNvCxnSpPr>
            <a:stCxn id="978" idx="2"/>
            <a:endCxn id="995" idx="4"/>
          </p:cNvCxnSpPr>
          <p:nvPr/>
        </p:nvCxnSpPr>
        <p:spPr>
          <a:xfrm flipH="1" flipV="1">
            <a:off x="1180440" y="2666520"/>
            <a:ext cx="648360" cy="953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05" name=""/>
          <p:cNvCxnSpPr>
            <a:stCxn id="997" idx="6"/>
            <a:endCxn id="989" idx="1"/>
          </p:cNvCxnSpPr>
          <p:nvPr/>
        </p:nvCxnSpPr>
        <p:spPr>
          <a:xfrm>
            <a:off x="2514600" y="4076640"/>
            <a:ext cx="1024560" cy="113904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06" name=""/>
          <p:cNvCxnSpPr>
            <a:stCxn id="982" idx="6"/>
            <a:endCxn id="989" idx="2"/>
          </p:cNvCxnSpPr>
          <p:nvPr/>
        </p:nvCxnSpPr>
        <p:spPr>
          <a:xfrm>
            <a:off x="2514600" y="5143320"/>
            <a:ext cx="991440" cy="15300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07" name=""/>
          <p:cNvCxnSpPr>
            <a:stCxn id="997" idx="7"/>
            <a:endCxn id="996" idx="2"/>
          </p:cNvCxnSpPr>
          <p:nvPr/>
        </p:nvCxnSpPr>
        <p:spPr>
          <a:xfrm flipV="1">
            <a:off x="2481120" y="3847680"/>
            <a:ext cx="1100880" cy="14832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08" name=""/>
          <p:cNvCxnSpPr>
            <a:stCxn id="980" idx="6"/>
            <a:endCxn id="986" idx="3"/>
          </p:cNvCxnSpPr>
          <p:nvPr/>
        </p:nvCxnSpPr>
        <p:spPr>
          <a:xfrm flipV="1">
            <a:off x="2819520" y="2175840"/>
            <a:ext cx="491040" cy="834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09" name=""/>
          <p:cNvCxnSpPr>
            <a:stCxn id="980" idx="5"/>
            <a:endCxn id="996" idx="1"/>
          </p:cNvCxnSpPr>
          <p:nvPr/>
        </p:nvCxnSpPr>
        <p:spPr>
          <a:xfrm>
            <a:off x="2786040" y="3090960"/>
            <a:ext cx="829440" cy="67680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10" name=""/>
          <p:cNvCxnSpPr>
            <a:stCxn id="996" idx="6"/>
            <a:endCxn id="985" idx="2"/>
          </p:cNvCxnSpPr>
          <p:nvPr/>
        </p:nvCxnSpPr>
        <p:spPr>
          <a:xfrm flipV="1">
            <a:off x="3809880" y="3695040"/>
            <a:ext cx="1067760" cy="15300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11" name=""/>
          <p:cNvCxnSpPr>
            <a:stCxn id="996" idx="0"/>
            <a:endCxn id="990" idx="4"/>
          </p:cNvCxnSpPr>
          <p:nvPr/>
        </p:nvCxnSpPr>
        <p:spPr>
          <a:xfrm flipV="1">
            <a:off x="3695400" y="2971080"/>
            <a:ext cx="1080" cy="76284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12" name=""/>
          <p:cNvCxnSpPr>
            <a:stCxn id="990" idx="0"/>
            <a:endCxn id="986" idx="5"/>
          </p:cNvCxnSpPr>
          <p:nvPr/>
        </p:nvCxnSpPr>
        <p:spPr>
          <a:xfrm flipH="1" flipV="1">
            <a:off x="3471480" y="2176200"/>
            <a:ext cx="224640" cy="5673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13" name=""/>
          <p:cNvCxnSpPr>
            <a:stCxn id="996" idx="5"/>
            <a:endCxn id="983" idx="1"/>
          </p:cNvCxnSpPr>
          <p:nvPr/>
        </p:nvCxnSpPr>
        <p:spPr>
          <a:xfrm>
            <a:off x="3776760" y="3928680"/>
            <a:ext cx="829440" cy="6771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14" name=""/>
          <p:cNvCxnSpPr>
            <a:stCxn id="985" idx="6"/>
            <a:endCxn id="994" idx="2"/>
          </p:cNvCxnSpPr>
          <p:nvPr/>
        </p:nvCxnSpPr>
        <p:spPr>
          <a:xfrm>
            <a:off x="5105160" y="3695400"/>
            <a:ext cx="106740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15" name=""/>
          <p:cNvCxnSpPr>
            <a:stCxn id="985" idx="6"/>
            <a:endCxn id="992" idx="4"/>
          </p:cNvCxnSpPr>
          <p:nvPr/>
        </p:nvCxnSpPr>
        <p:spPr>
          <a:xfrm flipV="1">
            <a:off x="5105520" y="2666520"/>
            <a:ext cx="800640" cy="1029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16" name=""/>
          <p:cNvCxnSpPr>
            <a:stCxn id="985" idx="0"/>
            <a:endCxn id="987" idx="4"/>
          </p:cNvCxnSpPr>
          <p:nvPr/>
        </p:nvCxnSpPr>
        <p:spPr>
          <a:xfrm flipH="1" flipV="1">
            <a:off x="4838040" y="2133000"/>
            <a:ext cx="153000" cy="144828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17" name=""/>
          <p:cNvCxnSpPr>
            <a:stCxn id="983" idx="3"/>
            <a:endCxn id="989" idx="6"/>
          </p:cNvCxnSpPr>
          <p:nvPr/>
        </p:nvCxnSpPr>
        <p:spPr>
          <a:xfrm flipH="1">
            <a:off x="3733200" y="4766760"/>
            <a:ext cx="872280" cy="52920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18" name=""/>
          <p:cNvCxnSpPr>
            <a:stCxn id="982" idx="2"/>
            <a:endCxn id="981" idx="5"/>
          </p:cNvCxnSpPr>
          <p:nvPr/>
        </p:nvCxnSpPr>
        <p:spPr>
          <a:xfrm flipH="1" flipV="1">
            <a:off x="1794600" y="4690440"/>
            <a:ext cx="491400" cy="45324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19" name=""/>
          <p:cNvCxnSpPr>
            <a:stCxn id="985" idx="5"/>
            <a:endCxn id="991" idx="0"/>
          </p:cNvCxnSpPr>
          <p:nvPr/>
        </p:nvCxnSpPr>
        <p:spPr>
          <a:xfrm>
            <a:off x="5072040" y="3776400"/>
            <a:ext cx="758160" cy="13294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20" name=""/>
          <p:cNvCxnSpPr>
            <a:stCxn id="991" idx="6"/>
            <a:endCxn id="993" idx="2"/>
          </p:cNvCxnSpPr>
          <p:nvPr/>
        </p:nvCxnSpPr>
        <p:spPr>
          <a:xfrm>
            <a:off x="5943600" y="5219640"/>
            <a:ext cx="1753200" cy="15336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21" name=""/>
          <p:cNvCxnSpPr>
            <a:stCxn id="993" idx="0"/>
            <a:endCxn id="998" idx="4"/>
          </p:cNvCxnSpPr>
          <p:nvPr/>
        </p:nvCxnSpPr>
        <p:spPr>
          <a:xfrm flipH="1" flipV="1">
            <a:off x="7504920" y="4571280"/>
            <a:ext cx="305640" cy="68652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22" name=""/>
          <p:cNvCxnSpPr>
            <a:stCxn id="998" idx="1"/>
            <a:endCxn id="994" idx="5"/>
          </p:cNvCxnSpPr>
          <p:nvPr/>
        </p:nvCxnSpPr>
        <p:spPr>
          <a:xfrm flipH="1" flipV="1">
            <a:off x="6366600" y="4005000"/>
            <a:ext cx="1058040" cy="3722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23" name=""/>
          <p:cNvCxnSpPr>
            <a:stCxn id="992" idx="5"/>
            <a:endCxn id="994" idx="0"/>
          </p:cNvCxnSpPr>
          <p:nvPr/>
        </p:nvCxnSpPr>
        <p:spPr>
          <a:xfrm>
            <a:off x="5986440" y="2633400"/>
            <a:ext cx="300600" cy="117684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994" idx="7"/>
            <a:endCxn id="988" idx="3"/>
          </p:cNvCxnSpPr>
          <p:nvPr/>
        </p:nvCxnSpPr>
        <p:spPr>
          <a:xfrm flipV="1">
            <a:off x="6367320" y="3090600"/>
            <a:ext cx="982080" cy="75312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25" name=""/>
          <p:cNvCxnSpPr>
            <a:stCxn id="992" idx="7"/>
            <a:endCxn id="984" idx="2"/>
          </p:cNvCxnSpPr>
          <p:nvPr/>
        </p:nvCxnSpPr>
        <p:spPr>
          <a:xfrm flipV="1">
            <a:off x="5986080" y="2094840"/>
            <a:ext cx="795960" cy="37692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26" name=""/>
          <p:cNvCxnSpPr>
            <a:stCxn id="987" idx="6"/>
            <a:endCxn id="992" idx="1"/>
          </p:cNvCxnSpPr>
          <p:nvPr/>
        </p:nvCxnSpPr>
        <p:spPr>
          <a:xfrm>
            <a:off x="4952520" y="2018880"/>
            <a:ext cx="872280" cy="45324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27" name=""/>
          <p:cNvCxnSpPr>
            <a:stCxn id="984" idx="5"/>
            <a:endCxn id="988" idx="1"/>
          </p:cNvCxnSpPr>
          <p:nvPr/>
        </p:nvCxnSpPr>
        <p:spPr>
          <a:xfrm>
            <a:off x="6977160" y="2176560"/>
            <a:ext cx="372240" cy="753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28" name=""/>
          <p:cNvCxnSpPr>
            <a:stCxn id="988" idx="4"/>
            <a:endCxn id="998" idx="0"/>
          </p:cNvCxnSpPr>
          <p:nvPr/>
        </p:nvCxnSpPr>
        <p:spPr>
          <a:xfrm>
            <a:off x="7429320" y="3123720"/>
            <a:ext cx="76680" cy="122004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29" name=""/>
          <p:cNvCxnSpPr>
            <a:stCxn id="994" idx="4"/>
            <a:endCxn id="991" idx="0"/>
          </p:cNvCxnSpPr>
          <p:nvPr/>
        </p:nvCxnSpPr>
        <p:spPr>
          <a:xfrm flipH="1">
            <a:off x="5829120" y="4038480"/>
            <a:ext cx="457920" cy="10677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30" name=""/>
          <p:cNvCxnSpPr>
            <a:stCxn id="997" idx="4"/>
            <a:endCxn id="982" idx="0"/>
          </p:cNvCxnSpPr>
          <p:nvPr/>
        </p:nvCxnSpPr>
        <p:spPr>
          <a:xfrm>
            <a:off x="2400120" y="4191120"/>
            <a:ext cx="1080" cy="83880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31" name=""/>
          <p:cNvCxnSpPr>
            <a:stCxn id="994" idx="4"/>
            <a:endCxn id="993" idx="1"/>
          </p:cNvCxnSpPr>
          <p:nvPr/>
        </p:nvCxnSpPr>
        <p:spPr>
          <a:xfrm>
            <a:off x="6286680" y="4038480"/>
            <a:ext cx="1443600" cy="125352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32" name=""/>
          <p:cNvCxnSpPr>
            <a:stCxn id="979" idx="6"/>
            <a:endCxn id="980" idx="0"/>
          </p:cNvCxnSpPr>
          <p:nvPr/>
        </p:nvCxnSpPr>
        <p:spPr>
          <a:xfrm>
            <a:off x="2209680" y="2323800"/>
            <a:ext cx="496080" cy="5720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033" name=""/>
          <p:cNvSpPr/>
          <p:nvPr/>
        </p:nvSpPr>
        <p:spPr>
          <a:xfrm>
            <a:off x="3657600" y="1447920"/>
            <a:ext cx="1828800" cy="43434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Nearly Decomposabl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85800" y="1447920"/>
            <a:ext cx="7848720" cy="4343400"/>
          </a:xfrm>
          <a:prstGeom prst="rect">
            <a:avLst/>
          </a:prstGeom>
          <a:solidFill>
            <a:srgbClr val="eaeae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828800" y="35053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981080" y="2209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590920" y="28954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600200" y="4495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286000" y="50292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572000" y="45720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78168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876920" y="35812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276720" y="19810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724280" y="19051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315200" y="28954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505320" y="5181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581280" y="2743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15000" y="51055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791320" y="24382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696080" y="5257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172200" y="3809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066680" y="24382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37339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286000" y="39625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391520" y="43434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7" name=""/>
          <p:cNvCxnSpPr>
            <a:stCxn id="1053" idx="6"/>
            <a:endCxn id="1037" idx="2"/>
          </p:cNvCxnSpPr>
          <p:nvPr/>
        </p:nvCxnSpPr>
        <p:spPr>
          <a:xfrm flipV="1">
            <a:off x="1294920" y="2323440"/>
            <a:ext cx="686520" cy="22932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58" name=""/>
          <p:cNvCxnSpPr>
            <a:stCxn id="1037" idx="4"/>
            <a:endCxn id="1036" idx="0"/>
          </p:cNvCxnSpPr>
          <p:nvPr/>
        </p:nvCxnSpPr>
        <p:spPr>
          <a:xfrm flipH="1">
            <a:off x="1942560" y="2438280"/>
            <a:ext cx="153000" cy="10677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59" name=""/>
          <p:cNvCxnSpPr>
            <a:stCxn id="1036" idx="4"/>
            <a:endCxn id="1039" idx="0"/>
          </p:cNvCxnSpPr>
          <p:nvPr/>
        </p:nvCxnSpPr>
        <p:spPr>
          <a:xfrm flipH="1">
            <a:off x="1713960" y="3733920"/>
            <a:ext cx="229320" cy="7624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60" name=""/>
          <p:cNvCxnSpPr>
            <a:stCxn id="1036" idx="5"/>
            <a:endCxn id="1055" idx="1"/>
          </p:cNvCxnSpPr>
          <p:nvPr/>
        </p:nvCxnSpPr>
        <p:spPr>
          <a:xfrm>
            <a:off x="2023560" y="3700440"/>
            <a:ext cx="296280" cy="2955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61" name=""/>
          <p:cNvCxnSpPr>
            <a:stCxn id="1036" idx="7"/>
            <a:endCxn id="1038" idx="3"/>
          </p:cNvCxnSpPr>
          <p:nvPr/>
        </p:nvCxnSpPr>
        <p:spPr>
          <a:xfrm flipV="1">
            <a:off x="2023560" y="3090240"/>
            <a:ext cx="600840" cy="44820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62" name=""/>
          <p:cNvCxnSpPr>
            <a:stCxn id="1036" idx="2"/>
            <a:endCxn id="1053" idx="4"/>
          </p:cNvCxnSpPr>
          <p:nvPr/>
        </p:nvCxnSpPr>
        <p:spPr>
          <a:xfrm flipH="1" flipV="1">
            <a:off x="1180440" y="2666520"/>
            <a:ext cx="648360" cy="953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63" name=""/>
          <p:cNvCxnSpPr>
            <a:stCxn id="1055" idx="6"/>
            <a:endCxn id="1047" idx="1"/>
          </p:cNvCxnSpPr>
          <p:nvPr/>
        </p:nvCxnSpPr>
        <p:spPr>
          <a:xfrm>
            <a:off x="2514600" y="4076640"/>
            <a:ext cx="1024560" cy="113904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64" name=""/>
          <p:cNvCxnSpPr>
            <a:stCxn id="1040" idx="6"/>
            <a:endCxn id="1047" idx="2"/>
          </p:cNvCxnSpPr>
          <p:nvPr/>
        </p:nvCxnSpPr>
        <p:spPr>
          <a:xfrm>
            <a:off x="2514600" y="5143320"/>
            <a:ext cx="991440" cy="15300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65" name=""/>
          <p:cNvCxnSpPr>
            <a:stCxn id="1055" idx="7"/>
            <a:endCxn id="1054" idx="2"/>
          </p:cNvCxnSpPr>
          <p:nvPr/>
        </p:nvCxnSpPr>
        <p:spPr>
          <a:xfrm flipV="1">
            <a:off x="2481120" y="3847680"/>
            <a:ext cx="1100880" cy="14832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66" name=""/>
          <p:cNvCxnSpPr>
            <a:stCxn id="1038" idx="6"/>
            <a:endCxn id="1044" idx="3"/>
          </p:cNvCxnSpPr>
          <p:nvPr/>
        </p:nvCxnSpPr>
        <p:spPr>
          <a:xfrm flipV="1">
            <a:off x="2819520" y="2175840"/>
            <a:ext cx="491040" cy="834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67" name=""/>
          <p:cNvCxnSpPr>
            <a:stCxn id="1038" idx="5"/>
            <a:endCxn id="1054" idx="1"/>
          </p:cNvCxnSpPr>
          <p:nvPr/>
        </p:nvCxnSpPr>
        <p:spPr>
          <a:xfrm>
            <a:off x="2786040" y="3090960"/>
            <a:ext cx="829440" cy="67680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68" name=""/>
          <p:cNvCxnSpPr>
            <a:stCxn id="1054" idx="6"/>
            <a:endCxn id="1043" idx="2"/>
          </p:cNvCxnSpPr>
          <p:nvPr/>
        </p:nvCxnSpPr>
        <p:spPr>
          <a:xfrm flipV="1">
            <a:off x="3809880" y="3695040"/>
            <a:ext cx="1067760" cy="15300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69" name=""/>
          <p:cNvCxnSpPr>
            <a:stCxn id="1054" idx="0"/>
            <a:endCxn id="1048" idx="4"/>
          </p:cNvCxnSpPr>
          <p:nvPr/>
        </p:nvCxnSpPr>
        <p:spPr>
          <a:xfrm flipV="1">
            <a:off x="3695400" y="2971080"/>
            <a:ext cx="1080" cy="76284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70" name=""/>
          <p:cNvCxnSpPr>
            <a:stCxn id="1048" idx="0"/>
            <a:endCxn id="1044" idx="5"/>
          </p:cNvCxnSpPr>
          <p:nvPr/>
        </p:nvCxnSpPr>
        <p:spPr>
          <a:xfrm flipH="1" flipV="1">
            <a:off x="3471480" y="2176200"/>
            <a:ext cx="224640" cy="5673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71" name=""/>
          <p:cNvCxnSpPr>
            <a:stCxn id="1054" idx="5"/>
            <a:endCxn id="1041" idx="1"/>
          </p:cNvCxnSpPr>
          <p:nvPr/>
        </p:nvCxnSpPr>
        <p:spPr>
          <a:xfrm>
            <a:off x="3776760" y="3928680"/>
            <a:ext cx="829440" cy="6771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72" name=""/>
          <p:cNvCxnSpPr>
            <a:stCxn id="1043" idx="6"/>
            <a:endCxn id="1052" idx="2"/>
          </p:cNvCxnSpPr>
          <p:nvPr/>
        </p:nvCxnSpPr>
        <p:spPr>
          <a:xfrm>
            <a:off x="5105160" y="3695400"/>
            <a:ext cx="106740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73" name=""/>
          <p:cNvCxnSpPr>
            <a:stCxn id="1043" idx="6"/>
            <a:endCxn id="1050" idx="4"/>
          </p:cNvCxnSpPr>
          <p:nvPr/>
        </p:nvCxnSpPr>
        <p:spPr>
          <a:xfrm flipV="1">
            <a:off x="5105520" y="2666520"/>
            <a:ext cx="800640" cy="1029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74" name=""/>
          <p:cNvCxnSpPr>
            <a:stCxn id="1043" idx="0"/>
            <a:endCxn id="1045" idx="4"/>
          </p:cNvCxnSpPr>
          <p:nvPr/>
        </p:nvCxnSpPr>
        <p:spPr>
          <a:xfrm flipH="1" flipV="1">
            <a:off x="4838040" y="2133000"/>
            <a:ext cx="153000" cy="144828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75" name=""/>
          <p:cNvCxnSpPr>
            <a:stCxn id="1041" idx="3"/>
            <a:endCxn id="1047" idx="6"/>
          </p:cNvCxnSpPr>
          <p:nvPr/>
        </p:nvCxnSpPr>
        <p:spPr>
          <a:xfrm flipH="1">
            <a:off x="3733200" y="4766760"/>
            <a:ext cx="872280" cy="52920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76" name=""/>
          <p:cNvCxnSpPr>
            <a:stCxn id="1040" idx="2"/>
            <a:endCxn id="1039" idx="5"/>
          </p:cNvCxnSpPr>
          <p:nvPr/>
        </p:nvCxnSpPr>
        <p:spPr>
          <a:xfrm flipH="1" flipV="1">
            <a:off x="1794600" y="4690440"/>
            <a:ext cx="491400" cy="45324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77" name=""/>
          <p:cNvCxnSpPr>
            <a:stCxn id="1043" idx="5"/>
            <a:endCxn id="1049" idx="0"/>
          </p:cNvCxnSpPr>
          <p:nvPr/>
        </p:nvCxnSpPr>
        <p:spPr>
          <a:xfrm>
            <a:off x="5072040" y="3776400"/>
            <a:ext cx="758160" cy="13294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78" name=""/>
          <p:cNvCxnSpPr>
            <a:stCxn id="1049" idx="6"/>
            <a:endCxn id="1051" idx="2"/>
          </p:cNvCxnSpPr>
          <p:nvPr/>
        </p:nvCxnSpPr>
        <p:spPr>
          <a:xfrm>
            <a:off x="5943600" y="5219640"/>
            <a:ext cx="1753200" cy="15336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79" name=""/>
          <p:cNvCxnSpPr>
            <a:stCxn id="1051" idx="0"/>
            <a:endCxn id="1056" idx="4"/>
          </p:cNvCxnSpPr>
          <p:nvPr/>
        </p:nvCxnSpPr>
        <p:spPr>
          <a:xfrm flipH="1" flipV="1">
            <a:off x="7504920" y="4571280"/>
            <a:ext cx="305640" cy="68652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80" name=""/>
          <p:cNvCxnSpPr>
            <a:stCxn id="1056" idx="1"/>
            <a:endCxn id="1052" idx="5"/>
          </p:cNvCxnSpPr>
          <p:nvPr/>
        </p:nvCxnSpPr>
        <p:spPr>
          <a:xfrm flipH="1" flipV="1">
            <a:off x="6366600" y="4005000"/>
            <a:ext cx="1058040" cy="3722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81" name=""/>
          <p:cNvCxnSpPr>
            <a:stCxn id="1050" idx="5"/>
            <a:endCxn id="1052" idx="0"/>
          </p:cNvCxnSpPr>
          <p:nvPr/>
        </p:nvCxnSpPr>
        <p:spPr>
          <a:xfrm>
            <a:off x="5986440" y="2633400"/>
            <a:ext cx="300600" cy="117684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82" name=""/>
          <p:cNvCxnSpPr>
            <a:stCxn id="1052" idx="7"/>
            <a:endCxn id="1046" idx="3"/>
          </p:cNvCxnSpPr>
          <p:nvPr/>
        </p:nvCxnSpPr>
        <p:spPr>
          <a:xfrm flipV="1">
            <a:off x="6367320" y="3090600"/>
            <a:ext cx="982080" cy="75312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83" name=""/>
          <p:cNvCxnSpPr>
            <a:stCxn id="1050" idx="7"/>
            <a:endCxn id="1042" idx="2"/>
          </p:cNvCxnSpPr>
          <p:nvPr/>
        </p:nvCxnSpPr>
        <p:spPr>
          <a:xfrm flipV="1">
            <a:off x="5986080" y="2094840"/>
            <a:ext cx="795960" cy="37692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84" name=""/>
          <p:cNvCxnSpPr>
            <a:stCxn id="1045" idx="6"/>
            <a:endCxn id="1050" idx="1"/>
          </p:cNvCxnSpPr>
          <p:nvPr/>
        </p:nvCxnSpPr>
        <p:spPr>
          <a:xfrm>
            <a:off x="4952520" y="2018880"/>
            <a:ext cx="872280" cy="45324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85" name=""/>
          <p:cNvCxnSpPr>
            <a:stCxn id="1042" idx="5"/>
            <a:endCxn id="1046" idx="1"/>
          </p:cNvCxnSpPr>
          <p:nvPr/>
        </p:nvCxnSpPr>
        <p:spPr>
          <a:xfrm>
            <a:off x="6977160" y="2176560"/>
            <a:ext cx="372240" cy="753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86" name=""/>
          <p:cNvCxnSpPr>
            <a:stCxn id="1046" idx="4"/>
            <a:endCxn id="1056" idx="0"/>
          </p:cNvCxnSpPr>
          <p:nvPr/>
        </p:nvCxnSpPr>
        <p:spPr>
          <a:xfrm>
            <a:off x="7429320" y="3123720"/>
            <a:ext cx="76680" cy="122004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87" name=""/>
          <p:cNvCxnSpPr>
            <a:stCxn id="1052" idx="4"/>
            <a:endCxn id="1049" idx="0"/>
          </p:cNvCxnSpPr>
          <p:nvPr/>
        </p:nvCxnSpPr>
        <p:spPr>
          <a:xfrm flipH="1">
            <a:off x="5829120" y="4038480"/>
            <a:ext cx="457920" cy="10677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88" name=""/>
          <p:cNvCxnSpPr>
            <a:stCxn id="1055" idx="4"/>
            <a:endCxn id="1040" idx="0"/>
          </p:cNvCxnSpPr>
          <p:nvPr/>
        </p:nvCxnSpPr>
        <p:spPr>
          <a:xfrm>
            <a:off x="2400120" y="4191120"/>
            <a:ext cx="1080" cy="83880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cxnSp>
        <p:nvCxnSpPr>
          <p:cNvPr id="1089" name=""/>
          <p:cNvCxnSpPr>
            <a:stCxn id="1052" idx="4"/>
            <a:endCxn id="1051" idx="1"/>
          </p:cNvCxnSpPr>
          <p:nvPr/>
        </p:nvCxnSpPr>
        <p:spPr>
          <a:xfrm>
            <a:off x="6286680" y="4038480"/>
            <a:ext cx="1443600" cy="125352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090" name=""/>
          <p:cNvCxnSpPr>
            <a:stCxn id="1037" idx="6"/>
            <a:endCxn id="1038" idx="0"/>
          </p:cNvCxnSpPr>
          <p:nvPr/>
        </p:nvCxnSpPr>
        <p:spPr>
          <a:xfrm>
            <a:off x="2209680" y="2323800"/>
            <a:ext cx="496080" cy="5720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091" name=""/>
          <p:cNvSpPr/>
          <p:nvPr/>
        </p:nvSpPr>
        <p:spPr>
          <a:xfrm>
            <a:off x="4191120" y="3276720"/>
            <a:ext cx="685800" cy="1066680"/>
          </a:xfrm>
          <a:prstGeom prst="lightningBol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ied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nnzeichen komponentenbasierter Modelli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onenten: Modelle versus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lbildung: Fundame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: Modell-Kompon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nten komponentenbasierter Modellentwick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az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z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onentenbasierte Modellierung geh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ü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ine Methodik zur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ftwarewiederverwendu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i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a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elle Herausforderu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t die dem Problem angemessene Dekomposition des korrespondierenden (Real-)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i der Dekomposition eines Systems gibt es zahlreic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eiheitsgrade und Randbedingung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ie völli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abhängig v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r konkret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lisieru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onenten in der Modellierung dienen primär der Kommunikation v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onzepte, Abstraktionen, Ide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omponentenorientierte Modellier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3059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ktion d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Komplexitä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i der Entwicklung der 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 Grundlage des Verständnis der 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ch das „Teile und Herrsche“-Prinz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omponentenorientierte Modellier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3059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höht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uverlässigke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urch ausgetestete Modellbestandte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114480" y="228240"/>
            <a:ext cx="9372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omponentenorientierte Modellier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Kontextunabhängigkeit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(Plattform, Betriebssystem, Sprachen, Netzwerke, Anwendungen) durch generische Lös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114480" y="228240"/>
            <a:ext cx="9372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omponentenorientierte Modellier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höht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passbarke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xibilitä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rtbarke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usführbarer Modelle durch (3) und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ied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nnzeichen komponentenbasierter Modelli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Komponenten: Modelle versus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lbildung: Fundame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: Modell-Kompon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nten komponentenbasierter Modellentwick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11:48:43Z</dcterms:created>
  <dc:creator>INF.5</dc:creator>
  <dc:description/>
  <dc:language>en-US</dc:language>
  <cp:lastModifiedBy>INF.5</cp:lastModifiedBy>
  <dcterms:modified xsi:type="dcterms:W3CDTF">2002-10-09T07:05:14Z</dcterms:modified>
  <cp:revision>11</cp:revision>
  <dc:subject/>
  <dc:title>Komponentenbasierte Modellentwicklung und Simulation</dc:title>
</cp:coreProperties>
</file>