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FD8C-CEC8-4CA0-B603-1C13E36186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0F82-5E2E-454C-9555-65D866A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4462-D456-4146-BA4D-7C0E518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FA99-12A6-4FA3-B88C-AD76DE5B2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CEBB-9B57-43F2-A804-3EC4CEA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6340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17320" y="17524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6340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17320" y="39020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41CC-996F-4CAB-93E6-6C28789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08C6-526F-4247-A467-A6996E79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A49D-B7A1-4D36-A8B9-C65DBD1A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9F8B-E61F-4A70-B3D3-4B24F2B7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2685-1E39-4971-ADDB-23F6E16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1400" y="39020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5495-1812-45BD-9D0A-41AD0AE4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1400" y="17524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EF1-25C5-48F7-8D2A-71F5F7A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705360" y="60958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07D2-3FD8-48DE-B9E2-61A762780A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218960" y="6248520"/>
            <a:ext cx="1447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./11.7.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438280" y="6095880"/>
            <a:ext cx="42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pektiven der Modellbildung und Simulation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5000" y="685800"/>
            <a:ext cx="9009000" cy="1052640"/>
            <a:chOff x="135000" y="685800"/>
            <a:chExt cx="9009000" cy="1052640"/>
          </a:xfrm>
        </p:grpSpPr>
        <p:grpSp>
          <p:nvGrpSpPr>
            <p:cNvPr id="10" name=""/>
            <p:cNvGrpSpPr/>
            <p:nvPr/>
          </p:nvGrpSpPr>
          <p:grpSpPr>
            <a:xfrm>
              <a:off x="425520" y="793800"/>
              <a:ext cx="711360" cy="474840"/>
              <a:chOff x="425520" y="793800"/>
              <a:chExt cx="711360" cy="474840"/>
            </a:xfrm>
          </p:grpSpPr>
          <p:sp>
            <p:nvSpPr>
              <p:cNvPr id="11" name=""/>
              <p:cNvSpPr/>
              <p:nvPr/>
            </p:nvSpPr>
            <p:spPr>
              <a:xfrm>
                <a:off x="425520" y="7938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08560" y="793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49360" y="1216080"/>
              <a:ext cx="737640" cy="474840"/>
              <a:chOff x="549360" y="1216080"/>
              <a:chExt cx="737640" cy="474840"/>
            </a:xfrm>
          </p:grpSpPr>
          <p:sp>
            <p:nvSpPr>
              <p:cNvPr id="14" name=""/>
              <p:cNvSpPr/>
              <p:nvPr/>
            </p:nvSpPr>
            <p:spPr>
              <a:xfrm>
                <a:off x="549360" y="12160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18000" y="1216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135000" y="1143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70040" y="6858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451080" y="1508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68904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019920"/>
            <a:ext cx="7834320" cy="2880"/>
          </a:xfrm>
          <a:custGeom>
            <a:avLst/>
            <a:gdLst/>
            <a:ahLst/>
            <a:rect l="l" t="t" r="r" b="b"/>
            <a:pathLst>
              <a:path w="4935" h="2">
                <a:moveTo>
                  <a:pt x="0" y="2"/>
                </a:moveTo>
                <a:lnTo>
                  <a:pt x="4935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6095880"/>
          <a:ext cx="520920" cy="53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5880"/>
                    <a:ext cx="52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3581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./11.7.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5000" y="1371600"/>
            <a:ext cx="9009000" cy="1052640"/>
            <a:chOff x="135000" y="1371600"/>
            <a:chExt cx="9009000" cy="1052640"/>
          </a:xfrm>
        </p:grpSpPr>
        <p:grpSp>
          <p:nvGrpSpPr>
            <p:cNvPr id="62" name=""/>
            <p:cNvGrpSpPr/>
            <p:nvPr/>
          </p:nvGrpSpPr>
          <p:grpSpPr>
            <a:xfrm>
              <a:off x="425520" y="1479600"/>
              <a:ext cx="711360" cy="474840"/>
              <a:chOff x="425520" y="1479600"/>
              <a:chExt cx="711360" cy="474840"/>
            </a:xfrm>
          </p:grpSpPr>
          <p:sp>
            <p:nvSpPr>
              <p:cNvPr id="63" name=""/>
              <p:cNvSpPr/>
              <p:nvPr/>
            </p:nvSpPr>
            <p:spPr>
              <a:xfrm>
                <a:off x="425520" y="1479600"/>
                <a:ext cx="437400" cy="4748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08560" y="1479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9360" y="1901880"/>
              <a:ext cx="737640" cy="474840"/>
              <a:chOff x="549360" y="1901880"/>
              <a:chExt cx="737640" cy="474840"/>
            </a:xfrm>
          </p:grpSpPr>
          <p:sp>
            <p:nvSpPr>
              <p:cNvPr id="66" name=""/>
              <p:cNvSpPr/>
              <p:nvPr/>
            </p:nvSpPr>
            <p:spPr>
              <a:xfrm>
                <a:off x="549360" y="1901880"/>
                <a:ext cx="421560" cy="4748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8000" y="1901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35000" y="1828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0040" y="13716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51080" y="2193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77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Perspektiven der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Modellbildung und Simulation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Institut für Technik Intelligenter Systeme e.V.</a:t>
            </a:r>
            <a:br>
              <a:rPr sz="2400"/>
            </a:b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Universität der Bundeswehr Münche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EF636-E6D9-4A02-84EB-6B898D849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Programm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ntag, 10. Juli 2000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3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grüß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. Dr. G. Schmidt (Dekan, UniBw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. Dr. K.-P. Michels (1. Vorsitzender, 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F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schungsbere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mulatio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men - Organisation - Perspekt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. Dr. A.Lehmann (2. Vorsitzender, 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1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verwendung von Modulen in Simulation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n/Komponentenbasierter Modellentwu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. Hofmann, T. Krieger (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4.4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- und Zuverlässigkeitssteigerung mitt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eilter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. Berchtold (ITIS), J. Lüthi (UniBw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1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54D0-2508-44DC-BCF9-D400193C05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8948D1-6206-4251-9BE0-0745D16FE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Programm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Montag, 10. Juli 2000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.4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Simulations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. Pfeiffer (UniBwM/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6.1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ladener Vortr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ture Perspectives on Modeling a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 Davis (George Mason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7.0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e des 1. Workshop-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meinsames Abendessen im Universitäts-Cas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BEBF-1762-4BBD-A979-C1C4D82C52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3BAB5FB-3C67-45A5-8139-C87E37CD45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Programm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Dienstag, 11. Juli 2000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9.0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ladener Vortr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ue Entwicklungen in der Systemsimulation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lierung menschlichen Verhal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. Schmidt (Universität Pass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9.4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uman Behaviou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. Dompke (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.1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räsentation unzulänglic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Modell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. Köster (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.4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616F-4FAF-47A9-BC68-6FF4964576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7CA07BF-AA3E-4941-9091-9224A03F57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Programm</a:t>
            </a:r>
            <a:br>
              <a:rPr sz="3000"/>
            </a:br>
            <a:r>
              <a:rPr b="1" lang="de-DE" sz="3000" spc="-1" strike="noStrike">
                <a:solidFill>
                  <a:srgbClr val="0066ff"/>
                </a:solidFill>
                <a:latin typeface="Arial"/>
              </a:rPr>
              <a:t>Dienstag, 11. Juli 2000</a:t>
            </a:r>
            <a:endParaRPr b="1" lang="en-US" sz="3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1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 Anforderungen und Möglichkeiten bei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ifikation und Validierung von HLA-Föder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 Brade (IT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.4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ladener Vortr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in der Modellbildung und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industrieller 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. Nischwitz (EADS-LF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2.3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chlußdisk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spektiven der Modellbildung und Simulation 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ademischer, industrieller und militärischer 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3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e des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0B03-CC53-4304-966D-765EA6E89E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66B9D7E-60AB-4057-B874-5315C37EA4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9:46:56Z</dcterms:created>
  <dc:creator>Dirk Brade</dc:creator>
  <dc:description/>
  <dc:language>en-US</dc:language>
  <cp:lastModifiedBy>Inf4</cp:lastModifiedBy>
  <cp:lastPrinted>2000-05-09T17:28:50Z</cp:lastPrinted>
  <dcterms:modified xsi:type="dcterms:W3CDTF">2000-07-12T09:23:54Z</dcterms:modified>
  <cp:revision>54</cp:revision>
  <dc:subject/>
  <dc:title>Kein Folientitel</dc:title>
</cp:coreProperties>
</file>