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967D-CE01-425D-8782-61BF245124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828600"/>
            <a:ext cx="784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107E-8BD8-4F4A-A357-364AA04B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140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B42E-3B17-47E1-81FA-C9BCF327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3400" y="159984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7320" y="159984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82860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3400" y="382860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7320" y="3828600"/>
            <a:ext cx="252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885E-A81F-46DE-8F21-002CC198D1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031C-EA9F-4C0D-BBA9-CAB6314A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56B4-B266-4ECA-A03C-E238304C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D857-C134-4B77-BFB0-C9E7E7C5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6230-B2A8-4130-8F4F-43B9CAA0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83E2-DD80-4399-8C4B-44D8E1CC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232F-D3FC-491D-9700-CB28229A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1400" y="382860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C4D8-D0E9-4103-8BE8-121FAE4F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828600"/>
            <a:ext cx="7848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3806-F0F5-4FC6-B1B7-20199E40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68904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705360" y="60958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05AA-5D4F-44AD-9108-3E0B526040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733920" y="617220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TIS e.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5973840"/>
            <a:ext cx="213372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Institut für Technik Intelligenter Systeme e.V.</a:t>
            </a:r>
            <a:br>
              <a:rPr sz="3000"/>
            </a:b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an der Universität der Bundeswehr Münc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172404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D7EB-11DC-4797-B1AB-3A5F3B5193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1F1D6F6-EA58-4EF1-AC1D-E47B1E0EE4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Forschungsbereich </a:t>
            </a:r>
            <a:br>
              <a:rPr sz="3000"/>
            </a:b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Geschäftsprozesse und Automatisier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ktbeispie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nsorgeführte Roboter“ (1995 -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fähige sehende Roboter für dynamisches und flexibles Handeln in variablen Umgebungen“ (1995 -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äftsprozeßmodellierung als Basis für AUDIS“ (1998 -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C307-DA27-4926-B758-8FDAFED9F3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DBAB4F4-403B-4F70-ABA5-3487925931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stitut für Technik Intelligenter Systeme e.V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der Universität der Bundeswehr Münc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666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ründet am 30. März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An-Institu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m Träger der Universität der Bundeswehr genehmigt am 18. Januar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m Finanzamt für Körperschaften, München, als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gemeinnütz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erk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828800" cy="12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3E29-FE59-4CBF-840D-726DD84BAE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67F5256-50FB-491E-96E9-95CE263E8C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Ziele von ITIS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 von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Wissenschaft und Forsch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f dem Gebiet der Technik intelligenter Sys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tützung und Abwicklung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interdisziplinär angelegter Forschungsprojek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 der Universität der Bundesw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Förderung von Lehre und Studiu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insbesondere im Rahmen von Studien- Diplom- und Doktor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 des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Wissens- und Technologietransfer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r Industrie und Poli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5151-7C9A-4C4A-8016-BF1E433D7D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6D63B1D-9FCB-4CE8-B0D8-5CE5E44544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Struktur von ITIS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76520"/>
            <a:ext cx="7848720" cy="2743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200400"/>
            <a:ext cx="16002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981080"/>
            <a:ext cx="16002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glied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amm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981080"/>
            <a:ext cx="1600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Kurato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200400"/>
            <a:ext cx="16002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3200400"/>
            <a:ext cx="1600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äft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h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sist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5" idx="2"/>
            <a:endCxn id="54" idx="0"/>
          </p:cNvCxnSpPr>
          <p:nvPr/>
        </p:nvCxnSpPr>
        <p:spPr>
          <a:xfrm>
            <a:off x="4533480" y="274320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7" idx="3"/>
            <a:endCxn id="54" idx="1"/>
          </p:cNvCxnSpPr>
          <p:nvPr/>
        </p:nvCxnSpPr>
        <p:spPr>
          <a:xfrm>
            <a:off x="2666880" y="3580920"/>
            <a:ext cx="1067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4" idx="3"/>
            <a:endCxn id="58" idx="1"/>
          </p:cNvCxnSpPr>
          <p:nvPr/>
        </p:nvCxnSpPr>
        <p:spPr>
          <a:xfrm>
            <a:off x="5334120" y="3581280"/>
            <a:ext cx="762480" cy="115200"/>
          </a:xfrm>
          <a:prstGeom prst="bentConnector3">
            <a:avLst>
              <a:gd name="adj1" fmla="val 49976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6" idx="3"/>
            <a:endCxn id="55" idx="1"/>
          </p:cNvCxnSpPr>
          <p:nvPr/>
        </p:nvCxnSpPr>
        <p:spPr>
          <a:xfrm>
            <a:off x="2666880" y="2361960"/>
            <a:ext cx="106776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63" name=""/>
          <p:cNvCxnSpPr>
            <a:stCxn id="56" idx="3"/>
            <a:endCxn id="54" idx="1"/>
          </p:cNvCxnSpPr>
          <p:nvPr/>
        </p:nvCxnSpPr>
        <p:spPr>
          <a:xfrm>
            <a:off x="2666880" y="2362320"/>
            <a:ext cx="1067760" cy="1219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64" name=""/>
          <p:cNvSpPr/>
          <p:nvPr/>
        </p:nvSpPr>
        <p:spPr>
          <a:xfrm>
            <a:off x="6095880" y="3886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510552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dellbil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3520" y="22096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29600" y="464832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schungsbere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510552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chäfts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zesse 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5105520"/>
            <a:ext cx="14475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krosystem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5105520"/>
            <a:ext cx="1447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weitere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54" idx="2"/>
            <a:endCxn id="65" idx="0"/>
          </p:cNvCxnSpPr>
          <p:nvPr/>
        </p:nvCxnSpPr>
        <p:spPr>
          <a:xfrm rot="5400000">
            <a:off x="2590200" y="3162240"/>
            <a:ext cx="1143720" cy="27439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54" idx="2"/>
            <a:endCxn id="68" idx="0"/>
          </p:cNvCxnSpPr>
          <p:nvPr/>
        </p:nvCxnSpPr>
        <p:spPr>
          <a:xfrm rot="5400000">
            <a:off x="3542760" y="4114800"/>
            <a:ext cx="1143720" cy="8388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54" idx="2"/>
            <a:endCxn id="69" idx="0"/>
          </p:cNvCxnSpPr>
          <p:nvPr/>
        </p:nvCxnSpPr>
        <p:spPr>
          <a:xfrm flipH="1" rot="16200000">
            <a:off x="4495680" y="3999960"/>
            <a:ext cx="1143720" cy="1067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54" idx="2"/>
            <a:endCxn id="70" idx="0"/>
          </p:cNvCxnSpPr>
          <p:nvPr/>
        </p:nvCxnSpPr>
        <p:spPr>
          <a:xfrm flipH="1" rot="16200000">
            <a:off x="5447160" y="3047760"/>
            <a:ext cx="1143720" cy="2972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A9FD-7383-40B5-980E-8ED9E29D36B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6B85610-6016-4B0E-831A-596309E69F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Struktur von ITIS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48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Vorsitzender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Klaus-Peter Mich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Vorsitzender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Axel Leh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Vorsitzender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Wolfgang Nie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atzmeister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Diethard Kö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iftführer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Harald Hag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äftsfüh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Uwe Dompke (Geschäftsführ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reas Köster (Assist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lle Angaben: Stand November 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9800" y="1599840"/>
            <a:ext cx="3848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rat</a:t>
            </a:r>
            <a:br>
              <a:rPr sz="28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Forschungsbereichs- und -projektlei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ainer Dieterich (UniBw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Uwe Dompk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Ignaz Eis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Wolfgang Günth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Diethard Kö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Axel Leh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Fritz Leh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Hans-Dieter Lie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ainer Marquar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Klaus-Peter Mich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Franz Re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Lothar Schmit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f. Dr. Rüdiger Voig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36A2-7B18-4D91-916D-606FA53BD1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DC61243-5EB6-47C6-9D3F-DB3422677F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Struktur von ITIS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48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gli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f. Dr. Ulrich Ap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f. Dr. Uwe Borg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f. Dr. Ignaz Eis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f. Harald Fritzs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. Harald Ha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. Michael H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f. Dr. Diethard Kö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f. Dr. Axel Leh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f. Dr. Fritz Leh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f. Dr. Rainer Marquar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f. Dr. Klaus-Peter Mich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f. Dr. Wolfgang Nie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. Lothar Schmi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f. Dr. Andy Schü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f. Dr. Hans-Rolf Tränk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lle Angaben: Stand November 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48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estellte</a:t>
            </a:r>
            <a:br>
              <a:rPr sz="28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mit Arbeitsvertr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g. rer. nat. Clemens Bercht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pl.-Inform. Dirk Br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. rer. Nat. Klaus Doh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. rer. nat. Uwe Domp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pl.-Ing. Martin Gli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pl.-Sozialpäd. (FH) Günter Herr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. rer. nat. Marko Hof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pl.-Math. Thomas Kri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pl.-Inform. Andreas Kö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au Kornelia Mattau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pl.-Phys. Florian W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B44D-52EB-4100-A592-9C822EEFAB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67E7F09-FC40-4A22-85B5-CCCCDA76CD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Struktur von ITIS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glieder: derzeit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estellte: derzeit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uratorium: in Vorberei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schäftsführung: Dr. Uwe K.J. Domp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nstleistung: Süd-Revision Treuhand Gm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le Angaben: Stand November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95600" y="1599840"/>
            <a:ext cx="3848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7F48-60AC-4CDA-9DF7-7D15F7DA4E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5494481-B372-4728-8912-4BCE9E031F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Forschungsbereich </a:t>
            </a:r>
            <a:br>
              <a:rPr sz="3000"/>
            </a:b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odellbildung und Simu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ktbeispie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kunftsfelder der Modellbildung und Simulation“ (1998 -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kumentation von Simulationssystemen“ (1998 -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uman Factors in militärischen Führungsprozessen für die Simulation“ (1999 -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derverwendung von Modulen in Simulationssystemen“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ikation, Validierung und Akkreditierung“ (1999 -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bildung und Simulation für das erweiterte Aufgabenspektrum“ (2000 -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sessment of Command &amp; Control in Operations Other Than War“ (2000 -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0E1B-CC00-4F55-8E13-9163521E2D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6B30B17-A6A5-4FA7-9BA6-130CCCC449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Forschungsbereich Mikrosystemtechn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Projektbeisp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ntelligentes Gas-Multisensorsystem“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rderprojekt der Bayerischen Forschungsstiftung (1994-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gbares Gassensorsystem für variable Meß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ache und flexible Konfiguration und Kalibr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schaf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ukasten“ kostengünstiger Halbleitersensoren div. Prinzip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are Auswertungsmatrix mit Querempfindlichkeitskorrek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usibilitätskontrolle mit einfacher Fuzzy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90D7-B767-46A2-8BE1-A632882BDF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5016B0F-80DD-427D-9C0C-CAA5364EF3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09:46:56Z</dcterms:created>
  <dc:creator>Dirk Brade</dc:creator>
  <dc:description/>
  <dc:language>en-US</dc:language>
  <cp:lastModifiedBy>Zeichenbüro</cp:lastModifiedBy>
  <cp:lastPrinted>2000-07-09T14:22:54Z</cp:lastPrinted>
  <dcterms:modified xsi:type="dcterms:W3CDTF">2000-12-04T11:29:42Z</dcterms:modified>
  <cp:revision>45</cp:revision>
  <dc:subject/>
  <dc:title>Kein Folientitel</dc:title>
</cp:coreProperties>
</file>