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779D-F977-44FE-BD30-1996407ED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EAF9-3ADC-48DE-A7A9-956AC7DF5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B07E-D683-4B88-9EE6-C06CE2400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094B-17D3-4531-947D-C7362AC4A8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F787-BBC0-4737-AD73-9A6247B38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4FD1-831A-4E4F-A7B3-28855B8BD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705F-636D-4FDF-B53D-72A7A1479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0EED-7B95-4108-B02F-127E5C7DC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96BE-42D7-4D44-B2AB-F905118E6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A26E-7D3D-41A4-A59C-1DDAFA61A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A6C2-6378-4F81-ADEC-901C3BF77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5059-3791-4691-BBC8-D46CD395C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9907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2819520" y="6095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pektiven 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lbildung und Simulation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09480" y="6095880"/>
          <a:ext cx="52236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2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33400" y="990720"/>
            <a:ext cx="5808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orkshop</a:t>
            </a:r>
            <a:br>
              <a:rPr sz="3000"/>
            </a:b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„Perspektiven der </a:t>
            </a:r>
            <a:br>
              <a:rPr sz="3000"/>
            </a:b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odellbildung und Simulation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838080"/>
            <a:ext cx="7848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666880"/>
            <a:ext cx="673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FORSCHUNGSBERE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LBILDUNG UND SIM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N - ORGANISATION - PERSPEKT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648320"/>
            <a:ext cx="3429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tut fü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4648320"/>
            <a:ext cx="38862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IS - Institut fü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k Intelligenter 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5410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ät der Bundeswehr Mün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41148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xel Lehm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83A1-D2E8-4EEF-9C26-163D667602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PEKT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2760" y="144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371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rzeitige Forschungsz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1905120"/>
            <a:ext cx="647712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rukturierung des M&amp;S - Lebenszyk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mponentenbasierte Modell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&amp;S - Verifikation, Validierung (&amp;Akredit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herrschbarkeit verteilter 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istungs- und Zuverlässigkeitsbezogene M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llierung menschlichen Verhal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DE56-21E1-400C-8A0A-D06E3DFC86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934240" y="5119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082520" y="1295280"/>
            <a:ext cx="6793920" cy="4571280"/>
            <a:chOff x="1082520" y="1295280"/>
            <a:chExt cx="6793920" cy="4571280"/>
          </a:xfrm>
        </p:grpSpPr>
        <p:sp>
          <p:nvSpPr>
            <p:cNvPr id="163" name=""/>
            <p:cNvSpPr/>
            <p:nvPr/>
          </p:nvSpPr>
          <p:spPr>
            <a:xfrm>
              <a:off x="1143000" y="4859280"/>
              <a:ext cx="2119320" cy="577080"/>
            </a:xfrm>
            <a:custGeom>
              <a:avLst/>
              <a:gdLst>
                <a:gd name="textAreaLeft" fmla="*/ 0 w 2119320"/>
                <a:gd name="textAreaRight" fmla="*/ 2119680 w 211932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vantGarde Bk BT"/>
                </a:rPr>
                <a:t>Model Input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082520" y="2258640"/>
              <a:ext cx="2179800" cy="576720"/>
              <a:chOff x="1082520" y="2258640"/>
              <a:chExt cx="2179800" cy="576720"/>
            </a:xfrm>
          </p:grpSpPr>
          <p:sp>
            <p:nvSpPr>
              <p:cNvPr id="165" name=""/>
              <p:cNvSpPr/>
              <p:nvPr/>
            </p:nvSpPr>
            <p:spPr>
              <a:xfrm>
                <a:off x="1143000" y="2258640"/>
                <a:ext cx="2119320" cy="57672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82520" y="2368440"/>
                <a:ext cx="194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vantGarde Bk BT"/>
                  </a:rPr>
                  <a:t>System Observ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440160" y="4763160"/>
              <a:ext cx="18543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834360" y="4591080"/>
              <a:ext cx="1154520" cy="246240"/>
            </a:xfrm>
            <a:custGeom>
              <a:avLst/>
              <a:gdLst/>
              <a:ahLst/>
              <a:rect l="l" t="t" r="r" b="b"/>
              <a:pathLst>
                <a:path w="680" h="122">
                  <a:moveTo>
                    <a:pt x="340" y="122"/>
                  </a:moveTo>
                  <a:lnTo>
                    <a:pt x="680" y="0"/>
                  </a:lnTo>
                  <a:lnTo>
                    <a:pt x="0" y="0"/>
                  </a:lnTo>
                  <a:lnTo>
                    <a:pt x="340" y="122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3440160" y="3895560"/>
              <a:ext cx="18543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840480" y="3703680"/>
              <a:ext cx="1154880" cy="244440"/>
            </a:xfrm>
            <a:custGeom>
              <a:avLst/>
              <a:gdLst/>
              <a:ahLst/>
              <a:rect l="l" t="t" r="r" b="b"/>
              <a:pathLst>
                <a:path w="680" h="122">
                  <a:moveTo>
                    <a:pt x="340" y="122"/>
                  </a:moveTo>
                  <a:lnTo>
                    <a:pt x="680" y="0"/>
                  </a:lnTo>
                  <a:lnTo>
                    <a:pt x="0" y="0"/>
                  </a:lnTo>
                  <a:lnTo>
                    <a:pt x="340" y="122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3440160" y="3028320"/>
              <a:ext cx="18543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840480" y="2836080"/>
              <a:ext cx="1154880" cy="244440"/>
            </a:xfrm>
            <a:custGeom>
              <a:avLst/>
              <a:gdLst/>
              <a:ahLst/>
              <a:rect l="l" t="t" r="r" b="b"/>
              <a:pathLst>
                <a:path w="680" h="122">
                  <a:moveTo>
                    <a:pt x="340" y="122"/>
                  </a:moveTo>
                  <a:lnTo>
                    <a:pt x="680" y="0"/>
                  </a:lnTo>
                  <a:lnTo>
                    <a:pt x="0" y="0"/>
                  </a:lnTo>
                  <a:lnTo>
                    <a:pt x="340" y="122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3440160" y="2162880"/>
              <a:ext cx="18543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840480" y="1968480"/>
              <a:ext cx="1154880" cy="246240"/>
            </a:xfrm>
            <a:custGeom>
              <a:avLst/>
              <a:gdLst/>
              <a:ahLst/>
              <a:rect l="l" t="t" r="r" b="b"/>
              <a:pathLst>
                <a:path w="680" h="122">
                  <a:moveTo>
                    <a:pt x="340" y="122"/>
                  </a:moveTo>
                  <a:lnTo>
                    <a:pt x="680" y="0"/>
                  </a:lnTo>
                  <a:lnTo>
                    <a:pt x="0" y="0"/>
                  </a:lnTo>
                  <a:lnTo>
                    <a:pt x="340" y="122"/>
                  </a:lnTo>
                  <a:lnTo>
                    <a:pt x="340" y="122"/>
                  </a:lnTo>
                  <a:close/>
                </a:path>
              </a:pathLst>
            </a:custGeom>
            <a:noFill/>
            <a:ln w="190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440160" y="1295280"/>
              <a:ext cx="1854360" cy="71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"/>
            <p:cNvGrpSpPr/>
            <p:nvPr/>
          </p:nvGrpSpPr>
          <p:grpSpPr>
            <a:xfrm>
              <a:off x="1112760" y="1391040"/>
              <a:ext cx="2149200" cy="576360"/>
              <a:chOff x="1112760" y="1391040"/>
              <a:chExt cx="2149200" cy="5763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143000" y="1391040"/>
                <a:ext cx="2118960" cy="576360"/>
                <a:chOff x="1143000" y="1391040"/>
                <a:chExt cx="2118960" cy="5763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143000" y="1391040"/>
                  <a:ext cx="2118960" cy="576360"/>
                </a:xfrm>
                <a:custGeom>
                  <a:avLst/>
                  <a:gdLst>
                    <a:gd name="textAreaLeft" fmla="*/ 0 w 2118960"/>
                    <a:gd name="textAreaRight" fmla="*/ 2119320 w 2118960"/>
                    <a:gd name="textAreaTop" fmla="*/ 0 h 576360"/>
                    <a:gd name="textAreaBottom" fmla="*/ 576720 h 57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304280" y="1450800"/>
                  <a:ext cx="18504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1112760" y="1492200"/>
                <a:ext cx="1450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vantGarde Bk BT"/>
                  </a:rPr>
                  <a:t>Sponsor Nee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119240" y="3124440"/>
              <a:ext cx="2142720" cy="578160"/>
              <a:chOff x="1119240" y="3124440"/>
              <a:chExt cx="2142720" cy="5781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1143000" y="3124440"/>
                <a:ext cx="2118960" cy="578160"/>
                <a:chOff x="1143000" y="3124440"/>
                <a:chExt cx="2118960" cy="578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143000" y="3124440"/>
                  <a:ext cx="2118960" cy="578160"/>
                </a:xfrm>
                <a:custGeom>
                  <a:avLst/>
                  <a:gdLst>
                    <a:gd name="textAreaLeft" fmla="*/ 0 w 2118960"/>
                    <a:gd name="textAreaRight" fmla="*/ 2119320 w 2118960"/>
                    <a:gd name="textAreaTop" fmla="*/ 0 h 578160"/>
                    <a:gd name="textAreaBottom" fmla="*/ 578520 h 57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149840" y="3124440"/>
                  <a:ext cx="17539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1119240" y="3222360"/>
                <a:ext cx="167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vantGarde Bk BT"/>
                  </a:rPr>
                  <a:t>Modeling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1088640" y="3992040"/>
              <a:ext cx="2173680" cy="576720"/>
              <a:chOff x="1088640" y="3992040"/>
              <a:chExt cx="2173680" cy="576720"/>
            </a:xfrm>
          </p:grpSpPr>
          <p:sp>
            <p:nvSpPr>
              <p:cNvPr id="187" name=""/>
              <p:cNvSpPr/>
              <p:nvPr/>
            </p:nvSpPr>
            <p:spPr>
              <a:xfrm>
                <a:off x="1143000" y="3992040"/>
                <a:ext cx="2119320" cy="57672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8640" y="4104720"/>
                <a:ext cx="187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vantGarde Bk BT"/>
                  </a:rPr>
                  <a:t>Solution Techni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4677480" y="1912680"/>
              <a:ext cx="19666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7"/>
            <a:stretch/>
          </p:blipFill>
          <p:spPr>
            <a:xfrm>
              <a:off x="4696200" y="2773440"/>
              <a:ext cx="1966680" cy="32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"/>
            <p:cNvGrpSpPr/>
            <p:nvPr/>
          </p:nvGrpSpPr>
          <p:grpSpPr>
            <a:xfrm>
              <a:off x="5188680" y="2262240"/>
              <a:ext cx="2313360" cy="844560"/>
              <a:chOff x="5188680" y="2262240"/>
              <a:chExt cx="2313360" cy="8445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5559120" y="2282400"/>
                <a:ext cx="1942920" cy="824400"/>
                <a:chOff x="5559120" y="2282400"/>
                <a:chExt cx="1942920" cy="8244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59120" y="2282400"/>
                  <a:ext cx="1731240" cy="532800"/>
                </a:xfrm>
                <a:custGeom>
                  <a:avLst/>
                  <a:gdLst/>
                  <a:ahLst/>
                  <a:rect l="l" t="t" r="r" b="b"/>
                  <a:pathLst>
                    <a:path w="1111" h="316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19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6" y="28"/>
                      </a:lnTo>
                      <a:lnTo>
                        <a:pt x="907" y="37"/>
                      </a:lnTo>
                      <a:lnTo>
                        <a:pt x="948" y="46"/>
                      </a:lnTo>
                      <a:lnTo>
                        <a:pt x="984" y="57"/>
                      </a:lnTo>
                      <a:lnTo>
                        <a:pt x="1016" y="69"/>
                      </a:lnTo>
                      <a:lnTo>
                        <a:pt x="1043" y="82"/>
                      </a:lnTo>
                      <a:lnTo>
                        <a:pt x="1066" y="96"/>
                      </a:lnTo>
                      <a:lnTo>
                        <a:pt x="1086" y="110"/>
                      </a:lnTo>
                      <a:lnTo>
                        <a:pt x="1100" y="126"/>
                      </a:lnTo>
                      <a:lnTo>
                        <a:pt x="1105" y="133"/>
                      </a:lnTo>
                      <a:lnTo>
                        <a:pt x="1107" y="142"/>
                      </a:lnTo>
                      <a:lnTo>
                        <a:pt x="1109" y="149"/>
                      </a:lnTo>
                      <a:lnTo>
                        <a:pt x="1111" y="158"/>
                      </a:lnTo>
                      <a:lnTo>
                        <a:pt x="1109" y="165"/>
                      </a:lnTo>
                      <a:lnTo>
                        <a:pt x="1107" y="174"/>
                      </a:lnTo>
                      <a:lnTo>
                        <a:pt x="1105" y="181"/>
                      </a:lnTo>
                      <a:lnTo>
                        <a:pt x="1100" y="190"/>
                      </a:lnTo>
                      <a:lnTo>
                        <a:pt x="1086" y="204"/>
                      </a:lnTo>
                      <a:lnTo>
                        <a:pt x="1066" y="217"/>
                      </a:lnTo>
                      <a:lnTo>
                        <a:pt x="1043" y="233"/>
                      </a:lnTo>
                      <a:lnTo>
                        <a:pt x="1016" y="245"/>
                      </a:lnTo>
                      <a:lnTo>
                        <a:pt x="984" y="256"/>
                      </a:lnTo>
                      <a:lnTo>
                        <a:pt x="948" y="268"/>
                      </a:lnTo>
                      <a:lnTo>
                        <a:pt x="907" y="279"/>
                      </a:lnTo>
                      <a:lnTo>
                        <a:pt x="866" y="288"/>
                      </a:lnTo>
                      <a:lnTo>
                        <a:pt x="819" y="295"/>
                      </a:lnTo>
                      <a:lnTo>
                        <a:pt x="771" y="302"/>
                      </a:lnTo>
                      <a:lnTo>
                        <a:pt x="719" y="306"/>
                      </a:lnTo>
                      <a:lnTo>
                        <a:pt x="667" y="311"/>
                      </a:lnTo>
                      <a:lnTo>
                        <a:pt x="612" y="313"/>
                      </a:lnTo>
                      <a:lnTo>
                        <a:pt x="556" y="316"/>
                      </a:lnTo>
                      <a:lnTo>
                        <a:pt x="499" y="313"/>
                      </a:lnTo>
                      <a:lnTo>
                        <a:pt x="445" y="311"/>
                      </a:lnTo>
                      <a:lnTo>
                        <a:pt x="390" y="306"/>
                      </a:lnTo>
                      <a:lnTo>
                        <a:pt x="340" y="302"/>
                      </a:lnTo>
                      <a:lnTo>
                        <a:pt x="290" y="295"/>
                      </a:lnTo>
                      <a:lnTo>
                        <a:pt x="245" y="288"/>
                      </a:lnTo>
                      <a:lnTo>
                        <a:pt x="202" y="279"/>
                      </a:lnTo>
                      <a:lnTo>
                        <a:pt x="163" y="268"/>
                      </a:lnTo>
                      <a:lnTo>
                        <a:pt x="127" y="256"/>
                      </a:lnTo>
                      <a:lnTo>
                        <a:pt x="95" y="245"/>
                      </a:lnTo>
                      <a:lnTo>
                        <a:pt x="68" y="233"/>
                      </a:lnTo>
                      <a:lnTo>
                        <a:pt x="43" y="217"/>
                      </a:lnTo>
                      <a:lnTo>
                        <a:pt x="25" y="204"/>
                      </a:lnTo>
                      <a:lnTo>
                        <a:pt x="11" y="190"/>
                      </a:lnTo>
                      <a:lnTo>
                        <a:pt x="7" y="181"/>
                      </a:lnTo>
                      <a:lnTo>
                        <a:pt x="2" y="174"/>
                      </a:lnTo>
                      <a:lnTo>
                        <a:pt x="0" y="165"/>
                      </a:lnTo>
                      <a:lnTo>
                        <a:pt x="0" y="158"/>
                      </a:lnTo>
                      <a:lnTo>
                        <a:pt x="0" y="149"/>
                      </a:lnTo>
                      <a:lnTo>
                        <a:pt x="2" y="142"/>
                      </a:lnTo>
                      <a:lnTo>
                        <a:pt x="7" y="133"/>
                      </a:lnTo>
                      <a:lnTo>
                        <a:pt x="11" y="126"/>
                      </a:lnTo>
                      <a:lnTo>
                        <a:pt x="25" y="110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69"/>
                      </a:lnTo>
                      <a:lnTo>
                        <a:pt x="127" y="57"/>
                      </a:lnTo>
                      <a:lnTo>
                        <a:pt x="163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0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59120" y="2282400"/>
                  <a:ext cx="1731240" cy="532800"/>
                </a:xfrm>
                <a:custGeom>
                  <a:avLst/>
                  <a:gdLst/>
                  <a:ahLst/>
                  <a:rect l="l" t="t" r="r" b="b"/>
                  <a:pathLst>
                    <a:path w="1111" h="316">
                      <a:moveTo>
                        <a:pt x="556" y="0"/>
                      </a:moveTo>
                      <a:lnTo>
                        <a:pt x="612" y="0"/>
                      </a:lnTo>
                      <a:lnTo>
                        <a:pt x="667" y="2"/>
                      </a:lnTo>
                      <a:lnTo>
                        <a:pt x="719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6" y="28"/>
                      </a:lnTo>
                      <a:lnTo>
                        <a:pt x="907" y="37"/>
                      </a:lnTo>
                      <a:lnTo>
                        <a:pt x="948" y="46"/>
                      </a:lnTo>
                      <a:lnTo>
                        <a:pt x="984" y="57"/>
                      </a:lnTo>
                      <a:lnTo>
                        <a:pt x="1016" y="69"/>
                      </a:lnTo>
                      <a:lnTo>
                        <a:pt x="1043" y="82"/>
                      </a:lnTo>
                      <a:lnTo>
                        <a:pt x="1066" y="96"/>
                      </a:lnTo>
                      <a:lnTo>
                        <a:pt x="1086" y="110"/>
                      </a:lnTo>
                      <a:lnTo>
                        <a:pt x="1100" y="126"/>
                      </a:lnTo>
                      <a:lnTo>
                        <a:pt x="1105" y="133"/>
                      </a:lnTo>
                      <a:lnTo>
                        <a:pt x="1107" y="142"/>
                      </a:lnTo>
                      <a:lnTo>
                        <a:pt x="1109" y="149"/>
                      </a:lnTo>
                      <a:lnTo>
                        <a:pt x="1111" y="158"/>
                      </a:lnTo>
                      <a:lnTo>
                        <a:pt x="1109" y="165"/>
                      </a:lnTo>
                      <a:lnTo>
                        <a:pt x="1107" y="174"/>
                      </a:lnTo>
                      <a:lnTo>
                        <a:pt x="1105" y="181"/>
                      </a:lnTo>
                      <a:lnTo>
                        <a:pt x="1100" y="190"/>
                      </a:lnTo>
                      <a:lnTo>
                        <a:pt x="1086" y="204"/>
                      </a:lnTo>
                      <a:lnTo>
                        <a:pt x="1066" y="217"/>
                      </a:lnTo>
                      <a:lnTo>
                        <a:pt x="1043" y="233"/>
                      </a:lnTo>
                      <a:lnTo>
                        <a:pt x="1016" y="245"/>
                      </a:lnTo>
                      <a:lnTo>
                        <a:pt x="984" y="256"/>
                      </a:lnTo>
                      <a:lnTo>
                        <a:pt x="948" y="268"/>
                      </a:lnTo>
                      <a:lnTo>
                        <a:pt x="907" y="279"/>
                      </a:lnTo>
                      <a:lnTo>
                        <a:pt x="866" y="288"/>
                      </a:lnTo>
                      <a:lnTo>
                        <a:pt x="819" y="295"/>
                      </a:lnTo>
                      <a:lnTo>
                        <a:pt x="771" y="302"/>
                      </a:lnTo>
                      <a:lnTo>
                        <a:pt x="719" y="306"/>
                      </a:lnTo>
                      <a:lnTo>
                        <a:pt x="667" y="311"/>
                      </a:lnTo>
                      <a:lnTo>
                        <a:pt x="612" y="313"/>
                      </a:lnTo>
                      <a:lnTo>
                        <a:pt x="556" y="316"/>
                      </a:lnTo>
                      <a:lnTo>
                        <a:pt x="499" y="313"/>
                      </a:lnTo>
                      <a:lnTo>
                        <a:pt x="445" y="311"/>
                      </a:lnTo>
                      <a:lnTo>
                        <a:pt x="390" y="306"/>
                      </a:lnTo>
                      <a:lnTo>
                        <a:pt x="340" y="302"/>
                      </a:lnTo>
                      <a:lnTo>
                        <a:pt x="290" y="295"/>
                      </a:lnTo>
                      <a:lnTo>
                        <a:pt x="245" y="288"/>
                      </a:lnTo>
                      <a:lnTo>
                        <a:pt x="202" y="279"/>
                      </a:lnTo>
                      <a:lnTo>
                        <a:pt x="163" y="268"/>
                      </a:lnTo>
                      <a:lnTo>
                        <a:pt x="127" y="256"/>
                      </a:lnTo>
                      <a:lnTo>
                        <a:pt x="95" y="245"/>
                      </a:lnTo>
                      <a:lnTo>
                        <a:pt x="68" y="233"/>
                      </a:lnTo>
                      <a:lnTo>
                        <a:pt x="43" y="217"/>
                      </a:lnTo>
                      <a:lnTo>
                        <a:pt x="25" y="204"/>
                      </a:lnTo>
                      <a:lnTo>
                        <a:pt x="11" y="190"/>
                      </a:lnTo>
                      <a:lnTo>
                        <a:pt x="7" y="181"/>
                      </a:lnTo>
                      <a:lnTo>
                        <a:pt x="2" y="174"/>
                      </a:lnTo>
                      <a:lnTo>
                        <a:pt x="0" y="165"/>
                      </a:lnTo>
                      <a:lnTo>
                        <a:pt x="0" y="158"/>
                      </a:lnTo>
                      <a:lnTo>
                        <a:pt x="0" y="149"/>
                      </a:lnTo>
                      <a:lnTo>
                        <a:pt x="2" y="142"/>
                      </a:lnTo>
                      <a:lnTo>
                        <a:pt x="7" y="133"/>
                      </a:lnTo>
                      <a:lnTo>
                        <a:pt x="11" y="126"/>
                      </a:lnTo>
                      <a:lnTo>
                        <a:pt x="25" y="110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69"/>
                      </a:lnTo>
                      <a:lnTo>
                        <a:pt x="127" y="57"/>
                      </a:lnTo>
                      <a:lnTo>
                        <a:pt x="163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0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88360" y="2361240"/>
                  <a:ext cx="3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88360" y="2538360"/>
                  <a:ext cx="3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170480" y="2560320"/>
                  <a:ext cx="33156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170480" y="2560320"/>
                  <a:ext cx="331560" cy="459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49960" y="2575800"/>
                  <a:ext cx="331920" cy="45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149960" y="2575800"/>
                  <a:ext cx="331920" cy="458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128360" y="2590920"/>
                  <a:ext cx="331560" cy="45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128360" y="2590920"/>
                  <a:ext cx="331560" cy="458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103160" y="2614320"/>
                  <a:ext cx="33156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103160" y="2614320"/>
                  <a:ext cx="331560" cy="459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086240" y="2629440"/>
                  <a:ext cx="33156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086240" y="2629440"/>
                  <a:ext cx="331560" cy="45900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064280" y="2648160"/>
                  <a:ext cx="328320" cy="45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064280" y="2648160"/>
                  <a:ext cx="328320" cy="458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161840" y="2666520"/>
                  <a:ext cx="1393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" spc="-1" strike="noStrike">
                      <a:solidFill>
                        <a:srgbClr val="1f1a17"/>
                      </a:solidFill>
                      <a:latin typeface="AvantGarde Bk BT"/>
                    </a:rPr>
                    <a:t>Model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19360" y="2729160"/>
                  <a:ext cx="2278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Documen-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163640" y="2793240"/>
                  <a:ext cx="135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tatio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121880" y="2918160"/>
                  <a:ext cx="23040" cy="135000"/>
                </a:xfrm>
                <a:custGeom>
                  <a:avLst/>
                  <a:gdLst/>
                  <a:ahLst/>
                  <a:rect l="l" t="t" r="r" b="b"/>
                  <a:pathLst>
                    <a:path w="15" h="80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5" y="80"/>
                      </a:lnTo>
                      <a:lnTo>
                        <a:pt x="0" y="80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121880" y="2918160"/>
                  <a:ext cx="288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128360" y="2918160"/>
                  <a:ext cx="288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136280" y="2918160"/>
                  <a:ext cx="288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145280" y="291816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145280" y="29264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145280" y="293832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145280" y="294516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45280" y="29534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145280" y="2959920"/>
                  <a:ext cx="1440" cy="5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145280" y="297180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145280" y="29804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145280" y="298728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145280" y="299556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45280" y="300744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145280" y="301428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45280" y="3022920"/>
                  <a:ext cx="144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45280" y="3031200"/>
                  <a:ext cx="144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145280" y="3041280"/>
                  <a:ext cx="144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145280" y="3049560"/>
                  <a:ext cx="144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7142040" y="3053160"/>
                  <a:ext cx="28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7136280" y="3053160"/>
                  <a:ext cx="28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7128360" y="3053160"/>
                  <a:ext cx="28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121880" y="3053160"/>
                  <a:ext cx="28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7121880" y="304560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7121880" y="3040920"/>
                  <a:ext cx="108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7121880" y="303408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7121880" y="3025800"/>
                  <a:ext cx="1080" cy="50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121880" y="301896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7121880" y="301068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121880" y="300708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7121880" y="2998800"/>
                  <a:ext cx="108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7121880" y="299196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21880" y="298368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7121880" y="2971440"/>
                  <a:ext cx="1080" cy="46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7121880" y="2965320"/>
                  <a:ext cx="108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7121880" y="2957040"/>
                  <a:ext cx="1080" cy="28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7121880" y="294984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7121880" y="293796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7121880" y="292932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7121880" y="2922480"/>
                  <a:ext cx="1080" cy="32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53200" y="2891160"/>
                  <a:ext cx="190080" cy="193680"/>
                </a:xfrm>
                <a:custGeom>
                  <a:avLst/>
                  <a:gdLst/>
                  <a:ahLst/>
                  <a:rect l="l" t="t" r="r" b="b"/>
                  <a:pathLst>
                    <a:path w="122" h="115">
                      <a:moveTo>
                        <a:pt x="59" y="16"/>
                      </a:moveTo>
                      <a:lnTo>
                        <a:pt x="0" y="16"/>
                      </a:lnTo>
                      <a:lnTo>
                        <a:pt x="0" y="115"/>
                      </a:lnTo>
                      <a:lnTo>
                        <a:pt x="52" y="115"/>
                      </a:lnTo>
                      <a:lnTo>
                        <a:pt x="52" y="112"/>
                      </a:lnTo>
                      <a:lnTo>
                        <a:pt x="122" y="112"/>
                      </a:lnTo>
                      <a:lnTo>
                        <a:pt x="122" y="62"/>
                      </a:lnTo>
                      <a:lnTo>
                        <a:pt x="97" y="62"/>
                      </a:lnTo>
                      <a:lnTo>
                        <a:pt x="97" y="0"/>
                      </a:lnTo>
                      <a:lnTo>
                        <a:pt x="59" y="0"/>
                      </a:lnTo>
                      <a:lnTo>
                        <a:pt x="59" y="16"/>
                      </a:lnTo>
                      <a:close/>
                    </a:path>
                  </a:pathLst>
                </a:custGeom>
                <a:solidFill>
                  <a:srgbClr val="de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7227720" y="2918160"/>
                  <a:ext cx="1692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7202880" y="2918160"/>
                  <a:ext cx="1728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7177680" y="2918160"/>
                  <a:ext cx="140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7152840" y="2918160"/>
                  <a:ext cx="140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153200" y="2926440"/>
                  <a:ext cx="1440" cy="1872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153200" y="2957040"/>
                  <a:ext cx="1440" cy="1476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153200" y="2983680"/>
                  <a:ext cx="1440" cy="1512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53200" y="3011040"/>
                  <a:ext cx="1440" cy="1476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153200" y="3037680"/>
                  <a:ext cx="1440" cy="2016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153200" y="3065040"/>
                  <a:ext cx="1440" cy="2016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159320" y="3085200"/>
                  <a:ext cx="1872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184160" y="3085200"/>
                  <a:ext cx="1872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214040" y="3085200"/>
                  <a:ext cx="1404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234200" y="3079800"/>
                  <a:ext cx="1368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259040" y="3079800"/>
                  <a:ext cx="1404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284240" y="3079800"/>
                  <a:ext cx="1368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309080" y="3079800"/>
                  <a:ext cx="17280" cy="180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333920" y="307332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7343280" y="3045960"/>
                  <a:ext cx="1440" cy="1872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7343280" y="3018960"/>
                  <a:ext cx="1440" cy="1836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340040" y="2995560"/>
                  <a:ext cx="2880" cy="1152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7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7315200" y="2995560"/>
                  <a:ext cx="1872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304400" y="2980440"/>
                  <a:ext cx="1080" cy="15120"/>
                </a:xfrm>
                <a:custGeom>
                  <a:avLst/>
                  <a:gdLst/>
                  <a:ahLst/>
                  <a:rect l="l" t="t" r="r" b="b"/>
                  <a:pathLst>
                    <a:path w="0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7304400" y="2949840"/>
                  <a:ext cx="1080" cy="1836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7304400" y="2922840"/>
                  <a:ext cx="1080" cy="1872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7304400" y="2896200"/>
                  <a:ext cx="1080" cy="1512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7283880" y="2891160"/>
                  <a:ext cx="1692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7259040" y="2891160"/>
                  <a:ext cx="172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245000" y="289116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245000" y="2911320"/>
                  <a:ext cx="1440" cy="648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159320" y="2922840"/>
                  <a:ext cx="57600" cy="6048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59320" y="2922840"/>
                  <a:ext cx="57600" cy="6048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255800" y="2896200"/>
                  <a:ext cx="45000" cy="5364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255800" y="2896200"/>
                  <a:ext cx="45000" cy="5364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59320" y="3011040"/>
                  <a:ext cx="57600" cy="6228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159320" y="3011040"/>
                  <a:ext cx="57600" cy="6228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270200" y="2999160"/>
                  <a:ext cx="45000" cy="74160"/>
                </a:xfrm>
                <a:prstGeom prst="rect">
                  <a:avLst/>
                </a:prstGeom>
                <a:solidFill>
                  <a:srgbClr val="c2c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270200" y="2999160"/>
                  <a:ext cx="45000" cy="741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202880" y="297180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02880" y="297180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136280" y="297180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136280" y="297180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136280" y="3037680"/>
                  <a:ext cx="9000" cy="82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36280" y="3037680"/>
                  <a:ext cx="9000" cy="82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329240" y="3053160"/>
                  <a:ext cx="1044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329240" y="3053160"/>
                  <a:ext cx="1044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290360" y="294156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290360" y="294156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202880" y="3061440"/>
                  <a:ext cx="10800" cy="68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202880" y="3061440"/>
                  <a:ext cx="10800" cy="68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301160" y="30578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301160" y="3057840"/>
                  <a:ext cx="10800" cy="100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202880" y="295020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202880" y="295020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136280" y="2933280"/>
                  <a:ext cx="9000" cy="82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36280" y="2933280"/>
                  <a:ext cx="9000" cy="82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136280" y="301104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136280" y="301104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329240" y="3025800"/>
                  <a:ext cx="1044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329240" y="3025800"/>
                  <a:ext cx="1044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290360" y="291816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290360" y="291816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202880" y="303444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202880" y="303444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301160" y="303444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301160" y="303444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202880" y="295992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202880" y="295992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136280" y="2959920"/>
                  <a:ext cx="9000" cy="82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36280" y="2959920"/>
                  <a:ext cx="9000" cy="828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136280" y="3022920"/>
                  <a:ext cx="900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36280" y="3022920"/>
                  <a:ext cx="900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329240" y="3041280"/>
                  <a:ext cx="1044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329240" y="3041280"/>
                  <a:ext cx="1044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290360" y="292968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290360" y="2929680"/>
                  <a:ext cx="7560" cy="82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202880" y="304956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202880" y="304956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301160" y="304596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301160" y="304596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02880" y="2938320"/>
                  <a:ext cx="10800" cy="68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202880" y="2938320"/>
                  <a:ext cx="10800" cy="68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136280" y="29181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136280" y="29181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136280" y="29991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136280" y="29991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3"/>
                      </a:move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29240" y="301428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29240" y="3014280"/>
                  <a:ext cx="1044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5" y="3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202880" y="302292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202880" y="302292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301160" y="302292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301160" y="302292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301160" y="301104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301160" y="301104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7216920" y="2922840"/>
                  <a:ext cx="34200" cy="338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216920" y="2968560"/>
                  <a:ext cx="52920" cy="6912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7216920" y="3045600"/>
                  <a:ext cx="49680" cy="32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281000" y="2950200"/>
                  <a:ext cx="19800" cy="4536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97920" y="2950200"/>
                  <a:ext cx="31320" cy="640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214040" y="2957040"/>
                  <a:ext cx="112320" cy="7416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7311960" y="3057480"/>
                  <a:ext cx="17280" cy="68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7145280" y="2968200"/>
                  <a:ext cx="14040" cy="324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45280" y="2933280"/>
                  <a:ext cx="10800" cy="46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145280" y="3025800"/>
                  <a:ext cx="14040" cy="8280"/>
                </a:xfrm>
                <a:prstGeom prst="line">
                  <a:avLst/>
                </a:prstGeom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163640" y="292284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163640" y="301104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253640" y="290268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70920" y="2999160"/>
                  <a:ext cx="388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3060000">
                  <a:off x="7217280" y="297072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I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3060000">
                  <a:off x="7217640" y="298116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3060000">
                  <a:off x="7221600" y="298116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3060000">
                  <a:off x="7232760" y="298728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3060000">
                  <a:off x="7232400" y="298548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3060000">
                  <a:off x="7231680" y="2991600"/>
                  <a:ext cx="684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3060000">
                  <a:off x="7238520" y="3002760"/>
                  <a:ext cx="684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k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3060000">
                  <a:off x="7243560" y="3004920"/>
                  <a:ext cx="54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3060000">
                  <a:off x="7244280" y="3003840"/>
                  <a:ext cx="36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i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3060000">
                  <a:off x="7238880" y="301428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3060000">
                  <a:off x="7250400" y="3012840"/>
                  <a:ext cx="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49960" y="2897640"/>
                  <a:ext cx="831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Systemgrenz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73080" y="3041280"/>
                  <a:ext cx="24480" cy="828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273080" y="3049560"/>
                  <a:ext cx="2448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273080" y="3057840"/>
                  <a:ext cx="2448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259040" y="2938320"/>
                  <a:ext cx="2484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259040" y="2929680"/>
                  <a:ext cx="2484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164000" y="3057840"/>
                  <a:ext cx="28080" cy="68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164000" y="3049560"/>
                  <a:ext cx="2808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164000" y="2976840"/>
                  <a:ext cx="28080" cy="324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164000" y="2965320"/>
                  <a:ext cx="28080" cy="648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164000" y="2957040"/>
                  <a:ext cx="28080" cy="2880"/>
                </a:xfrm>
                <a:prstGeom prst="rect">
                  <a:avLst/>
                </a:pr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395120" y="2968560"/>
                  <a:ext cx="5400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“</a:t>
                  </a: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Umwelt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394760" y="2985840"/>
                  <a:ext cx="417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" spc="-1" strike="noStrike">
                      <a:solidFill>
                        <a:srgbClr val="1f1a17"/>
                      </a:solidFill>
                      <a:latin typeface="AvantGarde Bk BT"/>
                    </a:rPr>
                    <a:t>objekt“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226280" y="2864160"/>
                  <a:ext cx="10296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“</a:t>
                  </a: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Hauptobjekt” m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228800" y="2877480"/>
                  <a:ext cx="98280" cy="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1f1a17"/>
                      </a:solidFill>
                      <a:latin typeface="AvantGarde Bk BT"/>
                    </a:rPr>
                    <a:t>Modellattribu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5188680" y="2262240"/>
                <a:ext cx="428040" cy="48096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674320" y="2275560"/>
              <a:ext cx="1598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Communic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Conceptual Mod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188680" y="1339200"/>
              <a:ext cx="2388240" cy="864720"/>
              <a:chOff x="5188680" y="1339200"/>
              <a:chExt cx="2388240" cy="86472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5559120" y="1339200"/>
                <a:ext cx="2017800" cy="864720"/>
                <a:chOff x="5559120" y="1339200"/>
                <a:chExt cx="2017800" cy="864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559120" y="1339200"/>
                  <a:ext cx="1728000" cy="598320"/>
                </a:xfrm>
                <a:custGeom>
                  <a:avLst/>
                  <a:gdLst/>
                  <a:ahLst/>
                  <a:rect l="l" t="t" r="r" b="b"/>
                  <a:pathLst>
                    <a:path w="1109" h="355">
                      <a:moveTo>
                        <a:pt x="555" y="0"/>
                      </a:moveTo>
                      <a:lnTo>
                        <a:pt x="611" y="0"/>
                      </a:lnTo>
                      <a:lnTo>
                        <a:pt x="666" y="4"/>
                      </a:lnTo>
                      <a:lnTo>
                        <a:pt x="720" y="7"/>
                      </a:lnTo>
                      <a:lnTo>
                        <a:pt x="770" y="13"/>
                      </a:lnTo>
                      <a:lnTo>
                        <a:pt x="820" y="20"/>
                      </a:lnTo>
                      <a:lnTo>
                        <a:pt x="865" y="29"/>
                      </a:lnTo>
                      <a:lnTo>
                        <a:pt x="908" y="41"/>
                      </a:lnTo>
                      <a:lnTo>
                        <a:pt x="946" y="52"/>
                      </a:lnTo>
                      <a:lnTo>
                        <a:pt x="983" y="64"/>
                      </a:lnTo>
                      <a:lnTo>
                        <a:pt x="1014" y="77"/>
                      </a:lnTo>
                      <a:lnTo>
                        <a:pt x="1041" y="93"/>
                      </a:lnTo>
                      <a:lnTo>
                        <a:pt x="1066" y="109"/>
                      </a:lnTo>
                      <a:lnTo>
                        <a:pt x="1084" y="125"/>
                      </a:lnTo>
                      <a:lnTo>
                        <a:pt x="1098" y="141"/>
                      </a:lnTo>
                      <a:lnTo>
                        <a:pt x="1103" y="150"/>
                      </a:lnTo>
                      <a:lnTo>
                        <a:pt x="1107" y="159"/>
                      </a:lnTo>
                      <a:lnTo>
                        <a:pt x="1109" y="168"/>
                      </a:lnTo>
                      <a:lnTo>
                        <a:pt x="1109" y="178"/>
                      </a:lnTo>
                      <a:lnTo>
                        <a:pt x="1109" y="187"/>
                      </a:lnTo>
                      <a:lnTo>
                        <a:pt x="1107" y="196"/>
                      </a:lnTo>
                      <a:lnTo>
                        <a:pt x="1103" y="205"/>
                      </a:lnTo>
                      <a:lnTo>
                        <a:pt x="1098" y="212"/>
                      </a:lnTo>
                      <a:lnTo>
                        <a:pt x="1084" y="230"/>
                      </a:lnTo>
                      <a:lnTo>
                        <a:pt x="1066" y="246"/>
                      </a:lnTo>
                      <a:lnTo>
                        <a:pt x="1041" y="262"/>
                      </a:lnTo>
                      <a:lnTo>
                        <a:pt x="1014" y="276"/>
                      </a:lnTo>
                      <a:lnTo>
                        <a:pt x="983" y="289"/>
                      </a:lnTo>
                      <a:lnTo>
                        <a:pt x="946" y="303"/>
                      </a:lnTo>
                      <a:lnTo>
                        <a:pt x="908" y="314"/>
                      </a:lnTo>
                      <a:lnTo>
                        <a:pt x="865" y="324"/>
                      </a:lnTo>
                      <a:lnTo>
                        <a:pt x="820" y="333"/>
                      </a:lnTo>
                      <a:lnTo>
                        <a:pt x="770" y="340"/>
                      </a:lnTo>
                      <a:lnTo>
                        <a:pt x="720" y="346"/>
                      </a:lnTo>
                      <a:lnTo>
                        <a:pt x="666" y="351"/>
                      </a:lnTo>
                      <a:lnTo>
                        <a:pt x="611" y="353"/>
                      </a:lnTo>
                      <a:lnTo>
                        <a:pt x="555" y="355"/>
                      </a:lnTo>
                      <a:lnTo>
                        <a:pt x="498" y="353"/>
                      </a:lnTo>
                      <a:lnTo>
                        <a:pt x="444" y="351"/>
                      </a:lnTo>
                      <a:lnTo>
                        <a:pt x="389" y="346"/>
                      </a:lnTo>
                      <a:lnTo>
                        <a:pt x="339" y="340"/>
                      </a:lnTo>
                      <a:lnTo>
                        <a:pt x="290" y="333"/>
                      </a:lnTo>
                      <a:lnTo>
                        <a:pt x="244" y="324"/>
                      </a:lnTo>
                      <a:lnTo>
                        <a:pt x="201" y="314"/>
                      </a:lnTo>
                      <a:lnTo>
                        <a:pt x="163" y="303"/>
                      </a:lnTo>
                      <a:lnTo>
                        <a:pt x="127" y="289"/>
                      </a:lnTo>
                      <a:lnTo>
                        <a:pt x="95" y="276"/>
                      </a:lnTo>
                      <a:lnTo>
                        <a:pt x="68" y="262"/>
                      </a:lnTo>
                      <a:lnTo>
                        <a:pt x="43" y="246"/>
                      </a:lnTo>
                      <a:lnTo>
                        <a:pt x="25" y="230"/>
                      </a:lnTo>
                      <a:lnTo>
                        <a:pt x="11" y="212"/>
                      </a:lnTo>
                      <a:lnTo>
                        <a:pt x="7" y="205"/>
                      </a:lnTo>
                      <a:lnTo>
                        <a:pt x="2" y="196"/>
                      </a:lnTo>
                      <a:lnTo>
                        <a:pt x="0" y="187"/>
                      </a:lnTo>
                      <a:lnTo>
                        <a:pt x="0" y="178"/>
                      </a:lnTo>
                      <a:lnTo>
                        <a:pt x="0" y="168"/>
                      </a:lnTo>
                      <a:lnTo>
                        <a:pt x="2" y="159"/>
                      </a:lnTo>
                      <a:lnTo>
                        <a:pt x="7" y="150"/>
                      </a:lnTo>
                      <a:lnTo>
                        <a:pt x="11" y="141"/>
                      </a:lnTo>
                      <a:lnTo>
                        <a:pt x="25" y="125"/>
                      </a:lnTo>
                      <a:lnTo>
                        <a:pt x="43" y="109"/>
                      </a:lnTo>
                      <a:lnTo>
                        <a:pt x="68" y="93"/>
                      </a:lnTo>
                      <a:lnTo>
                        <a:pt x="95" y="77"/>
                      </a:lnTo>
                      <a:lnTo>
                        <a:pt x="127" y="64"/>
                      </a:lnTo>
                      <a:lnTo>
                        <a:pt x="163" y="52"/>
                      </a:lnTo>
                      <a:lnTo>
                        <a:pt x="201" y="41"/>
                      </a:lnTo>
                      <a:lnTo>
                        <a:pt x="244" y="29"/>
                      </a:lnTo>
                      <a:lnTo>
                        <a:pt x="290" y="20"/>
                      </a:lnTo>
                      <a:lnTo>
                        <a:pt x="339" y="13"/>
                      </a:lnTo>
                      <a:lnTo>
                        <a:pt x="389" y="7"/>
                      </a:lnTo>
                      <a:lnTo>
                        <a:pt x="444" y="4"/>
                      </a:lnTo>
                      <a:lnTo>
                        <a:pt x="498" y="0"/>
                      </a:lnTo>
                      <a:lnTo>
                        <a:pt x="5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559120" y="1339200"/>
                  <a:ext cx="1728000" cy="598320"/>
                </a:xfrm>
                <a:custGeom>
                  <a:avLst/>
                  <a:gdLst/>
                  <a:ahLst/>
                  <a:rect l="l" t="t" r="r" b="b"/>
                  <a:pathLst>
                    <a:path w="1109" h="355">
                      <a:moveTo>
                        <a:pt x="555" y="0"/>
                      </a:moveTo>
                      <a:lnTo>
                        <a:pt x="611" y="0"/>
                      </a:lnTo>
                      <a:lnTo>
                        <a:pt x="666" y="4"/>
                      </a:lnTo>
                      <a:lnTo>
                        <a:pt x="720" y="7"/>
                      </a:lnTo>
                      <a:lnTo>
                        <a:pt x="770" y="13"/>
                      </a:lnTo>
                      <a:lnTo>
                        <a:pt x="820" y="20"/>
                      </a:lnTo>
                      <a:lnTo>
                        <a:pt x="865" y="29"/>
                      </a:lnTo>
                      <a:lnTo>
                        <a:pt x="908" y="41"/>
                      </a:lnTo>
                      <a:lnTo>
                        <a:pt x="946" y="52"/>
                      </a:lnTo>
                      <a:lnTo>
                        <a:pt x="983" y="64"/>
                      </a:lnTo>
                      <a:lnTo>
                        <a:pt x="1014" y="77"/>
                      </a:lnTo>
                      <a:lnTo>
                        <a:pt x="1041" y="93"/>
                      </a:lnTo>
                      <a:lnTo>
                        <a:pt x="1066" y="109"/>
                      </a:lnTo>
                      <a:lnTo>
                        <a:pt x="1084" y="125"/>
                      </a:lnTo>
                      <a:lnTo>
                        <a:pt x="1098" y="141"/>
                      </a:lnTo>
                      <a:lnTo>
                        <a:pt x="1103" y="150"/>
                      </a:lnTo>
                      <a:lnTo>
                        <a:pt x="1107" y="159"/>
                      </a:lnTo>
                      <a:lnTo>
                        <a:pt x="1109" y="168"/>
                      </a:lnTo>
                      <a:lnTo>
                        <a:pt x="1109" y="178"/>
                      </a:lnTo>
                      <a:lnTo>
                        <a:pt x="1109" y="187"/>
                      </a:lnTo>
                      <a:lnTo>
                        <a:pt x="1107" y="196"/>
                      </a:lnTo>
                      <a:lnTo>
                        <a:pt x="1103" y="205"/>
                      </a:lnTo>
                      <a:lnTo>
                        <a:pt x="1098" y="212"/>
                      </a:lnTo>
                      <a:lnTo>
                        <a:pt x="1084" y="230"/>
                      </a:lnTo>
                      <a:lnTo>
                        <a:pt x="1066" y="246"/>
                      </a:lnTo>
                      <a:lnTo>
                        <a:pt x="1041" y="262"/>
                      </a:lnTo>
                      <a:lnTo>
                        <a:pt x="1014" y="276"/>
                      </a:lnTo>
                      <a:lnTo>
                        <a:pt x="983" y="289"/>
                      </a:lnTo>
                      <a:lnTo>
                        <a:pt x="946" y="303"/>
                      </a:lnTo>
                      <a:lnTo>
                        <a:pt x="908" y="314"/>
                      </a:lnTo>
                      <a:lnTo>
                        <a:pt x="865" y="324"/>
                      </a:lnTo>
                      <a:lnTo>
                        <a:pt x="820" y="333"/>
                      </a:lnTo>
                      <a:lnTo>
                        <a:pt x="770" y="340"/>
                      </a:lnTo>
                      <a:lnTo>
                        <a:pt x="720" y="346"/>
                      </a:lnTo>
                      <a:lnTo>
                        <a:pt x="666" y="351"/>
                      </a:lnTo>
                      <a:lnTo>
                        <a:pt x="611" y="353"/>
                      </a:lnTo>
                      <a:lnTo>
                        <a:pt x="555" y="355"/>
                      </a:lnTo>
                      <a:lnTo>
                        <a:pt x="498" y="353"/>
                      </a:lnTo>
                      <a:lnTo>
                        <a:pt x="444" y="351"/>
                      </a:lnTo>
                      <a:lnTo>
                        <a:pt x="389" y="346"/>
                      </a:lnTo>
                      <a:lnTo>
                        <a:pt x="339" y="340"/>
                      </a:lnTo>
                      <a:lnTo>
                        <a:pt x="290" y="333"/>
                      </a:lnTo>
                      <a:lnTo>
                        <a:pt x="244" y="324"/>
                      </a:lnTo>
                      <a:lnTo>
                        <a:pt x="201" y="314"/>
                      </a:lnTo>
                      <a:lnTo>
                        <a:pt x="163" y="303"/>
                      </a:lnTo>
                      <a:lnTo>
                        <a:pt x="127" y="289"/>
                      </a:lnTo>
                      <a:lnTo>
                        <a:pt x="95" y="276"/>
                      </a:lnTo>
                      <a:lnTo>
                        <a:pt x="68" y="262"/>
                      </a:lnTo>
                      <a:lnTo>
                        <a:pt x="43" y="246"/>
                      </a:lnTo>
                      <a:lnTo>
                        <a:pt x="25" y="230"/>
                      </a:lnTo>
                      <a:lnTo>
                        <a:pt x="11" y="212"/>
                      </a:lnTo>
                      <a:lnTo>
                        <a:pt x="7" y="205"/>
                      </a:lnTo>
                      <a:lnTo>
                        <a:pt x="2" y="196"/>
                      </a:lnTo>
                      <a:lnTo>
                        <a:pt x="0" y="187"/>
                      </a:lnTo>
                      <a:lnTo>
                        <a:pt x="0" y="178"/>
                      </a:lnTo>
                      <a:lnTo>
                        <a:pt x="0" y="168"/>
                      </a:lnTo>
                      <a:lnTo>
                        <a:pt x="2" y="159"/>
                      </a:lnTo>
                      <a:lnTo>
                        <a:pt x="7" y="150"/>
                      </a:lnTo>
                      <a:lnTo>
                        <a:pt x="11" y="141"/>
                      </a:lnTo>
                      <a:lnTo>
                        <a:pt x="25" y="125"/>
                      </a:lnTo>
                      <a:lnTo>
                        <a:pt x="43" y="109"/>
                      </a:lnTo>
                      <a:lnTo>
                        <a:pt x="68" y="93"/>
                      </a:lnTo>
                      <a:lnTo>
                        <a:pt x="95" y="77"/>
                      </a:lnTo>
                      <a:lnTo>
                        <a:pt x="127" y="64"/>
                      </a:lnTo>
                      <a:lnTo>
                        <a:pt x="163" y="52"/>
                      </a:lnTo>
                      <a:lnTo>
                        <a:pt x="201" y="41"/>
                      </a:lnTo>
                      <a:lnTo>
                        <a:pt x="244" y="29"/>
                      </a:lnTo>
                      <a:lnTo>
                        <a:pt x="290" y="20"/>
                      </a:lnTo>
                      <a:lnTo>
                        <a:pt x="339" y="13"/>
                      </a:lnTo>
                      <a:lnTo>
                        <a:pt x="389" y="7"/>
                      </a:lnTo>
                      <a:lnTo>
                        <a:pt x="444" y="4"/>
                      </a:lnTo>
                      <a:lnTo>
                        <a:pt x="498" y="0"/>
                      </a:lnTo>
                      <a:lnTo>
                        <a:pt x="555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18200" y="1342440"/>
                  <a:ext cx="43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300" spc="-1" strike="noStrike">
                      <a:solidFill>
                        <a:srgbClr val="1f1a17"/>
                      </a:solidFill>
                      <a:latin typeface="AvantGarde Bk BT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828400" y="1511280"/>
                  <a:ext cx="3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771160" y="1684800"/>
                  <a:ext cx="252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1f1a17"/>
                      </a:solidFill>
                      <a:latin typeface="AvantGarde Bk BT"/>
                    </a:rPr>
                    <a:t>,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079320" y="1797480"/>
                  <a:ext cx="3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216920" y="1666080"/>
                  <a:ext cx="360000" cy="499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216920" y="1666080"/>
                  <a:ext cx="360000" cy="49932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196760" y="1684800"/>
                  <a:ext cx="359640" cy="495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196760" y="1684800"/>
                  <a:ext cx="359640" cy="49536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174800" y="1708200"/>
                  <a:ext cx="360000" cy="49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174800" y="1708200"/>
                  <a:ext cx="360000" cy="495720"/>
                </a:xfrm>
                <a:prstGeom prst="rect">
                  <a:avLst/>
                </a:prstGeom>
                <a:noFill/>
                <a:ln w="324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275600" y="1829520"/>
                  <a:ext cx="1562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" spc="-1" strike="noStrike">
                      <a:solidFill>
                        <a:srgbClr val="1f1a17"/>
                      </a:solidFill>
                      <a:latin typeface="AvantGarde Bk BT"/>
                    </a:rPr>
                    <a:t>Projec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39240" y="1895400"/>
                  <a:ext cx="226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400" spc="-1" strike="noStrike">
                      <a:solidFill>
                        <a:srgbClr val="1f1a17"/>
                      </a:solidFill>
                      <a:latin typeface="AvantGarde Bk BT"/>
                    </a:rPr>
                    <a:t>Objective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5188680" y="1414800"/>
                <a:ext cx="428040" cy="48060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5566680" y="1364400"/>
              <a:ext cx="1789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Structur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blem Descrip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8"/>
            <a:stretch/>
          </p:blipFill>
          <p:spPr>
            <a:xfrm>
              <a:off x="4686840" y="3644280"/>
              <a:ext cx="19666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9"/>
            <a:stretch/>
          </p:blipFill>
          <p:spPr>
            <a:xfrm>
              <a:off x="4686840" y="4535640"/>
              <a:ext cx="1966680" cy="32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"/>
            <p:cNvGrpSpPr/>
            <p:nvPr/>
          </p:nvGrpSpPr>
          <p:grpSpPr>
            <a:xfrm>
              <a:off x="5188680" y="3128040"/>
              <a:ext cx="2601720" cy="794160"/>
              <a:chOff x="5188680" y="3128040"/>
              <a:chExt cx="2601720" cy="794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559120" y="3146400"/>
                <a:ext cx="2231280" cy="775800"/>
                <a:chOff x="5559120" y="3146400"/>
                <a:chExt cx="2231280" cy="7758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559120" y="3146400"/>
                  <a:ext cx="1732680" cy="533160"/>
                </a:xfrm>
                <a:custGeom>
                  <a:avLst/>
                  <a:gdLst/>
                  <a:ahLst/>
                  <a:rect l="l" t="t" r="r" b="b"/>
                  <a:pathLst>
                    <a:path w="1112" h="316">
                      <a:moveTo>
                        <a:pt x="556" y="0"/>
                      </a:moveTo>
                      <a:lnTo>
                        <a:pt x="613" y="0"/>
                      </a:lnTo>
                      <a:lnTo>
                        <a:pt x="667" y="2"/>
                      </a:lnTo>
                      <a:lnTo>
                        <a:pt x="722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7" y="28"/>
                      </a:lnTo>
                      <a:lnTo>
                        <a:pt x="908" y="37"/>
                      </a:lnTo>
                      <a:lnTo>
                        <a:pt x="948" y="46"/>
                      </a:lnTo>
                      <a:lnTo>
                        <a:pt x="985" y="57"/>
                      </a:lnTo>
                      <a:lnTo>
                        <a:pt x="1016" y="71"/>
                      </a:lnTo>
                      <a:lnTo>
                        <a:pt x="1044" y="82"/>
                      </a:lnTo>
                      <a:lnTo>
                        <a:pt x="1066" y="96"/>
                      </a:lnTo>
                      <a:lnTo>
                        <a:pt x="1087" y="112"/>
                      </a:lnTo>
                      <a:lnTo>
                        <a:pt x="1100" y="126"/>
                      </a:lnTo>
                      <a:lnTo>
                        <a:pt x="1105" y="135"/>
                      </a:lnTo>
                      <a:lnTo>
                        <a:pt x="1107" y="142"/>
                      </a:lnTo>
                      <a:lnTo>
                        <a:pt x="1109" y="151"/>
                      </a:lnTo>
                      <a:lnTo>
                        <a:pt x="1112" y="158"/>
                      </a:lnTo>
                      <a:lnTo>
                        <a:pt x="1109" y="167"/>
                      </a:lnTo>
                      <a:lnTo>
                        <a:pt x="1107" y="174"/>
                      </a:lnTo>
                      <a:lnTo>
                        <a:pt x="1105" y="183"/>
                      </a:lnTo>
                      <a:lnTo>
                        <a:pt x="1100" y="190"/>
                      </a:lnTo>
                      <a:lnTo>
                        <a:pt x="1087" y="206"/>
                      </a:lnTo>
                      <a:lnTo>
                        <a:pt x="1066" y="220"/>
                      </a:lnTo>
                      <a:lnTo>
                        <a:pt x="1044" y="233"/>
                      </a:lnTo>
                      <a:lnTo>
                        <a:pt x="1016" y="247"/>
                      </a:lnTo>
                      <a:lnTo>
                        <a:pt x="985" y="258"/>
                      </a:lnTo>
                      <a:lnTo>
                        <a:pt x="948" y="270"/>
                      </a:lnTo>
                      <a:lnTo>
                        <a:pt x="908" y="281"/>
                      </a:lnTo>
                      <a:lnTo>
                        <a:pt x="867" y="290"/>
                      </a:lnTo>
                      <a:lnTo>
                        <a:pt x="819" y="297"/>
                      </a:lnTo>
                      <a:lnTo>
                        <a:pt x="771" y="304"/>
                      </a:lnTo>
                      <a:lnTo>
                        <a:pt x="722" y="309"/>
                      </a:lnTo>
                      <a:lnTo>
                        <a:pt x="667" y="313"/>
                      </a:lnTo>
                      <a:lnTo>
                        <a:pt x="613" y="316"/>
                      </a:lnTo>
                      <a:lnTo>
                        <a:pt x="556" y="316"/>
                      </a:lnTo>
                      <a:lnTo>
                        <a:pt x="499" y="316"/>
                      </a:lnTo>
                      <a:lnTo>
                        <a:pt x="445" y="313"/>
                      </a:lnTo>
                      <a:lnTo>
                        <a:pt x="390" y="309"/>
                      </a:lnTo>
                      <a:lnTo>
                        <a:pt x="340" y="304"/>
                      </a:lnTo>
                      <a:lnTo>
                        <a:pt x="291" y="297"/>
                      </a:lnTo>
                      <a:lnTo>
                        <a:pt x="245" y="290"/>
                      </a:lnTo>
                      <a:lnTo>
                        <a:pt x="202" y="281"/>
                      </a:lnTo>
                      <a:lnTo>
                        <a:pt x="164" y="270"/>
                      </a:lnTo>
                      <a:lnTo>
                        <a:pt x="127" y="258"/>
                      </a:lnTo>
                      <a:lnTo>
                        <a:pt x="95" y="247"/>
                      </a:lnTo>
                      <a:lnTo>
                        <a:pt x="68" y="233"/>
                      </a:lnTo>
                      <a:lnTo>
                        <a:pt x="43" y="220"/>
                      </a:lnTo>
                      <a:lnTo>
                        <a:pt x="25" y="206"/>
                      </a:lnTo>
                      <a:lnTo>
                        <a:pt x="12" y="190"/>
                      </a:lnTo>
                      <a:lnTo>
                        <a:pt x="7" y="183"/>
                      </a:lnTo>
                      <a:lnTo>
                        <a:pt x="2" y="174"/>
                      </a:lnTo>
                      <a:lnTo>
                        <a:pt x="0" y="167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2" y="142"/>
                      </a:lnTo>
                      <a:lnTo>
                        <a:pt x="7" y="135"/>
                      </a:lnTo>
                      <a:lnTo>
                        <a:pt x="12" y="126"/>
                      </a:lnTo>
                      <a:lnTo>
                        <a:pt x="25" y="112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71"/>
                      </a:lnTo>
                      <a:lnTo>
                        <a:pt x="127" y="57"/>
                      </a:lnTo>
                      <a:lnTo>
                        <a:pt x="164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1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559120" y="3146400"/>
                  <a:ext cx="1732680" cy="533160"/>
                </a:xfrm>
                <a:custGeom>
                  <a:avLst/>
                  <a:gdLst/>
                  <a:ahLst/>
                  <a:rect l="l" t="t" r="r" b="b"/>
                  <a:pathLst>
                    <a:path w="1112" h="316">
                      <a:moveTo>
                        <a:pt x="556" y="0"/>
                      </a:moveTo>
                      <a:lnTo>
                        <a:pt x="613" y="0"/>
                      </a:lnTo>
                      <a:lnTo>
                        <a:pt x="667" y="2"/>
                      </a:lnTo>
                      <a:lnTo>
                        <a:pt x="722" y="7"/>
                      </a:lnTo>
                      <a:lnTo>
                        <a:pt x="771" y="12"/>
                      </a:lnTo>
                      <a:lnTo>
                        <a:pt x="819" y="18"/>
                      </a:lnTo>
                      <a:lnTo>
                        <a:pt x="867" y="28"/>
                      </a:lnTo>
                      <a:lnTo>
                        <a:pt x="908" y="37"/>
                      </a:lnTo>
                      <a:lnTo>
                        <a:pt x="948" y="46"/>
                      </a:lnTo>
                      <a:lnTo>
                        <a:pt x="985" y="57"/>
                      </a:lnTo>
                      <a:lnTo>
                        <a:pt x="1016" y="71"/>
                      </a:lnTo>
                      <a:lnTo>
                        <a:pt x="1044" y="82"/>
                      </a:lnTo>
                      <a:lnTo>
                        <a:pt x="1066" y="96"/>
                      </a:lnTo>
                      <a:lnTo>
                        <a:pt x="1087" y="112"/>
                      </a:lnTo>
                      <a:lnTo>
                        <a:pt x="1100" y="126"/>
                      </a:lnTo>
                      <a:lnTo>
                        <a:pt x="1105" y="135"/>
                      </a:lnTo>
                      <a:lnTo>
                        <a:pt x="1107" y="142"/>
                      </a:lnTo>
                      <a:lnTo>
                        <a:pt x="1109" y="151"/>
                      </a:lnTo>
                      <a:lnTo>
                        <a:pt x="1112" y="158"/>
                      </a:lnTo>
                      <a:lnTo>
                        <a:pt x="1109" y="167"/>
                      </a:lnTo>
                      <a:lnTo>
                        <a:pt x="1107" y="174"/>
                      </a:lnTo>
                      <a:lnTo>
                        <a:pt x="1105" y="183"/>
                      </a:lnTo>
                      <a:lnTo>
                        <a:pt x="1100" y="190"/>
                      </a:lnTo>
                      <a:lnTo>
                        <a:pt x="1087" y="206"/>
                      </a:lnTo>
                      <a:lnTo>
                        <a:pt x="1066" y="220"/>
                      </a:lnTo>
                      <a:lnTo>
                        <a:pt x="1044" y="233"/>
                      </a:lnTo>
                      <a:lnTo>
                        <a:pt x="1016" y="247"/>
                      </a:lnTo>
                      <a:lnTo>
                        <a:pt x="985" y="258"/>
                      </a:lnTo>
                      <a:lnTo>
                        <a:pt x="948" y="270"/>
                      </a:lnTo>
                      <a:lnTo>
                        <a:pt x="908" y="281"/>
                      </a:lnTo>
                      <a:lnTo>
                        <a:pt x="867" y="290"/>
                      </a:lnTo>
                      <a:lnTo>
                        <a:pt x="819" y="297"/>
                      </a:lnTo>
                      <a:lnTo>
                        <a:pt x="771" y="304"/>
                      </a:lnTo>
                      <a:lnTo>
                        <a:pt x="722" y="309"/>
                      </a:lnTo>
                      <a:lnTo>
                        <a:pt x="667" y="313"/>
                      </a:lnTo>
                      <a:lnTo>
                        <a:pt x="613" y="316"/>
                      </a:lnTo>
                      <a:lnTo>
                        <a:pt x="556" y="316"/>
                      </a:lnTo>
                      <a:lnTo>
                        <a:pt x="499" y="316"/>
                      </a:lnTo>
                      <a:lnTo>
                        <a:pt x="445" y="313"/>
                      </a:lnTo>
                      <a:lnTo>
                        <a:pt x="390" y="309"/>
                      </a:lnTo>
                      <a:lnTo>
                        <a:pt x="340" y="304"/>
                      </a:lnTo>
                      <a:lnTo>
                        <a:pt x="291" y="297"/>
                      </a:lnTo>
                      <a:lnTo>
                        <a:pt x="245" y="290"/>
                      </a:lnTo>
                      <a:lnTo>
                        <a:pt x="202" y="281"/>
                      </a:lnTo>
                      <a:lnTo>
                        <a:pt x="164" y="270"/>
                      </a:lnTo>
                      <a:lnTo>
                        <a:pt x="127" y="258"/>
                      </a:lnTo>
                      <a:lnTo>
                        <a:pt x="95" y="247"/>
                      </a:lnTo>
                      <a:lnTo>
                        <a:pt x="68" y="233"/>
                      </a:lnTo>
                      <a:lnTo>
                        <a:pt x="43" y="220"/>
                      </a:lnTo>
                      <a:lnTo>
                        <a:pt x="25" y="206"/>
                      </a:lnTo>
                      <a:lnTo>
                        <a:pt x="12" y="190"/>
                      </a:lnTo>
                      <a:lnTo>
                        <a:pt x="7" y="183"/>
                      </a:lnTo>
                      <a:lnTo>
                        <a:pt x="2" y="174"/>
                      </a:lnTo>
                      <a:lnTo>
                        <a:pt x="0" y="167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2" y="142"/>
                      </a:lnTo>
                      <a:lnTo>
                        <a:pt x="7" y="135"/>
                      </a:lnTo>
                      <a:lnTo>
                        <a:pt x="12" y="126"/>
                      </a:lnTo>
                      <a:lnTo>
                        <a:pt x="25" y="112"/>
                      </a:lnTo>
                      <a:lnTo>
                        <a:pt x="43" y="96"/>
                      </a:lnTo>
                      <a:lnTo>
                        <a:pt x="68" y="82"/>
                      </a:lnTo>
                      <a:lnTo>
                        <a:pt x="95" y="71"/>
                      </a:lnTo>
                      <a:lnTo>
                        <a:pt x="127" y="57"/>
                      </a:lnTo>
                      <a:lnTo>
                        <a:pt x="164" y="46"/>
                      </a:lnTo>
                      <a:lnTo>
                        <a:pt x="202" y="37"/>
                      </a:lnTo>
                      <a:lnTo>
                        <a:pt x="245" y="28"/>
                      </a:lnTo>
                      <a:lnTo>
                        <a:pt x="291" y="18"/>
                      </a:lnTo>
                      <a:lnTo>
                        <a:pt x="340" y="12"/>
                      </a:lnTo>
                      <a:lnTo>
                        <a:pt x="390" y="7"/>
                      </a:lnTo>
                      <a:lnTo>
                        <a:pt x="445" y="2"/>
                      </a:lnTo>
                      <a:lnTo>
                        <a:pt x="499" y="0"/>
                      </a:lnTo>
                      <a:lnTo>
                        <a:pt x="556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816160" y="3276360"/>
                  <a:ext cx="360" cy="36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817600" y="3444840"/>
                  <a:ext cx="3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997320" y="3652200"/>
                  <a:ext cx="38880" cy="4212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4"/>
                      </a:lnTo>
                      <a:lnTo>
                        <a:pt x="23" y="6"/>
                      </a:lnTo>
                      <a:lnTo>
                        <a:pt x="25" y="9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3" y="20"/>
                      </a:lnTo>
                      <a:lnTo>
                        <a:pt x="23" y="22"/>
                      </a:lnTo>
                      <a:lnTo>
                        <a:pt x="21" y="22"/>
                      </a:lnTo>
                      <a:lnTo>
                        <a:pt x="19" y="25"/>
                      </a:lnTo>
                      <a:lnTo>
                        <a:pt x="16" y="25"/>
                      </a:lnTo>
                      <a:lnTo>
                        <a:pt x="14" y="25"/>
                      </a:lnTo>
                      <a:lnTo>
                        <a:pt x="12" y="25"/>
                      </a:lnTo>
                      <a:lnTo>
                        <a:pt x="7" y="25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259040" y="3662640"/>
                  <a:ext cx="21600" cy="234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259040" y="3662640"/>
                  <a:ext cx="21600" cy="234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7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48240" y="3652200"/>
                  <a:ext cx="43560" cy="4212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3" y="4"/>
                      </a:lnTo>
                      <a:lnTo>
                        <a:pt x="25" y="6"/>
                      </a:lnTo>
                      <a:lnTo>
                        <a:pt x="25" y="9"/>
                      </a:lnTo>
                      <a:lnTo>
                        <a:pt x="28" y="11"/>
                      </a:lnTo>
                      <a:lnTo>
                        <a:pt x="28" y="13"/>
                      </a:lnTo>
                      <a:lnTo>
                        <a:pt x="28" y="16"/>
                      </a:lnTo>
                      <a:lnTo>
                        <a:pt x="25" y="18"/>
                      </a:lnTo>
                      <a:lnTo>
                        <a:pt x="25" y="20"/>
                      </a:lnTo>
                      <a:lnTo>
                        <a:pt x="23" y="22"/>
                      </a:lnTo>
                      <a:lnTo>
                        <a:pt x="21" y="22"/>
                      </a:lnTo>
                      <a:lnTo>
                        <a:pt x="19" y="25"/>
                      </a:lnTo>
                      <a:lnTo>
                        <a:pt x="16" y="25"/>
                      </a:lnTo>
                      <a:lnTo>
                        <a:pt x="14" y="25"/>
                      </a:lnTo>
                      <a:lnTo>
                        <a:pt x="12" y="25"/>
                      </a:lnTo>
                      <a:lnTo>
                        <a:pt x="10" y="25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3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500960" y="3652200"/>
                  <a:ext cx="37080" cy="4212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1" y="0"/>
                      </a:move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20" y="2"/>
                      </a:lnTo>
                      <a:lnTo>
                        <a:pt x="22" y="4"/>
                      </a:lnTo>
                      <a:lnTo>
                        <a:pt x="22" y="6"/>
                      </a:lnTo>
                      <a:lnTo>
                        <a:pt x="24" y="9"/>
                      </a:lnTo>
                      <a:lnTo>
                        <a:pt x="24" y="11"/>
                      </a:lnTo>
                      <a:lnTo>
                        <a:pt x="24" y="13"/>
                      </a:lnTo>
                      <a:lnTo>
                        <a:pt x="24" y="16"/>
                      </a:lnTo>
                      <a:lnTo>
                        <a:pt x="24" y="18"/>
                      </a:lnTo>
                      <a:lnTo>
                        <a:pt x="22" y="20"/>
                      </a:lnTo>
                      <a:lnTo>
                        <a:pt x="22" y="22"/>
                      </a:lnTo>
                      <a:lnTo>
                        <a:pt x="20" y="22"/>
                      </a:lnTo>
                      <a:lnTo>
                        <a:pt x="18" y="25"/>
                      </a:lnTo>
                      <a:lnTo>
                        <a:pt x="15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6" y="25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751880" y="3652200"/>
                  <a:ext cx="38520" cy="4212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1" y="0"/>
                      </a:moveTo>
                      <a:lnTo>
                        <a:pt x="13" y="0"/>
                      </a:lnTo>
                      <a:lnTo>
                        <a:pt x="18" y="0"/>
                      </a:lnTo>
                      <a:lnTo>
                        <a:pt x="20" y="2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5" y="9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5" y="16"/>
                      </a:lnTo>
                      <a:lnTo>
                        <a:pt x="25" y="18"/>
                      </a:lnTo>
                      <a:lnTo>
                        <a:pt x="22" y="20"/>
                      </a:lnTo>
                      <a:lnTo>
                        <a:pt x="20" y="22"/>
                      </a:lnTo>
                      <a:lnTo>
                        <a:pt x="20" y="22"/>
                      </a:lnTo>
                      <a:lnTo>
                        <a:pt x="18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6" y="25"/>
                      </a:lnTo>
                      <a:lnTo>
                        <a:pt x="4" y="22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026840" y="3481920"/>
                  <a:ext cx="738360" cy="158400"/>
                </a:xfrm>
                <a:custGeom>
                  <a:avLst/>
                  <a:gdLst/>
                  <a:ahLst/>
                  <a:rect l="l" t="t" r="r" b="b"/>
                  <a:pathLst>
                    <a:path w="474" h="94">
                      <a:moveTo>
                        <a:pt x="474" y="94"/>
                      </a:moveTo>
                      <a:lnTo>
                        <a:pt x="471" y="87"/>
                      </a:lnTo>
                      <a:lnTo>
                        <a:pt x="469" y="78"/>
                      </a:lnTo>
                      <a:lnTo>
                        <a:pt x="462" y="69"/>
                      </a:lnTo>
                      <a:lnTo>
                        <a:pt x="455" y="62"/>
                      </a:lnTo>
                      <a:lnTo>
                        <a:pt x="446" y="53"/>
                      </a:lnTo>
                      <a:lnTo>
                        <a:pt x="435" y="46"/>
                      </a:lnTo>
                      <a:lnTo>
                        <a:pt x="421" y="39"/>
                      </a:lnTo>
                      <a:lnTo>
                        <a:pt x="408" y="32"/>
                      </a:lnTo>
                      <a:lnTo>
                        <a:pt x="374" y="21"/>
                      </a:lnTo>
                      <a:lnTo>
                        <a:pt x="335" y="11"/>
                      </a:lnTo>
                      <a:lnTo>
                        <a:pt x="292" y="5"/>
                      </a:lnTo>
                      <a:lnTo>
                        <a:pt x="247" y="0"/>
                      </a:lnTo>
                      <a:lnTo>
                        <a:pt x="199" y="0"/>
                      </a:lnTo>
                      <a:lnTo>
                        <a:pt x="154" y="2"/>
                      </a:lnTo>
                      <a:lnTo>
                        <a:pt x="113" y="7"/>
                      </a:lnTo>
                      <a:lnTo>
                        <a:pt x="77" y="16"/>
                      </a:lnTo>
                      <a:lnTo>
                        <a:pt x="61" y="21"/>
                      </a:lnTo>
                      <a:lnTo>
                        <a:pt x="45" y="27"/>
                      </a:lnTo>
                      <a:lnTo>
                        <a:pt x="34" y="32"/>
                      </a:lnTo>
                      <a:lnTo>
                        <a:pt x="22" y="39"/>
                      </a:lnTo>
                      <a:lnTo>
                        <a:pt x="13" y="48"/>
                      </a:lnTo>
                      <a:lnTo>
                        <a:pt x="6" y="55"/>
                      </a:lnTo>
                      <a:lnTo>
                        <a:pt x="2" y="64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87960" y="3589920"/>
                  <a:ext cx="77400" cy="84240"/>
                </a:xfrm>
                <a:custGeom>
                  <a:avLst/>
                  <a:gdLst/>
                  <a:ahLst/>
                  <a:rect l="l" t="t" r="r" b="b"/>
                  <a:pathLst>
                    <a:path w="50" h="50">
                      <a:moveTo>
                        <a:pt x="50" y="7"/>
                      </a:moveTo>
                      <a:lnTo>
                        <a:pt x="20" y="50"/>
                      </a:lnTo>
                      <a:lnTo>
                        <a:pt x="0" y="0"/>
                      </a:lnTo>
                      <a:lnTo>
                        <a:pt x="50" y="7"/>
                      </a:lnTo>
                      <a:lnTo>
                        <a:pt x="20" y="50"/>
                      </a:lnTo>
                      <a:lnTo>
                        <a:pt x="50" y="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517880" y="3709800"/>
                  <a:ext cx="247680" cy="138240"/>
                </a:xfrm>
                <a:custGeom>
                  <a:avLst/>
                  <a:gdLst/>
                  <a:ahLst/>
                  <a:rect l="l" t="t" r="r" b="b"/>
                  <a:pathLst>
                    <a:path w="159" h="82">
                      <a:moveTo>
                        <a:pt x="159" y="0"/>
                      </a:moveTo>
                      <a:lnTo>
                        <a:pt x="159" y="14"/>
                      </a:lnTo>
                      <a:lnTo>
                        <a:pt x="154" y="27"/>
                      </a:lnTo>
                      <a:lnTo>
                        <a:pt x="147" y="41"/>
                      </a:lnTo>
                      <a:lnTo>
                        <a:pt x="138" y="52"/>
                      </a:lnTo>
                      <a:lnTo>
                        <a:pt x="127" y="64"/>
                      </a:lnTo>
                      <a:lnTo>
                        <a:pt x="113" y="73"/>
                      </a:lnTo>
                      <a:lnTo>
                        <a:pt x="100" y="78"/>
                      </a:lnTo>
                      <a:lnTo>
                        <a:pt x="84" y="82"/>
                      </a:lnTo>
                      <a:lnTo>
                        <a:pt x="68" y="82"/>
                      </a:lnTo>
                      <a:lnTo>
                        <a:pt x="52" y="80"/>
                      </a:lnTo>
                      <a:lnTo>
                        <a:pt x="38" y="75"/>
                      </a:lnTo>
                      <a:lnTo>
                        <a:pt x="27" y="68"/>
                      </a:lnTo>
                      <a:lnTo>
                        <a:pt x="16" y="59"/>
                      </a:lnTo>
                      <a:lnTo>
                        <a:pt x="9" y="48"/>
                      </a:lnTo>
                      <a:lnTo>
                        <a:pt x="2" y="34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482240" y="3670920"/>
                  <a:ext cx="77400" cy="77400"/>
                </a:xfrm>
                <a:custGeom>
                  <a:avLst/>
                  <a:gdLst/>
                  <a:ahLst/>
                  <a:rect l="l" t="t" r="r" b="b"/>
                  <a:pathLst>
                    <a:path w="50" h="46">
                      <a:moveTo>
                        <a:pt x="0" y="46"/>
                      </a:moveTo>
                      <a:lnTo>
                        <a:pt x="23" y="0"/>
                      </a:lnTo>
                      <a:lnTo>
                        <a:pt x="50" y="43"/>
                      </a:lnTo>
                      <a:lnTo>
                        <a:pt x="0" y="46"/>
                      </a:lnTo>
                      <a:lnTo>
                        <a:pt x="23" y="0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149960" y="3605400"/>
                  <a:ext cx="1440" cy="13500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392960" y="3605400"/>
                  <a:ext cx="1440" cy="13824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645680" y="3608640"/>
                  <a:ext cx="1080" cy="13500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358760" y="3412800"/>
                  <a:ext cx="1440" cy="13824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634880" y="3782520"/>
                  <a:ext cx="1080" cy="139680"/>
                </a:xfrm>
                <a:prstGeom prst="line">
                  <a:avLst/>
                </a:prstGeom>
                <a:ln w="7920">
                  <a:solidFill>
                    <a:srgbClr val="1f1a1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47000" y="3674520"/>
                  <a:ext cx="2008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178040" y="3632040"/>
                  <a:ext cx="69840" cy="84240"/>
                </a:xfrm>
                <a:custGeom>
                  <a:avLst/>
                  <a:gdLst/>
                  <a:ahLst/>
                  <a:rect l="l" t="t" r="r" b="b"/>
                  <a:pathLst>
                    <a:path w="45" h="50">
                      <a:moveTo>
                        <a:pt x="0" y="0"/>
                      </a:moveTo>
                      <a:lnTo>
                        <a:pt x="45" y="25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45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291800" y="3674520"/>
                  <a:ext cx="20088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422840" y="3632040"/>
                  <a:ext cx="70200" cy="84240"/>
                </a:xfrm>
                <a:custGeom>
                  <a:avLst/>
                  <a:gdLst/>
                  <a:ahLst/>
                  <a:rect l="l" t="t" r="r" b="b"/>
                  <a:pathLst>
                    <a:path w="45" h="50">
                      <a:moveTo>
                        <a:pt x="0" y="0"/>
                      </a:moveTo>
                      <a:lnTo>
                        <a:pt x="45" y="25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45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545960" y="3674520"/>
                  <a:ext cx="200520" cy="1440"/>
                </a:xfrm>
                <a:prstGeom prst="line">
                  <a:avLst/>
                </a:prstGeom>
                <a:ln w="0">
                  <a:solidFill>
                    <a:srgbClr val="25221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676640" y="3635640"/>
                  <a:ext cx="69840" cy="81000"/>
                </a:xfrm>
                <a:custGeom>
                  <a:avLst/>
                  <a:gdLst/>
                  <a:ahLst/>
                  <a:rect l="l" t="t" r="r" b="b"/>
                  <a:pathLst>
                    <a:path w="45" h="48">
                      <a:moveTo>
                        <a:pt x="0" y="0"/>
                      </a:moveTo>
                      <a:lnTo>
                        <a:pt x="45" y="23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45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5188680" y="3128040"/>
                <a:ext cx="428040" cy="482400"/>
              </a:xfrm>
              <a:custGeom>
                <a:avLst/>
                <a:gdLst/>
                <a:ahLst/>
                <a:rect l="l" t="t" r="r" b="b"/>
                <a:pathLst>
                  <a:path w="275" h="286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6"/>
                    </a:lnTo>
                    <a:lnTo>
                      <a:pt x="275" y="143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6071400" y="3166560"/>
              <a:ext cx="72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rm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5188680" y="3995640"/>
              <a:ext cx="2472480" cy="874440"/>
              <a:chOff x="5188680" y="3995640"/>
              <a:chExt cx="2472480" cy="87444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5559120" y="4015440"/>
                <a:ext cx="2102040" cy="854640"/>
                <a:chOff x="5559120" y="4015440"/>
                <a:chExt cx="2102040" cy="85464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5559120" y="4015440"/>
                  <a:ext cx="2102040" cy="854640"/>
                  <a:chOff x="5559120" y="4015440"/>
                  <a:chExt cx="2102040" cy="85464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5559120" y="4015440"/>
                    <a:ext cx="173124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324">
                        <a:moveTo>
                          <a:pt x="556" y="0"/>
                        </a:moveTo>
                        <a:lnTo>
                          <a:pt x="612" y="0"/>
                        </a:lnTo>
                        <a:lnTo>
                          <a:pt x="667" y="2"/>
                        </a:lnTo>
                        <a:lnTo>
                          <a:pt x="721" y="7"/>
                        </a:lnTo>
                        <a:lnTo>
                          <a:pt x="771" y="14"/>
                        </a:lnTo>
                        <a:lnTo>
                          <a:pt x="821" y="21"/>
                        </a:lnTo>
                        <a:lnTo>
                          <a:pt x="866" y="27"/>
                        </a:lnTo>
                        <a:lnTo>
                          <a:pt x="910" y="37"/>
                        </a:lnTo>
                        <a:lnTo>
                          <a:pt x="948" y="48"/>
                        </a:lnTo>
                        <a:lnTo>
                          <a:pt x="984" y="59"/>
                        </a:lnTo>
                        <a:lnTo>
                          <a:pt x="1016" y="71"/>
                        </a:lnTo>
                        <a:lnTo>
                          <a:pt x="1043" y="84"/>
                        </a:lnTo>
                        <a:lnTo>
                          <a:pt x="1068" y="98"/>
                        </a:lnTo>
                        <a:lnTo>
                          <a:pt x="1086" y="114"/>
                        </a:lnTo>
                        <a:lnTo>
                          <a:pt x="1100" y="130"/>
                        </a:lnTo>
                        <a:lnTo>
                          <a:pt x="1105" y="137"/>
                        </a:lnTo>
                        <a:lnTo>
                          <a:pt x="1109" y="146"/>
                        </a:lnTo>
                        <a:lnTo>
                          <a:pt x="1111" y="153"/>
                        </a:lnTo>
                        <a:lnTo>
                          <a:pt x="1111" y="162"/>
                        </a:lnTo>
                        <a:lnTo>
                          <a:pt x="1111" y="169"/>
                        </a:lnTo>
                        <a:lnTo>
                          <a:pt x="1109" y="178"/>
                        </a:lnTo>
                        <a:lnTo>
                          <a:pt x="1105" y="187"/>
                        </a:lnTo>
                        <a:lnTo>
                          <a:pt x="1100" y="194"/>
                        </a:lnTo>
                        <a:lnTo>
                          <a:pt x="1086" y="210"/>
                        </a:lnTo>
                        <a:lnTo>
                          <a:pt x="1068" y="224"/>
                        </a:lnTo>
                        <a:lnTo>
                          <a:pt x="1043" y="240"/>
                        </a:lnTo>
                        <a:lnTo>
                          <a:pt x="1016" y="251"/>
                        </a:lnTo>
                        <a:lnTo>
                          <a:pt x="984" y="265"/>
                        </a:lnTo>
                        <a:lnTo>
                          <a:pt x="948" y="276"/>
                        </a:lnTo>
                        <a:lnTo>
                          <a:pt x="910" y="285"/>
                        </a:lnTo>
                        <a:lnTo>
                          <a:pt x="866" y="297"/>
                        </a:lnTo>
                        <a:lnTo>
                          <a:pt x="821" y="303"/>
                        </a:lnTo>
                        <a:lnTo>
                          <a:pt x="771" y="310"/>
                        </a:lnTo>
                        <a:lnTo>
                          <a:pt x="721" y="317"/>
                        </a:lnTo>
                        <a:lnTo>
                          <a:pt x="667" y="319"/>
                        </a:lnTo>
                        <a:lnTo>
                          <a:pt x="612" y="322"/>
                        </a:lnTo>
                        <a:lnTo>
                          <a:pt x="556" y="324"/>
                        </a:lnTo>
                        <a:lnTo>
                          <a:pt x="499" y="322"/>
                        </a:lnTo>
                        <a:lnTo>
                          <a:pt x="445" y="319"/>
                        </a:lnTo>
                        <a:lnTo>
                          <a:pt x="390" y="317"/>
                        </a:lnTo>
                        <a:lnTo>
                          <a:pt x="340" y="310"/>
                        </a:lnTo>
                        <a:lnTo>
                          <a:pt x="290" y="303"/>
                        </a:lnTo>
                        <a:lnTo>
                          <a:pt x="245" y="297"/>
                        </a:lnTo>
                        <a:lnTo>
                          <a:pt x="202" y="285"/>
                        </a:lnTo>
                        <a:lnTo>
                          <a:pt x="163" y="276"/>
                        </a:lnTo>
                        <a:lnTo>
                          <a:pt x="127" y="265"/>
                        </a:lnTo>
                        <a:lnTo>
                          <a:pt x="95" y="251"/>
                        </a:lnTo>
                        <a:lnTo>
                          <a:pt x="68" y="240"/>
                        </a:lnTo>
                        <a:lnTo>
                          <a:pt x="43" y="224"/>
                        </a:lnTo>
                        <a:lnTo>
                          <a:pt x="25" y="210"/>
                        </a:lnTo>
                        <a:lnTo>
                          <a:pt x="11" y="194"/>
                        </a:lnTo>
                        <a:lnTo>
                          <a:pt x="7" y="187"/>
                        </a:lnTo>
                        <a:lnTo>
                          <a:pt x="2" y="178"/>
                        </a:lnTo>
                        <a:lnTo>
                          <a:pt x="0" y="169"/>
                        </a:lnTo>
                        <a:lnTo>
                          <a:pt x="0" y="162"/>
                        </a:lnTo>
                        <a:lnTo>
                          <a:pt x="0" y="153"/>
                        </a:lnTo>
                        <a:lnTo>
                          <a:pt x="2" y="146"/>
                        </a:lnTo>
                        <a:lnTo>
                          <a:pt x="7" y="137"/>
                        </a:lnTo>
                        <a:lnTo>
                          <a:pt x="11" y="130"/>
                        </a:lnTo>
                        <a:lnTo>
                          <a:pt x="25" y="114"/>
                        </a:lnTo>
                        <a:lnTo>
                          <a:pt x="43" y="98"/>
                        </a:lnTo>
                        <a:lnTo>
                          <a:pt x="68" y="84"/>
                        </a:lnTo>
                        <a:lnTo>
                          <a:pt x="95" y="71"/>
                        </a:lnTo>
                        <a:lnTo>
                          <a:pt x="127" y="59"/>
                        </a:lnTo>
                        <a:lnTo>
                          <a:pt x="163" y="48"/>
                        </a:lnTo>
                        <a:lnTo>
                          <a:pt x="202" y="37"/>
                        </a:lnTo>
                        <a:lnTo>
                          <a:pt x="245" y="27"/>
                        </a:lnTo>
                        <a:lnTo>
                          <a:pt x="290" y="21"/>
                        </a:lnTo>
                        <a:lnTo>
                          <a:pt x="340" y="14"/>
                        </a:lnTo>
                        <a:lnTo>
                          <a:pt x="390" y="7"/>
                        </a:lnTo>
                        <a:lnTo>
                          <a:pt x="445" y="2"/>
                        </a:lnTo>
                        <a:lnTo>
                          <a:pt x="499" y="0"/>
                        </a:lnTo>
                        <a:lnTo>
                          <a:pt x="55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5559120" y="4015440"/>
                    <a:ext cx="173124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324">
                        <a:moveTo>
                          <a:pt x="556" y="0"/>
                        </a:moveTo>
                        <a:lnTo>
                          <a:pt x="612" y="0"/>
                        </a:lnTo>
                        <a:lnTo>
                          <a:pt x="667" y="2"/>
                        </a:lnTo>
                        <a:lnTo>
                          <a:pt x="721" y="7"/>
                        </a:lnTo>
                        <a:lnTo>
                          <a:pt x="771" y="14"/>
                        </a:lnTo>
                        <a:lnTo>
                          <a:pt x="821" y="21"/>
                        </a:lnTo>
                        <a:lnTo>
                          <a:pt x="866" y="27"/>
                        </a:lnTo>
                        <a:lnTo>
                          <a:pt x="910" y="37"/>
                        </a:lnTo>
                        <a:lnTo>
                          <a:pt x="948" y="48"/>
                        </a:lnTo>
                        <a:lnTo>
                          <a:pt x="984" y="59"/>
                        </a:lnTo>
                        <a:lnTo>
                          <a:pt x="1016" y="71"/>
                        </a:lnTo>
                        <a:lnTo>
                          <a:pt x="1043" y="84"/>
                        </a:lnTo>
                        <a:lnTo>
                          <a:pt x="1068" y="98"/>
                        </a:lnTo>
                        <a:lnTo>
                          <a:pt x="1086" y="114"/>
                        </a:lnTo>
                        <a:lnTo>
                          <a:pt x="1100" y="130"/>
                        </a:lnTo>
                        <a:lnTo>
                          <a:pt x="1105" y="137"/>
                        </a:lnTo>
                        <a:lnTo>
                          <a:pt x="1109" y="146"/>
                        </a:lnTo>
                        <a:lnTo>
                          <a:pt x="1111" y="153"/>
                        </a:lnTo>
                        <a:lnTo>
                          <a:pt x="1111" y="162"/>
                        </a:lnTo>
                        <a:lnTo>
                          <a:pt x="1111" y="169"/>
                        </a:lnTo>
                        <a:lnTo>
                          <a:pt x="1109" y="178"/>
                        </a:lnTo>
                        <a:lnTo>
                          <a:pt x="1105" y="187"/>
                        </a:lnTo>
                        <a:lnTo>
                          <a:pt x="1100" y="194"/>
                        </a:lnTo>
                        <a:lnTo>
                          <a:pt x="1086" y="210"/>
                        </a:lnTo>
                        <a:lnTo>
                          <a:pt x="1068" y="224"/>
                        </a:lnTo>
                        <a:lnTo>
                          <a:pt x="1043" y="240"/>
                        </a:lnTo>
                        <a:lnTo>
                          <a:pt x="1016" y="251"/>
                        </a:lnTo>
                        <a:lnTo>
                          <a:pt x="984" y="265"/>
                        </a:lnTo>
                        <a:lnTo>
                          <a:pt x="948" y="276"/>
                        </a:lnTo>
                        <a:lnTo>
                          <a:pt x="910" y="285"/>
                        </a:lnTo>
                        <a:lnTo>
                          <a:pt x="866" y="297"/>
                        </a:lnTo>
                        <a:lnTo>
                          <a:pt x="821" y="303"/>
                        </a:lnTo>
                        <a:lnTo>
                          <a:pt x="771" y="310"/>
                        </a:lnTo>
                        <a:lnTo>
                          <a:pt x="721" y="317"/>
                        </a:lnTo>
                        <a:lnTo>
                          <a:pt x="667" y="319"/>
                        </a:lnTo>
                        <a:lnTo>
                          <a:pt x="612" y="322"/>
                        </a:lnTo>
                        <a:lnTo>
                          <a:pt x="556" y="324"/>
                        </a:lnTo>
                        <a:lnTo>
                          <a:pt x="499" y="322"/>
                        </a:lnTo>
                        <a:lnTo>
                          <a:pt x="445" y="319"/>
                        </a:lnTo>
                        <a:lnTo>
                          <a:pt x="390" y="317"/>
                        </a:lnTo>
                        <a:lnTo>
                          <a:pt x="340" y="310"/>
                        </a:lnTo>
                        <a:lnTo>
                          <a:pt x="290" y="303"/>
                        </a:lnTo>
                        <a:lnTo>
                          <a:pt x="245" y="297"/>
                        </a:lnTo>
                        <a:lnTo>
                          <a:pt x="202" y="285"/>
                        </a:lnTo>
                        <a:lnTo>
                          <a:pt x="163" y="276"/>
                        </a:lnTo>
                        <a:lnTo>
                          <a:pt x="127" y="265"/>
                        </a:lnTo>
                        <a:lnTo>
                          <a:pt x="95" y="251"/>
                        </a:lnTo>
                        <a:lnTo>
                          <a:pt x="68" y="240"/>
                        </a:lnTo>
                        <a:lnTo>
                          <a:pt x="43" y="224"/>
                        </a:lnTo>
                        <a:lnTo>
                          <a:pt x="25" y="210"/>
                        </a:lnTo>
                        <a:lnTo>
                          <a:pt x="11" y="194"/>
                        </a:lnTo>
                        <a:lnTo>
                          <a:pt x="7" y="187"/>
                        </a:lnTo>
                        <a:lnTo>
                          <a:pt x="2" y="178"/>
                        </a:lnTo>
                        <a:lnTo>
                          <a:pt x="0" y="169"/>
                        </a:lnTo>
                        <a:lnTo>
                          <a:pt x="0" y="162"/>
                        </a:lnTo>
                        <a:lnTo>
                          <a:pt x="0" y="153"/>
                        </a:lnTo>
                        <a:lnTo>
                          <a:pt x="2" y="146"/>
                        </a:lnTo>
                        <a:lnTo>
                          <a:pt x="7" y="137"/>
                        </a:lnTo>
                        <a:lnTo>
                          <a:pt x="11" y="130"/>
                        </a:lnTo>
                        <a:lnTo>
                          <a:pt x="25" y="114"/>
                        </a:lnTo>
                        <a:lnTo>
                          <a:pt x="43" y="98"/>
                        </a:lnTo>
                        <a:lnTo>
                          <a:pt x="68" y="84"/>
                        </a:lnTo>
                        <a:lnTo>
                          <a:pt x="95" y="71"/>
                        </a:lnTo>
                        <a:lnTo>
                          <a:pt x="127" y="59"/>
                        </a:lnTo>
                        <a:lnTo>
                          <a:pt x="163" y="48"/>
                        </a:lnTo>
                        <a:lnTo>
                          <a:pt x="202" y="37"/>
                        </a:lnTo>
                        <a:lnTo>
                          <a:pt x="245" y="27"/>
                        </a:lnTo>
                        <a:lnTo>
                          <a:pt x="290" y="21"/>
                        </a:lnTo>
                        <a:lnTo>
                          <a:pt x="340" y="14"/>
                        </a:lnTo>
                        <a:lnTo>
                          <a:pt x="390" y="7"/>
                        </a:lnTo>
                        <a:lnTo>
                          <a:pt x="445" y="2"/>
                        </a:lnTo>
                        <a:lnTo>
                          <a:pt x="499" y="0"/>
                        </a:lnTo>
                        <a:lnTo>
                          <a:pt x="556" y="0"/>
                        </a:lnTo>
                      </a:path>
                    </a:pathLst>
                  </a:custGeom>
                  <a:noFill/>
                  <a:ln w="324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5844240" y="4175640"/>
                    <a:ext cx="360" cy="36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844240" y="4347360"/>
                    <a:ext cx="360" cy="36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220160" y="4369680"/>
                    <a:ext cx="441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194">
                        <a:moveTo>
                          <a:pt x="0" y="194"/>
                        </a:move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4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7"/>
                        </a:lnTo>
                        <a:lnTo>
                          <a:pt x="5" y="7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65" y="0"/>
                        </a:lnTo>
                        <a:lnTo>
                          <a:pt x="268" y="0"/>
                        </a:lnTo>
                        <a:lnTo>
                          <a:pt x="270" y="0"/>
                        </a:lnTo>
                        <a:lnTo>
                          <a:pt x="270" y="0"/>
                        </a:lnTo>
                        <a:lnTo>
                          <a:pt x="272" y="2"/>
                        </a:lnTo>
                        <a:lnTo>
                          <a:pt x="274" y="2"/>
                        </a:lnTo>
                        <a:lnTo>
                          <a:pt x="274" y="2"/>
                        </a:lnTo>
                        <a:lnTo>
                          <a:pt x="277" y="4"/>
                        </a:lnTo>
                        <a:lnTo>
                          <a:pt x="279" y="4"/>
                        </a:lnTo>
                        <a:lnTo>
                          <a:pt x="279" y="7"/>
                        </a:lnTo>
                        <a:lnTo>
                          <a:pt x="281" y="7"/>
                        </a:lnTo>
                        <a:lnTo>
                          <a:pt x="281" y="9"/>
                        </a:lnTo>
                        <a:lnTo>
                          <a:pt x="281" y="11"/>
                        </a:lnTo>
                        <a:lnTo>
                          <a:pt x="283" y="11"/>
                        </a:lnTo>
                        <a:lnTo>
                          <a:pt x="283" y="14"/>
                        </a:lnTo>
                        <a:lnTo>
                          <a:pt x="283" y="16"/>
                        </a:lnTo>
                        <a:lnTo>
                          <a:pt x="283" y="18"/>
                        </a:lnTo>
                        <a:lnTo>
                          <a:pt x="283" y="194"/>
                        </a:lnTo>
                        <a:lnTo>
                          <a:pt x="0" y="194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220160" y="4696560"/>
                    <a:ext cx="441000" cy="1152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333920" y="4708440"/>
                    <a:ext cx="2120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61">
                        <a:moveTo>
                          <a:pt x="136" y="61"/>
                        </a:moveTo>
                        <a:lnTo>
                          <a:pt x="136" y="47"/>
                        </a:lnTo>
                        <a:lnTo>
                          <a:pt x="127" y="29"/>
                        </a:lnTo>
                        <a:lnTo>
                          <a:pt x="136" y="11"/>
                        </a:ln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9" y="29"/>
                        </a:lnTo>
                        <a:lnTo>
                          <a:pt x="0" y="47"/>
                        </a:lnTo>
                        <a:lnTo>
                          <a:pt x="0" y="61"/>
                        </a:lnTo>
                        <a:lnTo>
                          <a:pt x="136" y="61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220160" y="4369680"/>
                    <a:ext cx="4410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201">
                        <a:moveTo>
                          <a:pt x="0" y="201"/>
                        </a:move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263" y="0"/>
                        </a:lnTo>
                        <a:lnTo>
                          <a:pt x="265" y="0"/>
                        </a:lnTo>
                        <a:lnTo>
                          <a:pt x="268" y="0"/>
                        </a:lnTo>
                        <a:lnTo>
                          <a:pt x="270" y="0"/>
                        </a:lnTo>
                        <a:lnTo>
                          <a:pt x="272" y="2"/>
                        </a:lnTo>
                        <a:lnTo>
                          <a:pt x="274" y="2"/>
                        </a:lnTo>
                        <a:lnTo>
                          <a:pt x="274" y="2"/>
                        </a:lnTo>
                        <a:lnTo>
                          <a:pt x="277" y="4"/>
                        </a:lnTo>
                        <a:lnTo>
                          <a:pt x="279" y="4"/>
                        </a:lnTo>
                        <a:lnTo>
                          <a:pt x="279" y="7"/>
                        </a:lnTo>
                        <a:lnTo>
                          <a:pt x="279" y="7"/>
                        </a:lnTo>
                        <a:lnTo>
                          <a:pt x="281" y="9"/>
                        </a:lnTo>
                        <a:lnTo>
                          <a:pt x="281" y="11"/>
                        </a:lnTo>
                        <a:lnTo>
                          <a:pt x="283" y="11"/>
                        </a:lnTo>
                        <a:lnTo>
                          <a:pt x="283" y="14"/>
                        </a:lnTo>
                        <a:lnTo>
                          <a:pt x="283" y="16"/>
                        </a:lnTo>
                        <a:lnTo>
                          <a:pt x="283" y="16"/>
                        </a:lnTo>
                        <a:lnTo>
                          <a:pt x="283" y="201"/>
                        </a:lnTo>
                        <a:lnTo>
                          <a:pt x="0" y="201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333920" y="4708440"/>
                    <a:ext cx="2120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61">
                        <a:moveTo>
                          <a:pt x="136" y="61"/>
                        </a:moveTo>
                        <a:lnTo>
                          <a:pt x="136" y="47"/>
                        </a:lnTo>
                        <a:lnTo>
                          <a:pt x="127" y="29"/>
                        </a:lnTo>
                        <a:lnTo>
                          <a:pt x="136" y="11"/>
                        </a:lnTo>
                        <a:lnTo>
                          <a:pt x="136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9" y="29"/>
                        </a:lnTo>
                        <a:lnTo>
                          <a:pt x="0" y="47"/>
                        </a:lnTo>
                        <a:lnTo>
                          <a:pt x="0" y="61"/>
                        </a:lnTo>
                        <a:lnTo>
                          <a:pt x="136" y="61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265520" y="4408200"/>
                    <a:ext cx="350280" cy="255960"/>
                  </a:xfrm>
                  <a:prstGeom prst="rect">
                    <a:avLst/>
                  </a:prstGeom>
                  <a:solidFill>
                    <a:srgbClr val="3685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265520" y="4408200"/>
                    <a:ext cx="350280" cy="25596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48240" y="4396320"/>
                    <a:ext cx="384840" cy="28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9">
                        <a:moveTo>
                          <a:pt x="0" y="169"/>
                        </a:moveTo>
                        <a:lnTo>
                          <a:pt x="11" y="159"/>
                        </a:lnTo>
                        <a:lnTo>
                          <a:pt x="236" y="159"/>
                        </a:lnTo>
                        <a:lnTo>
                          <a:pt x="236" y="7"/>
                        </a:lnTo>
                        <a:lnTo>
                          <a:pt x="247" y="0"/>
                        </a:lnTo>
                        <a:lnTo>
                          <a:pt x="247" y="169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7c84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248240" y="4396320"/>
                    <a:ext cx="384840" cy="28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169">
                        <a:moveTo>
                          <a:pt x="0" y="169"/>
                        </a:moveTo>
                        <a:lnTo>
                          <a:pt x="11" y="159"/>
                        </a:lnTo>
                        <a:lnTo>
                          <a:pt x="236" y="159"/>
                        </a:lnTo>
                        <a:lnTo>
                          <a:pt x="236" y="7"/>
                        </a:lnTo>
                        <a:lnTo>
                          <a:pt x="247" y="0"/>
                        </a:lnTo>
                        <a:lnTo>
                          <a:pt x="247" y="169"/>
                        </a:lnTo>
                        <a:lnTo>
                          <a:pt x="0" y="169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333920" y="4757400"/>
                    <a:ext cx="2120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8">
                        <a:moveTo>
                          <a:pt x="0" y="18"/>
                        </a:moveTo>
                        <a:lnTo>
                          <a:pt x="136" y="18"/>
                        </a:lnTo>
                        <a:lnTo>
                          <a:pt x="127" y="0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333920" y="4757400"/>
                    <a:ext cx="2120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8">
                        <a:moveTo>
                          <a:pt x="0" y="18"/>
                        </a:moveTo>
                        <a:lnTo>
                          <a:pt x="136" y="18"/>
                        </a:lnTo>
                        <a:lnTo>
                          <a:pt x="127" y="0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</a:path>
                    </a:pathLst>
                  </a:custGeom>
                  <a:noFill/>
                  <a:ln w="3240">
                    <a:solidFill>
                      <a:srgbClr val="1214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633080" y="43963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248240" y="4396320"/>
                    <a:ext cx="3848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0">
                        <a:moveTo>
                          <a:pt x="0" y="0"/>
                        </a:moveTo>
                        <a:lnTo>
                          <a:pt x="247" y="0"/>
                        </a:lnTo>
                        <a:lnTo>
                          <a:pt x="24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248240" y="4396320"/>
                    <a:ext cx="360" cy="28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248240" y="468144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351200" y="475740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351200" y="4757400"/>
                    <a:ext cx="176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527240" y="475740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333920" y="472680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333920" y="4726800"/>
                    <a:ext cx="212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545960" y="4726800"/>
                    <a:ext cx="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333920" y="4787640"/>
                    <a:ext cx="2880" cy="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7337160" y="4787640"/>
                    <a:ext cx="208800" cy="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545960" y="4787640"/>
                    <a:ext cx="1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852240" y="4480920"/>
                    <a:ext cx="336600" cy="33012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852240" y="4480920"/>
                    <a:ext cx="336600" cy="33012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927480" y="4480920"/>
                    <a:ext cx="1836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82">
                        <a:moveTo>
                          <a:pt x="0" y="82"/>
                        </a:moveTo>
                        <a:lnTo>
                          <a:pt x="0" y="0"/>
                        </a:lnTo>
                        <a:lnTo>
                          <a:pt x="118" y="0"/>
                        </a:lnTo>
                        <a:lnTo>
                          <a:pt x="118" y="82"/>
                        </a:lnTo>
                        <a:lnTo>
                          <a:pt x="118" y="82"/>
                        </a:lnTo>
                        <a:lnTo>
                          <a:pt x="118" y="78"/>
                        </a:lnTo>
                        <a:lnTo>
                          <a:pt x="2" y="78"/>
                        </a:lnTo>
                        <a:lnTo>
                          <a:pt x="2" y="82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6927480" y="4619160"/>
                    <a:ext cx="1836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8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118" y="18"/>
                        </a:lnTo>
                        <a:lnTo>
                          <a:pt x="118" y="0"/>
                        </a:lnTo>
                        <a:lnTo>
                          <a:pt x="118" y="0"/>
                        </a:lnTo>
                        <a:lnTo>
                          <a:pt x="118" y="5"/>
                        </a:ln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24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27480" y="4480920"/>
                    <a:ext cx="183600" cy="16848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930360" y="4612680"/>
                    <a:ext cx="180360" cy="14760"/>
                  </a:xfrm>
                  <a:prstGeom prst="rect">
                    <a:avLst/>
                  </a:prstGeom>
                  <a:noFill/>
                  <a:ln w="3240">
                    <a:solidFill>
                      <a:srgbClr val="12141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930360" y="4600800"/>
                    <a:ext cx="180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4">
                        <a:moveTo>
                          <a:pt x="116" y="2"/>
                        </a:move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116" y="4"/>
                        </a:lnTo>
                        <a:lnTo>
                          <a:pt x="116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930360" y="459540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930360" y="458892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930360" y="458028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930360" y="4573440"/>
                    <a:ext cx="1803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930360" y="456516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930360" y="455832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930360" y="454968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930360" y="454140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930360" y="453492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930360" y="452664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930360" y="451944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930360" y="451116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930360" y="450432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930360" y="4496040"/>
                    <a:ext cx="1803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930360" y="4489560"/>
                    <a:ext cx="180360" cy="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6930360" y="4631040"/>
                    <a:ext cx="180360" cy="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930360" y="4642560"/>
                    <a:ext cx="180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058160" y="4807800"/>
                    <a:ext cx="560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36">
                        <a:moveTo>
                          <a:pt x="27" y="0"/>
                        </a:moveTo>
                        <a:lnTo>
                          <a:pt x="38" y="0"/>
                        </a:lnTo>
                        <a:lnTo>
                          <a:pt x="40" y="0"/>
                        </a:lnTo>
                        <a:lnTo>
                          <a:pt x="190" y="0"/>
                        </a:lnTo>
                        <a:lnTo>
                          <a:pt x="190" y="0"/>
                        </a:lnTo>
                        <a:lnTo>
                          <a:pt x="217" y="0"/>
                        </a:lnTo>
                        <a:lnTo>
                          <a:pt x="217" y="0"/>
                        </a:lnTo>
                        <a:lnTo>
                          <a:pt x="258" y="0"/>
                        </a:lnTo>
                        <a:lnTo>
                          <a:pt x="258" y="0"/>
                        </a:lnTo>
                        <a:lnTo>
                          <a:pt x="270" y="0"/>
                        </a:lnTo>
                        <a:lnTo>
                          <a:pt x="270" y="0"/>
                        </a:lnTo>
                        <a:lnTo>
                          <a:pt x="326" y="0"/>
                        </a:lnTo>
                        <a:lnTo>
                          <a:pt x="326" y="0"/>
                        </a:lnTo>
                        <a:lnTo>
                          <a:pt x="335" y="0"/>
                        </a:lnTo>
                        <a:lnTo>
                          <a:pt x="360" y="27"/>
                        </a:lnTo>
                        <a:lnTo>
                          <a:pt x="360" y="36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100280" y="4807800"/>
                    <a:ext cx="20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0">
                        <a:moveTo>
                          <a:pt x="1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117560" y="480456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120800" y="4804560"/>
                    <a:ext cx="233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">
                        <a:moveTo>
                          <a:pt x="150" y="2"/>
                        </a:moveTo>
                        <a:lnTo>
                          <a:pt x="15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50" y="2"/>
                        </a:lnTo>
                        <a:lnTo>
                          <a:pt x="150" y="2"/>
                        </a:lnTo>
                        <a:lnTo>
                          <a:pt x="150" y="0"/>
                        </a:lnTo>
                        <a:lnTo>
                          <a:pt x="150" y="0"/>
                        </a:lnTo>
                        <a:lnTo>
                          <a:pt x="150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354080" y="48078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354080" y="4807800"/>
                    <a:ext cx="41760" cy="3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396200" y="4804560"/>
                    <a:ext cx="1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396200" y="4804560"/>
                    <a:ext cx="63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">
                        <a:moveTo>
                          <a:pt x="41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41" y="2"/>
                        </a:lnTo>
                        <a:lnTo>
                          <a:pt x="39" y="2"/>
                        </a:lnTo>
                        <a:lnTo>
                          <a:pt x="41" y="2"/>
                        </a:lnTo>
                        <a:lnTo>
                          <a:pt x="41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457040" y="4804560"/>
                    <a:ext cx="2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2" y="2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460280" y="4807800"/>
                    <a:ext cx="18720" cy="360"/>
                  </a:xfrm>
                  <a:prstGeom prst="rect">
                    <a:avLst/>
                  </a:pr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479000" y="4804560"/>
                    <a:ext cx="1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479000" y="4804560"/>
                    <a:ext cx="87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">
                        <a:moveTo>
                          <a:pt x="56" y="2"/>
                        </a:moveTo>
                        <a:lnTo>
                          <a:pt x="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56" y="2"/>
                        </a:lnTo>
                        <a:lnTo>
                          <a:pt x="56" y="2"/>
                        </a:lnTo>
                        <a:lnTo>
                          <a:pt x="56" y="0"/>
                        </a:lnTo>
                        <a:lnTo>
                          <a:pt x="56" y="2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566120" y="4807800"/>
                    <a:ext cx="1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566120" y="480780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580520" y="4807800"/>
                    <a:ext cx="385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25" y="27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lnTo>
                          <a:pt x="25" y="27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619400" y="4853520"/>
                    <a:ext cx="108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058160" y="4868640"/>
                    <a:ext cx="560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0">
                        <a:moveTo>
                          <a:pt x="0" y="0"/>
                        </a:moveTo>
                        <a:lnTo>
                          <a:pt x="360" y="0"/>
                        </a:lnTo>
                        <a:lnTo>
                          <a:pt x="3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058160" y="4853520"/>
                    <a:ext cx="14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058160" y="4807800"/>
                    <a:ext cx="417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0"/>
                        </a:moveTo>
                        <a:lnTo>
                          <a:pt x="25" y="0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061400" y="485352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061400" y="4853520"/>
                    <a:ext cx="5547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616160" y="485352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092360" y="483804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089120" y="483804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117560" y="483804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7114320" y="483804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7142040" y="4838040"/>
                    <a:ext cx="183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0">
                        <a:moveTo>
                          <a:pt x="0" y="0"/>
                        </a:moveTo>
                        <a:lnTo>
                          <a:pt x="118" y="0"/>
                        </a:lnTo>
                        <a:lnTo>
                          <a:pt x="11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139520" y="4838040"/>
                    <a:ext cx="2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33920" y="4838040"/>
                    <a:ext cx="16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329600" y="4838040"/>
                    <a:ext cx="75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362000" y="483804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357320" y="4838040"/>
                    <a:ext cx="43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400880" y="483804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7396200" y="4838040"/>
                    <a:ext cx="75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426080" y="483804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7421400" y="4838040"/>
                    <a:ext cx="43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449480" y="483804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446240" y="483804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7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7488000" y="4838040"/>
                    <a:ext cx="435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0">
                        <a:moveTo>
                          <a:pt x="3" y="0"/>
                        </a:moveTo>
                        <a:lnTo>
                          <a:pt x="28" y="0"/>
                        </a:lnTo>
                        <a:lnTo>
                          <a:pt x="2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7485480" y="4838040"/>
                    <a:ext cx="75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7538040" y="483804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535160" y="4838040"/>
                    <a:ext cx="5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7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7563240" y="483804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7560000" y="48380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2" y="7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100280" y="482976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7097400" y="4829760"/>
                    <a:ext cx="5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7125120" y="482976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7120800" y="4829760"/>
                    <a:ext cx="4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149960" y="482976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145280" y="4829760"/>
                    <a:ext cx="4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7170480" y="4829760"/>
                    <a:ext cx="18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3" y="0"/>
                        </a:moveTo>
                        <a:lnTo>
                          <a:pt x="12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167240" y="4829760"/>
                    <a:ext cx="75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195320" y="482976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192440" y="4829760"/>
                    <a:ext cx="5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7220160" y="482976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9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220160" y="4829760"/>
                    <a:ext cx="2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45000" y="482976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242120" y="4829760"/>
                    <a:ext cx="5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7270200" y="482976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265520" y="4829760"/>
                    <a:ext cx="4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295040" y="4829760"/>
                    <a:ext cx="136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290360" y="482976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318440" y="4829760"/>
                    <a:ext cx="10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315200" y="4829760"/>
                    <a:ext cx="2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340040" y="482976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337160" y="4829760"/>
                    <a:ext cx="5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2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7106400" y="482328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710316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131600" y="482328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712836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7153200" y="482328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15320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7181280" y="4823280"/>
                    <a:ext cx="136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17840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206120" y="482328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198560" y="482328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7228080" y="482328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7223400" y="4823280"/>
                    <a:ext cx="43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3" y="4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7251480" y="482328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724824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276320" y="482328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727344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301160" y="482328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295040" y="4823280"/>
                    <a:ext cx="57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323120" y="4823280"/>
                    <a:ext cx="16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32312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7351200" y="482328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7343280" y="482328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7426080" y="482976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7421400" y="4829760"/>
                    <a:ext cx="4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5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7485480" y="4829760"/>
                    <a:ext cx="16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485480" y="4829760"/>
                    <a:ext cx="25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7513200" y="482976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509960" y="4829760"/>
                    <a:ext cx="2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535160" y="4829760"/>
                    <a:ext cx="16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535160" y="4829760"/>
                    <a:ext cx="25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485480" y="4823280"/>
                    <a:ext cx="136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48224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7509960" y="4823280"/>
                    <a:ext cx="140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50708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7535160" y="482328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7531920" y="48232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7560000" y="482328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555320" y="4823280"/>
                    <a:ext cx="43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396200" y="48146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392960" y="4814640"/>
                    <a:ext cx="2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7418160" y="4814640"/>
                    <a:ext cx="16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418160" y="4814640"/>
                    <a:ext cx="2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7443000" y="4814640"/>
                    <a:ext cx="17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7440120" y="4814640"/>
                    <a:ext cx="57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7482240" y="4814640"/>
                    <a:ext cx="16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7479000" y="4814640"/>
                    <a:ext cx="2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7507080" y="48146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502400" y="4814640"/>
                    <a:ext cx="4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531920" y="48146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527240" y="4814640"/>
                    <a:ext cx="4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396200" y="480780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7392960" y="48078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418160" y="4807800"/>
                    <a:ext cx="16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418160" y="48078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443000" y="4807800"/>
                    <a:ext cx="172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440120" y="4807800"/>
                    <a:ext cx="25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4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479000" y="4807800"/>
                    <a:ext cx="16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7479000" y="48078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502400" y="4807800"/>
                    <a:ext cx="187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499160" y="48078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527240" y="4807800"/>
                    <a:ext cx="1368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7524360" y="48078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7552080" y="480780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7548840" y="4807800"/>
                    <a:ext cx="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7114320" y="48146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111080" y="4814640"/>
                    <a:ext cx="2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7139520" y="481464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131600" y="4814640"/>
                    <a:ext cx="75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3" y="5"/>
                        </a:moveTo>
                        <a:lnTo>
                          <a:pt x="5" y="0"/>
                        </a:lnTo>
                        <a:lnTo>
                          <a:pt x="0" y="5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159680" y="4814640"/>
                    <a:ext cx="18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3" y="0"/>
                        </a:moveTo>
                        <a:lnTo>
                          <a:pt x="12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156440" y="4814640"/>
                    <a:ext cx="75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7184160" y="48146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7184160" y="481464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7209360" y="4814640"/>
                    <a:ext cx="18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7206120" y="481464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7234560" y="481464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7231320" y="4814640"/>
                    <a:ext cx="2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7259040" y="48146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256160" y="481464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284240" y="481464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281000" y="4814640"/>
                    <a:ext cx="28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5"/>
                        </a:move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309080" y="481464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7301160" y="4814640"/>
                    <a:ext cx="75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2" y="5"/>
                        </a:moveTo>
                        <a:lnTo>
                          <a:pt x="5" y="0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7329600" y="4815000"/>
                  <a:ext cx="1368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326360" y="4815000"/>
                  <a:ext cx="2880" cy="828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117560" y="480816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7117560" y="48081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145280" y="480816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142040" y="48081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67240" y="4808160"/>
                  <a:ext cx="1692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167240" y="48081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92440" y="4808160"/>
                  <a:ext cx="1692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192440" y="4808160"/>
                  <a:ext cx="2520" cy="68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220160" y="480816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217280" y="48081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242120" y="4808160"/>
                  <a:ext cx="1692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237440" y="4808160"/>
                  <a:ext cx="7560" cy="6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265520" y="4808160"/>
                  <a:ext cx="1548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262280" y="48081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290360" y="4808160"/>
                  <a:ext cx="1404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287120" y="48081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315200" y="480816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312320" y="480816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337160" y="4808160"/>
                  <a:ext cx="1692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333920" y="48081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188680" y="3995640"/>
                <a:ext cx="428040" cy="48060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5914440" y="4037760"/>
              <a:ext cx="1049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Executab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5188680" y="4862880"/>
              <a:ext cx="2687760" cy="1003680"/>
              <a:chOff x="5188680" y="4862880"/>
              <a:chExt cx="2687760" cy="1003680"/>
            </a:xfrm>
          </p:grpSpPr>
          <p:sp>
            <p:nvSpPr>
              <p:cNvPr id="667" name=""/>
              <p:cNvSpPr/>
              <p:nvPr/>
            </p:nvSpPr>
            <p:spPr>
              <a:xfrm>
                <a:off x="5559120" y="4883040"/>
                <a:ext cx="1729800" cy="541800"/>
              </a:xfrm>
              <a:custGeom>
                <a:avLst/>
                <a:gdLst/>
                <a:ahLst/>
                <a:rect l="l" t="t" r="r" b="b"/>
                <a:pathLst>
                  <a:path w="1110" h="321">
                    <a:moveTo>
                      <a:pt x="555" y="0"/>
                    </a:moveTo>
                    <a:lnTo>
                      <a:pt x="612" y="0"/>
                    </a:lnTo>
                    <a:lnTo>
                      <a:pt x="666" y="2"/>
                    </a:lnTo>
                    <a:lnTo>
                      <a:pt x="721" y="6"/>
                    </a:lnTo>
                    <a:lnTo>
                      <a:pt x="770" y="13"/>
                    </a:lnTo>
                    <a:lnTo>
                      <a:pt x="818" y="20"/>
                    </a:lnTo>
                    <a:lnTo>
                      <a:pt x="866" y="27"/>
                    </a:lnTo>
                    <a:lnTo>
                      <a:pt x="906" y="36"/>
                    </a:lnTo>
                    <a:lnTo>
                      <a:pt x="947" y="47"/>
                    </a:lnTo>
                    <a:lnTo>
                      <a:pt x="983" y="59"/>
                    </a:lnTo>
                    <a:lnTo>
                      <a:pt x="1015" y="70"/>
                    </a:lnTo>
                    <a:lnTo>
                      <a:pt x="1042" y="84"/>
                    </a:lnTo>
                    <a:lnTo>
                      <a:pt x="1065" y="98"/>
                    </a:lnTo>
                    <a:lnTo>
                      <a:pt x="1085" y="113"/>
                    </a:lnTo>
                    <a:lnTo>
                      <a:pt x="1099" y="127"/>
                    </a:lnTo>
                    <a:lnTo>
                      <a:pt x="1104" y="136"/>
                    </a:lnTo>
                    <a:lnTo>
                      <a:pt x="1106" y="143"/>
                    </a:lnTo>
                    <a:lnTo>
                      <a:pt x="1108" y="152"/>
                    </a:lnTo>
                    <a:lnTo>
                      <a:pt x="1110" y="161"/>
                    </a:lnTo>
                    <a:lnTo>
                      <a:pt x="1108" y="168"/>
                    </a:lnTo>
                    <a:lnTo>
                      <a:pt x="1106" y="177"/>
                    </a:lnTo>
                    <a:lnTo>
                      <a:pt x="1104" y="184"/>
                    </a:lnTo>
                    <a:lnTo>
                      <a:pt x="1099" y="193"/>
                    </a:lnTo>
                    <a:lnTo>
                      <a:pt x="1085" y="209"/>
                    </a:lnTo>
                    <a:lnTo>
                      <a:pt x="1065" y="223"/>
                    </a:lnTo>
                    <a:lnTo>
                      <a:pt x="1042" y="236"/>
                    </a:lnTo>
                    <a:lnTo>
                      <a:pt x="1015" y="250"/>
                    </a:lnTo>
                    <a:lnTo>
                      <a:pt x="983" y="264"/>
                    </a:lnTo>
                    <a:lnTo>
                      <a:pt x="947" y="275"/>
                    </a:lnTo>
                    <a:lnTo>
                      <a:pt x="906" y="284"/>
                    </a:lnTo>
                    <a:lnTo>
                      <a:pt x="866" y="293"/>
                    </a:lnTo>
                    <a:lnTo>
                      <a:pt x="818" y="303"/>
                    </a:lnTo>
                    <a:lnTo>
                      <a:pt x="770" y="309"/>
                    </a:lnTo>
                    <a:lnTo>
                      <a:pt x="721" y="314"/>
                    </a:lnTo>
                    <a:lnTo>
                      <a:pt x="666" y="319"/>
                    </a:lnTo>
                    <a:lnTo>
                      <a:pt x="612" y="321"/>
                    </a:lnTo>
                    <a:lnTo>
                      <a:pt x="555" y="321"/>
                    </a:lnTo>
                    <a:lnTo>
                      <a:pt x="498" y="321"/>
                    </a:lnTo>
                    <a:lnTo>
                      <a:pt x="444" y="319"/>
                    </a:lnTo>
                    <a:lnTo>
                      <a:pt x="390" y="314"/>
                    </a:lnTo>
                    <a:lnTo>
                      <a:pt x="340" y="309"/>
                    </a:lnTo>
                    <a:lnTo>
                      <a:pt x="290" y="303"/>
                    </a:lnTo>
                    <a:lnTo>
                      <a:pt x="245" y="293"/>
                    </a:lnTo>
                    <a:lnTo>
                      <a:pt x="202" y="284"/>
                    </a:lnTo>
                    <a:lnTo>
                      <a:pt x="163" y="275"/>
                    </a:lnTo>
                    <a:lnTo>
                      <a:pt x="127" y="264"/>
                    </a:lnTo>
                    <a:lnTo>
                      <a:pt x="95" y="250"/>
                    </a:lnTo>
                    <a:lnTo>
                      <a:pt x="68" y="236"/>
                    </a:lnTo>
                    <a:lnTo>
                      <a:pt x="43" y="223"/>
                    </a:lnTo>
                    <a:lnTo>
                      <a:pt x="25" y="209"/>
                    </a:lnTo>
                    <a:lnTo>
                      <a:pt x="11" y="193"/>
                    </a:lnTo>
                    <a:lnTo>
                      <a:pt x="7" y="184"/>
                    </a:lnTo>
                    <a:lnTo>
                      <a:pt x="2" y="177"/>
                    </a:lnTo>
                    <a:lnTo>
                      <a:pt x="0" y="168"/>
                    </a:lnTo>
                    <a:lnTo>
                      <a:pt x="0" y="161"/>
                    </a:lnTo>
                    <a:lnTo>
                      <a:pt x="0" y="152"/>
                    </a:lnTo>
                    <a:lnTo>
                      <a:pt x="2" y="143"/>
                    </a:lnTo>
                    <a:lnTo>
                      <a:pt x="7" y="136"/>
                    </a:lnTo>
                    <a:lnTo>
                      <a:pt x="11" y="127"/>
                    </a:lnTo>
                    <a:lnTo>
                      <a:pt x="25" y="113"/>
                    </a:lnTo>
                    <a:lnTo>
                      <a:pt x="43" y="98"/>
                    </a:lnTo>
                    <a:lnTo>
                      <a:pt x="68" y="84"/>
                    </a:lnTo>
                    <a:lnTo>
                      <a:pt x="95" y="70"/>
                    </a:lnTo>
                    <a:lnTo>
                      <a:pt x="127" y="59"/>
                    </a:lnTo>
                    <a:lnTo>
                      <a:pt x="163" y="47"/>
                    </a:lnTo>
                    <a:lnTo>
                      <a:pt x="202" y="36"/>
                    </a:lnTo>
                    <a:lnTo>
                      <a:pt x="245" y="27"/>
                    </a:lnTo>
                    <a:lnTo>
                      <a:pt x="290" y="20"/>
                    </a:lnTo>
                    <a:lnTo>
                      <a:pt x="340" y="13"/>
                    </a:lnTo>
                    <a:lnTo>
                      <a:pt x="390" y="6"/>
                    </a:lnTo>
                    <a:lnTo>
                      <a:pt x="444" y="2"/>
                    </a:lnTo>
                    <a:lnTo>
                      <a:pt x="498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59120" y="4883040"/>
                <a:ext cx="1729800" cy="541800"/>
              </a:xfrm>
              <a:custGeom>
                <a:avLst/>
                <a:gdLst/>
                <a:ahLst/>
                <a:rect l="l" t="t" r="r" b="b"/>
                <a:pathLst>
                  <a:path w="1110" h="321">
                    <a:moveTo>
                      <a:pt x="555" y="0"/>
                    </a:moveTo>
                    <a:lnTo>
                      <a:pt x="612" y="0"/>
                    </a:lnTo>
                    <a:lnTo>
                      <a:pt x="666" y="2"/>
                    </a:lnTo>
                    <a:lnTo>
                      <a:pt x="721" y="6"/>
                    </a:lnTo>
                    <a:lnTo>
                      <a:pt x="770" y="13"/>
                    </a:lnTo>
                    <a:lnTo>
                      <a:pt x="818" y="20"/>
                    </a:lnTo>
                    <a:lnTo>
                      <a:pt x="866" y="27"/>
                    </a:lnTo>
                    <a:lnTo>
                      <a:pt x="906" y="36"/>
                    </a:lnTo>
                    <a:lnTo>
                      <a:pt x="947" y="47"/>
                    </a:lnTo>
                    <a:lnTo>
                      <a:pt x="983" y="59"/>
                    </a:lnTo>
                    <a:lnTo>
                      <a:pt x="1015" y="70"/>
                    </a:lnTo>
                    <a:lnTo>
                      <a:pt x="1042" y="84"/>
                    </a:lnTo>
                    <a:lnTo>
                      <a:pt x="1065" y="98"/>
                    </a:lnTo>
                    <a:lnTo>
                      <a:pt x="1085" y="113"/>
                    </a:lnTo>
                    <a:lnTo>
                      <a:pt x="1099" y="127"/>
                    </a:lnTo>
                    <a:lnTo>
                      <a:pt x="1104" y="136"/>
                    </a:lnTo>
                    <a:lnTo>
                      <a:pt x="1106" y="143"/>
                    </a:lnTo>
                    <a:lnTo>
                      <a:pt x="1108" y="152"/>
                    </a:lnTo>
                    <a:lnTo>
                      <a:pt x="1110" y="161"/>
                    </a:lnTo>
                    <a:lnTo>
                      <a:pt x="1108" y="168"/>
                    </a:lnTo>
                    <a:lnTo>
                      <a:pt x="1106" y="177"/>
                    </a:lnTo>
                    <a:lnTo>
                      <a:pt x="1104" y="184"/>
                    </a:lnTo>
                    <a:lnTo>
                      <a:pt x="1099" y="193"/>
                    </a:lnTo>
                    <a:lnTo>
                      <a:pt x="1085" y="209"/>
                    </a:lnTo>
                    <a:lnTo>
                      <a:pt x="1065" y="223"/>
                    </a:lnTo>
                    <a:lnTo>
                      <a:pt x="1042" y="236"/>
                    </a:lnTo>
                    <a:lnTo>
                      <a:pt x="1015" y="250"/>
                    </a:lnTo>
                    <a:lnTo>
                      <a:pt x="983" y="264"/>
                    </a:lnTo>
                    <a:lnTo>
                      <a:pt x="947" y="275"/>
                    </a:lnTo>
                    <a:lnTo>
                      <a:pt x="906" y="284"/>
                    </a:lnTo>
                    <a:lnTo>
                      <a:pt x="866" y="293"/>
                    </a:lnTo>
                    <a:lnTo>
                      <a:pt x="818" y="303"/>
                    </a:lnTo>
                    <a:lnTo>
                      <a:pt x="770" y="309"/>
                    </a:lnTo>
                    <a:lnTo>
                      <a:pt x="721" y="314"/>
                    </a:lnTo>
                    <a:lnTo>
                      <a:pt x="666" y="319"/>
                    </a:lnTo>
                    <a:lnTo>
                      <a:pt x="612" y="321"/>
                    </a:lnTo>
                    <a:lnTo>
                      <a:pt x="555" y="321"/>
                    </a:lnTo>
                    <a:lnTo>
                      <a:pt x="498" y="321"/>
                    </a:lnTo>
                    <a:lnTo>
                      <a:pt x="444" y="319"/>
                    </a:lnTo>
                    <a:lnTo>
                      <a:pt x="390" y="314"/>
                    </a:lnTo>
                    <a:lnTo>
                      <a:pt x="340" y="309"/>
                    </a:lnTo>
                    <a:lnTo>
                      <a:pt x="290" y="303"/>
                    </a:lnTo>
                    <a:lnTo>
                      <a:pt x="245" y="293"/>
                    </a:lnTo>
                    <a:lnTo>
                      <a:pt x="202" y="284"/>
                    </a:lnTo>
                    <a:lnTo>
                      <a:pt x="163" y="275"/>
                    </a:lnTo>
                    <a:lnTo>
                      <a:pt x="127" y="264"/>
                    </a:lnTo>
                    <a:lnTo>
                      <a:pt x="95" y="250"/>
                    </a:lnTo>
                    <a:lnTo>
                      <a:pt x="68" y="236"/>
                    </a:lnTo>
                    <a:lnTo>
                      <a:pt x="43" y="223"/>
                    </a:lnTo>
                    <a:lnTo>
                      <a:pt x="25" y="209"/>
                    </a:lnTo>
                    <a:lnTo>
                      <a:pt x="11" y="193"/>
                    </a:lnTo>
                    <a:lnTo>
                      <a:pt x="7" y="184"/>
                    </a:lnTo>
                    <a:lnTo>
                      <a:pt x="2" y="177"/>
                    </a:lnTo>
                    <a:lnTo>
                      <a:pt x="0" y="168"/>
                    </a:lnTo>
                    <a:lnTo>
                      <a:pt x="0" y="161"/>
                    </a:lnTo>
                    <a:lnTo>
                      <a:pt x="0" y="152"/>
                    </a:lnTo>
                    <a:lnTo>
                      <a:pt x="2" y="143"/>
                    </a:lnTo>
                    <a:lnTo>
                      <a:pt x="7" y="136"/>
                    </a:lnTo>
                    <a:lnTo>
                      <a:pt x="11" y="127"/>
                    </a:lnTo>
                    <a:lnTo>
                      <a:pt x="25" y="113"/>
                    </a:lnTo>
                    <a:lnTo>
                      <a:pt x="43" y="98"/>
                    </a:lnTo>
                    <a:lnTo>
                      <a:pt x="68" y="84"/>
                    </a:lnTo>
                    <a:lnTo>
                      <a:pt x="95" y="70"/>
                    </a:lnTo>
                    <a:lnTo>
                      <a:pt x="127" y="59"/>
                    </a:lnTo>
                    <a:lnTo>
                      <a:pt x="163" y="47"/>
                    </a:lnTo>
                    <a:lnTo>
                      <a:pt x="202" y="36"/>
                    </a:lnTo>
                    <a:lnTo>
                      <a:pt x="245" y="27"/>
                    </a:lnTo>
                    <a:lnTo>
                      <a:pt x="290" y="20"/>
                    </a:lnTo>
                    <a:lnTo>
                      <a:pt x="340" y="13"/>
                    </a:lnTo>
                    <a:lnTo>
                      <a:pt x="390" y="6"/>
                    </a:lnTo>
                    <a:lnTo>
                      <a:pt x="444" y="2"/>
                    </a:lnTo>
                    <a:lnTo>
                      <a:pt x="498" y="0"/>
                    </a:lnTo>
                    <a:lnTo>
                      <a:pt x="55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91000" y="5320080"/>
                <a:ext cx="6120" cy="538200"/>
              </a:xfrm>
              <a:prstGeom prst="rect">
                <a:avLst/>
              </a:prstGeom>
              <a:solidFill>
                <a:srgbClr val="1f1a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55360" y="5247720"/>
                <a:ext cx="77400" cy="7704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46"/>
                    </a:moveTo>
                    <a:lnTo>
                      <a:pt x="25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2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1f1a1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174080" y="5824800"/>
                <a:ext cx="633960" cy="3240"/>
              </a:xfrm>
              <a:prstGeom prst="rect">
                <a:avLst/>
              </a:prstGeom>
              <a:solidFill>
                <a:srgbClr val="1f1a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805160" y="578556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0" y="0"/>
                    </a:moveTo>
                    <a:lnTo>
                      <a:pt x="46" y="25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55080" y="5308200"/>
                <a:ext cx="574920" cy="465480"/>
              </a:xfrm>
              <a:custGeom>
                <a:avLst/>
                <a:gdLst/>
                <a:ahLst/>
                <a:rect l="l" t="t" r="r" b="b"/>
                <a:pathLst>
                  <a:path w="369" h="276">
                    <a:moveTo>
                      <a:pt x="369" y="276"/>
                    </a:moveTo>
                    <a:lnTo>
                      <a:pt x="333" y="276"/>
                    </a:lnTo>
                    <a:lnTo>
                      <a:pt x="297" y="272"/>
                    </a:lnTo>
                    <a:lnTo>
                      <a:pt x="260" y="265"/>
                    </a:lnTo>
                    <a:lnTo>
                      <a:pt x="226" y="256"/>
                    </a:lnTo>
                    <a:lnTo>
                      <a:pt x="195" y="244"/>
                    </a:lnTo>
                    <a:lnTo>
                      <a:pt x="163" y="228"/>
                    </a:lnTo>
                    <a:lnTo>
                      <a:pt x="136" y="215"/>
                    </a:lnTo>
                    <a:lnTo>
                      <a:pt x="108" y="196"/>
                    </a:lnTo>
                    <a:lnTo>
                      <a:pt x="86" y="176"/>
                    </a:lnTo>
                    <a:lnTo>
                      <a:pt x="63" y="155"/>
                    </a:lnTo>
                    <a:lnTo>
                      <a:pt x="45" y="133"/>
                    </a:lnTo>
                    <a:lnTo>
                      <a:pt x="29" y="108"/>
                    </a:lnTo>
                    <a:lnTo>
                      <a:pt x="18" y="82"/>
                    </a:lnTo>
                    <a:lnTo>
                      <a:pt x="9" y="57"/>
                    </a:lnTo>
                    <a:lnTo>
                      <a:pt x="2" y="3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188680" y="4862880"/>
                <a:ext cx="428040" cy="480960"/>
              </a:xfrm>
              <a:custGeom>
                <a:avLst/>
                <a:gdLst/>
                <a:ahLst/>
                <a:rect l="l" t="t" r="r" b="b"/>
                <a:pathLst>
                  <a:path w="275" h="285">
                    <a:moveTo>
                      <a:pt x="206" y="0"/>
                    </a:moveTo>
                    <a:lnTo>
                      <a:pt x="206" y="71"/>
                    </a:lnTo>
                    <a:lnTo>
                      <a:pt x="0" y="71"/>
                    </a:lnTo>
                    <a:lnTo>
                      <a:pt x="0" y="214"/>
                    </a:lnTo>
                    <a:lnTo>
                      <a:pt x="206" y="214"/>
                    </a:lnTo>
                    <a:lnTo>
                      <a:pt x="206" y="285"/>
                    </a:lnTo>
                    <a:lnTo>
                      <a:pt x="275" y="142"/>
                    </a:lnTo>
                    <a:lnTo>
                      <a:pt x="2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053760" y="4888080"/>
                <a:ext cx="775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Resul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6" name=""/>
          <p:cNvSpPr/>
          <p:nvPr/>
        </p:nvSpPr>
        <p:spPr>
          <a:xfrm>
            <a:off x="838080" y="4572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hasen und Produkte im Modellbildungsproze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DA9F-4A0B-4B50-9F39-9E99F4C0ED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112760" y="1676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1600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IS - Forschungs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2514600"/>
            <a:ext cx="6477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disziplinäre M&amp;S - Fors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totypische Entwicklungen/Analy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stransfer (u.a. Wiss. Publikationen, Worksho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38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02800" y="533520"/>
            <a:ext cx="33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PEKTIVEN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7BDB-6F5F-4B14-89B5-D2F1AC20E9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533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R ITIS - UniBwM FORSCHUNGSBEREICH „M &amp; 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nd(eswe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523880"/>
            <a:ext cx="2133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209680"/>
            <a:ext cx="762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F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209680"/>
            <a:ext cx="762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MV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1523880"/>
            <a:ext cx="22860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523880"/>
            <a:ext cx="33530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362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B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2209680"/>
            <a:ext cx="83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A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209680"/>
            <a:ext cx="914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em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2209680"/>
            <a:ext cx="609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209680"/>
            <a:ext cx="533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2209680"/>
            <a:ext cx="83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U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2209680"/>
            <a:ext cx="76212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W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772400" y="2361960"/>
            <a:ext cx="150840" cy="12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09320" y="3352680"/>
            <a:ext cx="312444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3886200"/>
            <a:ext cx="2286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4343400"/>
            <a:ext cx="99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amp;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724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1295280"/>
            <a:ext cx="35812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915400" y="1295280"/>
            <a:ext cx="0" cy="42674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2952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352680"/>
            <a:ext cx="0" cy="22100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562720"/>
            <a:ext cx="670572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590920"/>
            <a:ext cx="190476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590920"/>
            <a:ext cx="76176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590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2864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580920" y="2590920"/>
            <a:ext cx="221004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33920" y="2590920"/>
            <a:ext cx="266688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038480" y="2590920"/>
            <a:ext cx="327672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038480" y="2590920"/>
            <a:ext cx="4191120" cy="19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886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41911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23623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51460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E9CC-52C4-473E-988F-27C2E3DC6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6520" y="1676520"/>
            <a:ext cx="64008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benszyklen eines M&amp;S-Prozesse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I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ethodik, .... , Benutzerberat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514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ssensbasierte M&amp;S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(I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200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e und verteilte Simulatio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I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038480"/>
            <a:ext cx="6705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ehrsanalysen in Rechner-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munikationsnetze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I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5105520"/>
            <a:ext cx="6705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 zur optimalen Steuerung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struktions- und Fertigungsprozessen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(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9144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niBwM - Kompetenzen/-Arbeiten, u. a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85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5760" y="533520"/>
            <a:ext cx="52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&amp;S FORSCHUNGSTHEMEN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6D8C-BF5B-4BD5-84B6-9675FE1E14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81080" y="1371600"/>
            <a:ext cx="6019920" cy="41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 anisotroper Werkstoffe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(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merische Simulation von Vorgängen der Bruchmechanik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(BA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ländemodelle zur Simulation von Personal- und Maschineneinsatz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(BA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lligente, multimediale Lehr-/ Lernsysteme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(SOWI / INF / BA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1720" y="457200"/>
            <a:ext cx="52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&amp;S FORSCHUNGSTHEMEN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DC52-2D55-40B3-8FE2-86D1EAC786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&amp;S - FORSCHUNGSTHEME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12760" y="1600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523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IS - Kompetenzen /- 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362320"/>
            <a:ext cx="64771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alyse von M&amp;S-Methoden,-Technik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zeug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10320" y="41148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wendungspotentiale bezgl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4038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n / Training / Planung / Synth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4956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struktive / virtuelle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10320" y="4616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C762-CCEF-420D-97FD-D2A43DCC27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3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86280" y="27306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6280" y="2133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2000" y="206856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k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ter- und Wiederverwe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sierungen (u.a. H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73680" y="323856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038480"/>
            <a:ext cx="63248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rukturierung der M&amp;S - Entwicklung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Anwe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952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wicklungs- Phasen/-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86280" y="50292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1720" y="533520"/>
            <a:ext cx="52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&amp;S FORSCHUNGSTHEMEN 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447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mponentenbasierte M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39E5-8426-4B1A-8C99-F9B7ECF169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&amp;S - FORSCHUNGSTHEMEN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905120"/>
            <a:ext cx="6477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laubwürdigkeit und Bewertung von M&amp;S-Anwend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0320" y="3276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200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ifikation und Validierung (VV&amp;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10320" y="38862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962520"/>
            <a:ext cx="57913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ierte Modell-Entwicklung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ok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D86A-A353-4693-98F0-AD5AA7C644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57400" y="1447920"/>
            <a:ext cx="64771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&amp;S unter Beachtung von Leistungs-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verlässigkeitsaspek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10320" y="2438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362320"/>
            <a:ext cx="61722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e und verteilte M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/Verbesserung besteh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/Strateg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10320" y="28954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1932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&amp;S menschlichen Verhaltens („Human Factors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724280"/>
            <a:ext cx="61722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tisch- methodische Ansät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totypische Realisi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86280" y="46483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86280" y="50292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1720" y="533520"/>
            <a:ext cx="52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&amp;S FORSCHUNGSTHEMEN 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400B-2587-4860-A222-0F8B837B00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2760" y="144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371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ssenschaftliches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981080"/>
            <a:ext cx="822960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rojekt-Leiter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r. U. Domp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rof. Dr.  D. Könke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rof. Dr.  A. Lehmannn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rof. Dr. K.P. Michels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ss. Mitarbeiter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ag.rer.nat.       C. Berchtold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ipl. Math.  Th. Krieger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ipl.-Inform.     D. Brad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Dr.rer.nat.     J. Lüthi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ipl.-Päd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  G. Herrman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r. rer. nat    J. Q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r. rer. nat.        M. Hofmann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Dipl.-Ing.      E. Pfeiffer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ipl.-Inform.     A. Kö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ahl extern geförderter Projekte: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a. 8 Drittmittelprojek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*) seitens UniBw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97E5-3B8A-459D-B14F-AB59436ABA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0:11:29Z</dcterms:created>
  <dc:creator>Zeichenbüro</dc:creator>
  <dc:description/>
  <dc:language>en-US</dc:language>
  <cp:lastModifiedBy>Inf4</cp:lastModifiedBy>
  <cp:lastPrinted>2000-07-10T06:30:59Z</cp:lastPrinted>
  <dcterms:modified xsi:type="dcterms:W3CDTF">2000-07-10T08:05:16Z</dcterms:modified>
  <cp:revision>22</cp:revision>
  <dc:subject/>
  <dc:title>Kein Folientitel</dc:title>
</cp:coreProperties>
</file>