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gif" ContentType="image/gi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3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0792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467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4"/>
          </p:nvPr>
        </p:nvSpPr>
        <p:spPr>
          <a:xfrm>
            <a:off x="-360" y="9374040"/>
            <a:ext cx="29242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5"/>
          </p:nvPr>
        </p:nvSpPr>
        <p:spPr>
          <a:xfrm>
            <a:off x="3822840" y="9374040"/>
            <a:ext cx="29239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466F-7D81-45A9-88CD-E8B57935D05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4676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Vorgehen ist das der angewandten Forschung und des Rapid Prototyp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undlagen bewerten bzw. entwickel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spielhaft die Anwendungsmöglichkeiten zei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n internationalen Forschungsverbund nutzen und verstär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 Balanceakt zwischen dem militärisch Notwendigen und dem wissenschaftlich Möglic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ine Kompromisse bei der wissenschaftlichen Seriositä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4676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 Black Box - Modell menschlichen Verhaltens wird abgelöst von einem Prozeßmodell der Handlungs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undlagen der Handlungsregulation : äußere Einflüsse (Situation)  und innere Einflüsse (Merkmale der Pers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CAC9-A992-4F91-8F6D-325F3690A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EEBD-3BE9-49D3-84D2-4A4F3A09D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EEBE-D13D-4A4A-860D-59D0FAD0D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5BEE-86DD-4B03-8774-4E8E7976E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CA6-E90D-4A90-8907-944BE23A6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162D-0938-40A6-92B4-B9748A870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5D1D-9B09-46DE-AE8E-660CCA0A9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D89D-9BC3-48C0-85B0-C520A7453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E91A-F02E-4F51-8F05-AA0ED9FB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39CC-644E-4EEA-AC9D-10112D244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36B3-7F76-41AA-B37C-D56465548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9C15-70D4-47B0-BCC3-A57D58B20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5527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4FE6A8C-7C60-44FA-87F7-6179E5ECFD76}" type="slidenum">
              <a:rPr b="1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0958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man Behaviou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35000" y="685800"/>
            <a:ext cx="9009000" cy="1052640"/>
            <a:chOff x="135000" y="685800"/>
            <a:chExt cx="9009000" cy="1052640"/>
          </a:xfrm>
        </p:grpSpPr>
        <p:grpSp>
          <p:nvGrpSpPr>
            <p:cNvPr id="9" name=""/>
            <p:cNvGrpSpPr/>
            <p:nvPr/>
          </p:nvGrpSpPr>
          <p:grpSpPr>
            <a:xfrm>
              <a:off x="425520" y="793800"/>
              <a:ext cx="711360" cy="474840"/>
              <a:chOff x="425520" y="793800"/>
              <a:chExt cx="711360" cy="474840"/>
            </a:xfrm>
          </p:grpSpPr>
          <p:sp>
            <p:nvSpPr>
              <p:cNvPr id="10" name=""/>
              <p:cNvSpPr/>
              <p:nvPr/>
            </p:nvSpPr>
            <p:spPr>
              <a:xfrm>
                <a:off x="425520" y="7938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08560" y="793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549360" y="1216080"/>
              <a:ext cx="737640" cy="474840"/>
              <a:chOff x="549360" y="1216080"/>
              <a:chExt cx="737640" cy="474840"/>
            </a:xfrm>
          </p:grpSpPr>
          <p:sp>
            <p:nvSpPr>
              <p:cNvPr id="13" name=""/>
              <p:cNvSpPr/>
              <p:nvPr/>
            </p:nvSpPr>
            <p:spPr>
              <a:xfrm>
                <a:off x="549360" y="12160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8000" y="1216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135000" y="1143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0040" y="6858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451080" y="1508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3922920" y="62596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we Domp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361944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5000" y="1371600"/>
            <a:ext cx="9009000" cy="1052640"/>
            <a:chOff x="135000" y="1371600"/>
            <a:chExt cx="9009000" cy="1052640"/>
          </a:xfrm>
        </p:grpSpPr>
        <p:grpSp>
          <p:nvGrpSpPr>
            <p:cNvPr id="62" name=""/>
            <p:cNvGrpSpPr/>
            <p:nvPr/>
          </p:nvGrpSpPr>
          <p:grpSpPr>
            <a:xfrm>
              <a:off x="425520" y="1479600"/>
              <a:ext cx="711360" cy="474840"/>
              <a:chOff x="425520" y="1479600"/>
              <a:chExt cx="711360" cy="474840"/>
            </a:xfrm>
          </p:grpSpPr>
          <p:sp>
            <p:nvSpPr>
              <p:cNvPr id="63" name=""/>
              <p:cNvSpPr/>
              <p:nvPr/>
            </p:nvSpPr>
            <p:spPr>
              <a:xfrm>
                <a:off x="425520" y="14796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8560" y="1479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9360" y="1901880"/>
              <a:ext cx="737640" cy="474840"/>
              <a:chOff x="549360" y="1901880"/>
              <a:chExt cx="737640" cy="474840"/>
            </a:xfrm>
          </p:grpSpPr>
          <p:sp>
            <p:nvSpPr>
              <p:cNvPr id="66" name=""/>
              <p:cNvSpPr/>
              <p:nvPr/>
            </p:nvSpPr>
            <p:spPr>
              <a:xfrm>
                <a:off x="549360" y="19018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8000" y="1901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35000" y="1828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040" y="13716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51080" y="2193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orkshop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„Perspektiven der 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dellbildung und Simulation“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haviour Representa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HB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6920" y="484020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we Domp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1.07.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Derzeitige Aktivität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ular Semi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mated For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odSAF) auf unterer Führungseb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and For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and Agent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ben auf mittlerer Ebene begonn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utzung von Intelligent Agents beginn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udie „Hum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“ im Team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ABG (Federführung), ITIS, Uni Duisburg,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iBw Hambu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7443-FF0F-4DA1-8C10-EE034CF3D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Studie „Human Factors“ IABG/ITIS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angemessenen theoretischen Grundlagen ermitteln und bewer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emplarisch zeigen, dass die Simulation mit den wissenschaftlichen Ergebnissen den neuen Anforderungen gerecht werden ka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internationale Zusammenarbeit verstär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it dem Demonstrator zeigen, dass der eingeschlagene Weg richtig 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400800" y="4648320"/>
            <a:ext cx="2286000" cy="12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990B-6D34-49DF-BEFE-B343B33B09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01988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 des Demonstrators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prüfung der erarbeiteten Ansätze und Modell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totyp für Drehbuchgesteuerten Ablauf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genständige Simulation der Human Behaviour Representation mit Schnittstellen nach auß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st und Evaluation über graphische Oberflä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demonstrator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394240" cy="846000"/>
          </a:xfrm>
          <a:prstGeom prst="rect">
            <a:avLst/>
          </a:prstGeom>
          <a:ln w="0">
            <a:noFill/>
          </a:ln>
        </p:spPr>
      </p:pic>
      <p:pic>
        <p:nvPicPr>
          <p:cNvPr id="214" name="j0172629" descr=""/>
          <p:cNvPicPr/>
          <p:nvPr/>
        </p:nvPicPr>
        <p:blipFill>
          <a:blip r:embed="rId2"/>
          <a:stretch/>
        </p:blipFill>
        <p:spPr>
          <a:xfrm>
            <a:off x="7543800" y="1676520"/>
            <a:ext cx="96048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FACA-D795-4C5D-8166-77AA16509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ie soll es weiter gehen?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atische Bedarfsanaly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besserung der bislang erarbeiteten Mod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llung von bzw. Beteiligung a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ationalen Testbed Akt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nnung von Daten für die Mod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ntwicklung der Abbildung von Organisa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stematisches VVA-Konzept für HB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ationale Zusammenarbeit stärk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Virtual La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6E3B-5743-4B42-AE85-7B4225B6F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ielen Dank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ür Ihre Aufmerksamkeit!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gen werde ich gerne beantworten,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nn sie nicht zu schwer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ür mich sin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j0134549" descr=""/>
          <p:cNvPicPr/>
          <p:nvPr/>
        </p:nvPicPr>
        <p:blipFill>
          <a:blip r:embed="rId1"/>
          <a:stretch/>
        </p:blipFill>
        <p:spPr>
          <a:xfrm>
            <a:off x="7162920" y="3581280"/>
            <a:ext cx="114588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j013634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72548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0A36-22D4-43F4-9DE2-B3A1232F87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Übersich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 ist HBR?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ist HBR so wichtig?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o stehen wir heute?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 sind die Perspektiv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121F-B900-49C3-92FE-08D2F5685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as ist HBR?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of the processes and effects of human behavio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National Research Council Stud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BR ist die parametrisierte Abbildung des zielorientierten bewußten Verhaltens von Personen in bestimmten Situation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aus der Studie „Hum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“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NATO LTSS on HB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bildung unbewußten Verhaltens bislang ausgeklamm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C6AF-5163-4562-A9FA-836516351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delltheoretische Rahmenbedingung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94200" y="3352680"/>
            <a:ext cx="6631200" cy="2193840"/>
            <a:chOff x="1294200" y="3352680"/>
            <a:chExt cx="6631200" cy="2193840"/>
          </a:xfrm>
        </p:grpSpPr>
        <p:sp>
          <p:nvSpPr>
            <p:cNvPr id="124" name=""/>
            <p:cNvSpPr/>
            <p:nvPr/>
          </p:nvSpPr>
          <p:spPr>
            <a:xfrm>
              <a:off x="3124080" y="4098600"/>
              <a:ext cx="2819520" cy="144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352600" y="4460760"/>
              <a:ext cx="495360" cy="176040"/>
              <a:chOff x="2352600" y="4460760"/>
              <a:chExt cx="495360" cy="176040"/>
            </a:xfrm>
          </p:grpSpPr>
          <p:sp>
            <p:nvSpPr>
              <p:cNvPr id="126" name=""/>
              <p:cNvSpPr/>
              <p:nvPr/>
            </p:nvSpPr>
            <p:spPr>
              <a:xfrm>
                <a:off x="2352600" y="4555800"/>
                <a:ext cx="3920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78040" y="4460760"/>
                <a:ext cx="169920" cy="17604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182" y="90"/>
                    </a:lnTo>
                    <a:lnTo>
                      <a:pt x="0" y="180"/>
                    </a:lnTo>
                    <a:lnTo>
                      <a:pt x="6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352160" y="4403520"/>
              <a:ext cx="91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ufga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4200" y="4966920"/>
              <a:ext cx="98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7920" y="5133600"/>
              <a:ext cx="392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960" y="457164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12640" y="501300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rientier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2960" y="5287680"/>
              <a:ext cx="148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ndlungs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49280" y="4724280"/>
              <a:ext cx="91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führ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13960" y="4098600"/>
              <a:ext cx="211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ückmeldungsverabei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4787640"/>
              <a:ext cx="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7160" y="4986000"/>
              <a:ext cx="74520" cy="748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68" y="136"/>
                  </a:lnTo>
                  <a:lnTo>
                    <a:pt x="0" y="0"/>
                  </a:lnTo>
                  <a:lnTo>
                    <a:pt x="68" y="4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05320" y="524160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95760" y="5338440"/>
              <a:ext cx="81000" cy="8424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72" y="0"/>
                  </a:moveTo>
                  <a:lnTo>
                    <a:pt x="151" y="130"/>
                  </a:lnTo>
                  <a:lnTo>
                    <a:pt x="0" y="114"/>
                  </a:lnTo>
                  <a:lnTo>
                    <a:pt x="75" y="8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520" y="4959000"/>
              <a:ext cx="439560" cy="339840"/>
            </a:xfrm>
            <a:custGeom>
              <a:avLst/>
              <a:gdLst/>
              <a:ahLst/>
              <a:rect l="l" t="t" r="r" b="b"/>
              <a:pathLst>
                <a:path w="277" h="214">
                  <a:moveTo>
                    <a:pt x="0" y="214"/>
                  </a:moveTo>
                  <a:lnTo>
                    <a:pt x="277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4960" y="4924080"/>
              <a:ext cx="106200" cy="77760"/>
            </a:xfrm>
            <a:custGeom>
              <a:avLst/>
              <a:gdLst/>
              <a:ahLst/>
              <a:rect l="l" t="t" r="r" b="b"/>
              <a:pathLst>
                <a:path w="138" h="148">
                  <a:moveTo>
                    <a:pt x="0" y="64"/>
                  </a:moveTo>
                  <a:lnTo>
                    <a:pt x="138" y="0"/>
                  </a:lnTo>
                  <a:lnTo>
                    <a:pt x="107" y="148"/>
                  </a:lnTo>
                  <a:lnTo>
                    <a:pt x="82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229360" y="4403160"/>
              <a:ext cx="333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716640" y="4379760"/>
              <a:ext cx="54072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000000">
              <a:off x="3657600" y="4474440"/>
              <a:ext cx="101520" cy="84240"/>
            </a:xfrm>
            <a:custGeom>
              <a:avLst/>
              <a:gdLst/>
              <a:ahLst/>
              <a:rect l="l" t="t" r="r" b="b"/>
              <a:pathLst>
                <a:path w="146" h="133">
                  <a:moveTo>
                    <a:pt x="146" y="133"/>
                  </a:moveTo>
                  <a:lnTo>
                    <a:pt x="0" y="89"/>
                  </a:lnTo>
                  <a:lnTo>
                    <a:pt x="123" y="0"/>
                  </a:lnTo>
                  <a:lnTo>
                    <a:pt x="90" y="73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2320" y="3352680"/>
              <a:ext cx="369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Verhaltensprozess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4840" y="3717720"/>
              <a:ext cx="139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rsonmerkma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57480" y="3728880"/>
              <a:ext cx="128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eammerkmale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9520" y="4979880"/>
              <a:ext cx="398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6200" y="4662360"/>
              <a:ext cx="97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7960" y="4673520"/>
              <a:ext cx="398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3540000">
              <a:off x="5164920" y="4348800"/>
              <a:ext cx="101520" cy="84240"/>
            </a:xfrm>
            <a:custGeom>
              <a:avLst/>
              <a:gdLst/>
              <a:ahLst/>
              <a:rect l="l" t="t" r="r" b="b"/>
              <a:pathLst>
                <a:path w="146" h="133">
                  <a:moveTo>
                    <a:pt x="146" y="133"/>
                  </a:moveTo>
                  <a:lnTo>
                    <a:pt x="0" y="89"/>
                  </a:lnTo>
                  <a:lnTo>
                    <a:pt x="123" y="0"/>
                  </a:lnTo>
                  <a:lnTo>
                    <a:pt x="90" y="73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6600" y="5045040"/>
              <a:ext cx="169920" cy="17604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0"/>
                  </a:moveTo>
                  <a:lnTo>
                    <a:pt x="182" y="90"/>
                  </a:lnTo>
                  <a:lnTo>
                    <a:pt x="0" y="180"/>
                  </a:lnTo>
                  <a:lnTo>
                    <a:pt x="6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6240240" y="4570200"/>
              <a:ext cx="169560" cy="17640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0"/>
                  </a:moveTo>
                  <a:lnTo>
                    <a:pt x="182" y="90"/>
                  </a:lnTo>
                  <a:lnTo>
                    <a:pt x="0" y="180"/>
                  </a:lnTo>
                  <a:lnTo>
                    <a:pt x="6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02400" y="4889160"/>
              <a:ext cx="169920" cy="17640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0"/>
                  </a:moveTo>
                  <a:lnTo>
                    <a:pt x="182" y="90"/>
                  </a:lnTo>
                  <a:lnTo>
                    <a:pt x="0" y="180"/>
                  </a:lnTo>
                  <a:lnTo>
                    <a:pt x="6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9040" y="3882960"/>
              <a:ext cx="123480" cy="176040"/>
              <a:chOff x="4199040" y="3882960"/>
              <a:chExt cx="123480" cy="17604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4266720" y="3887640"/>
                <a:ext cx="1800" cy="125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9040" y="3882960"/>
                <a:ext cx="74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4223880" y="3960360"/>
                <a:ext cx="84240" cy="11268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182" y="90"/>
                    </a:lnTo>
                    <a:lnTo>
                      <a:pt x="0" y="180"/>
                    </a:lnTo>
                    <a:lnTo>
                      <a:pt x="6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4773600" y="3884400"/>
              <a:ext cx="1440" cy="125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62440" y="387972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4730400" y="3957480"/>
              <a:ext cx="83880" cy="112680"/>
            </a:xfrm>
            <a:custGeom>
              <a:avLst/>
              <a:gdLst/>
              <a:ahLst/>
              <a:rect l="l" t="t" r="r" b="b"/>
              <a:pathLst>
                <a:path w="182" h="180">
                  <a:moveTo>
                    <a:pt x="0" y="0"/>
                  </a:moveTo>
                  <a:lnTo>
                    <a:pt x="182" y="90"/>
                  </a:lnTo>
                  <a:lnTo>
                    <a:pt x="0" y="180"/>
                  </a:lnTo>
                  <a:lnTo>
                    <a:pt x="6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326320" y="1600200"/>
            <a:ext cx="4372200" cy="1333440"/>
            <a:chOff x="2326320" y="1600200"/>
            <a:chExt cx="4372200" cy="1333440"/>
          </a:xfrm>
        </p:grpSpPr>
        <p:sp>
          <p:nvSpPr>
            <p:cNvPr id="163" name=""/>
            <p:cNvSpPr/>
            <p:nvPr/>
          </p:nvSpPr>
          <p:spPr>
            <a:xfrm>
              <a:off x="2971800" y="1600200"/>
              <a:ext cx="30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erformanz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9800" y="228132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6320" y="259704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t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640" y="2470320"/>
              <a:ext cx="70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rgebn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33920" y="2209680"/>
              <a:ext cx="1595160" cy="72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124080" y="2305080"/>
              <a:ext cx="495360" cy="176040"/>
              <a:chOff x="3124080" y="2305080"/>
              <a:chExt cx="495360" cy="176040"/>
            </a:xfrm>
          </p:grpSpPr>
          <p:sp>
            <p:nvSpPr>
              <p:cNvPr id="169" name=""/>
              <p:cNvSpPr/>
              <p:nvPr/>
            </p:nvSpPr>
            <p:spPr>
              <a:xfrm>
                <a:off x="3124080" y="2400120"/>
                <a:ext cx="3920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49520" y="2305080"/>
                <a:ext cx="169920" cy="17604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182" y="90"/>
                    </a:lnTo>
                    <a:lnTo>
                      <a:pt x="0" y="180"/>
                    </a:lnTo>
                    <a:lnTo>
                      <a:pt x="6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124080" y="2614680"/>
              <a:ext cx="495360" cy="176040"/>
              <a:chOff x="3124080" y="2614680"/>
              <a:chExt cx="495360" cy="176040"/>
            </a:xfrm>
          </p:grpSpPr>
          <p:sp>
            <p:nvSpPr>
              <p:cNvPr id="172" name=""/>
              <p:cNvSpPr/>
              <p:nvPr/>
            </p:nvSpPr>
            <p:spPr>
              <a:xfrm>
                <a:off x="3124080" y="2709720"/>
                <a:ext cx="3920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49520" y="2614680"/>
                <a:ext cx="169920" cy="17604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182" y="90"/>
                    </a:lnTo>
                    <a:lnTo>
                      <a:pt x="0" y="180"/>
                    </a:lnTo>
                    <a:lnTo>
                      <a:pt x="6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448240" y="2495520"/>
              <a:ext cx="495360" cy="176040"/>
              <a:chOff x="5448240" y="2495520"/>
              <a:chExt cx="495360" cy="176040"/>
            </a:xfrm>
          </p:grpSpPr>
          <p:sp>
            <p:nvSpPr>
              <p:cNvPr id="175" name=""/>
              <p:cNvSpPr/>
              <p:nvPr/>
            </p:nvSpPr>
            <p:spPr>
              <a:xfrm>
                <a:off x="5448240" y="2590560"/>
                <a:ext cx="3920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73680" y="2495520"/>
                <a:ext cx="169920" cy="17604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182" y="90"/>
                    </a:lnTo>
                    <a:lnTo>
                      <a:pt x="0" y="180"/>
                    </a:lnTo>
                    <a:lnTo>
                      <a:pt x="6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1351080" y="5715000"/>
            <a:ext cx="710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ntnommen aus Studie „Human Factors“ – IABG, ITIS, Uni Duisburg, UniBw Hambur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4540-5198-4F38-AD5C-970ACA4F9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Einbettung in Simulationssystem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915080"/>
            <a:ext cx="190476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48240" y="2438280"/>
            <a:ext cx="2552760" cy="1905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74800" y="3929040"/>
            <a:ext cx="1528920" cy="1831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45120" y="2557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2-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15000" y="3009960"/>
          <a:ext cx="2057400" cy="12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009960"/>
                    <a:ext cx="205740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5" name=""/>
          <p:cNvCxnSpPr>
            <a:stCxn id="181" idx="0"/>
            <a:endCxn id="180" idx="1"/>
          </p:cNvCxnSpPr>
          <p:nvPr/>
        </p:nvCxnSpPr>
        <p:spPr>
          <a:xfrm flipH="1" flipV="1" rot="5400000">
            <a:off x="3724920" y="2205360"/>
            <a:ext cx="538920" cy="290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4520880" y="293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39440" y="29383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eh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39480" y="49957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75000" y="3014640"/>
            <a:ext cx="106668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5320" y="30909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R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267080"/>
            <a:ext cx="709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4267080"/>
            <a:ext cx="1904760" cy="648000"/>
          </a:xfrm>
          <a:custGeom>
            <a:avLst/>
            <a:gdLst/>
            <a:ahLst/>
            <a:rect l="l" t="t" r="r" b="b"/>
            <a:pathLst>
              <a:path w="1056" h="816">
                <a:moveTo>
                  <a:pt x="0" y="816"/>
                </a:moveTo>
                <a:lnTo>
                  <a:pt x="384" y="0"/>
                </a:lnTo>
                <a:lnTo>
                  <a:pt x="672" y="0"/>
                </a:lnTo>
                <a:lnTo>
                  <a:pt x="1056" y="816"/>
                </a:lnTo>
                <a:lnTo>
                  <a:pt x="0" y="816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0840" y="1600200"/>
            <a:ext cx="624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ularer Aufbau des Simulations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BR in C2 Modul integr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43F7-762B-4244-8A67-782E5C3BA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arum ist HBR so wichtig?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Änderung der Einsatzszenarien der militärischen Kräf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risis Response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elle Krisenregionen, ihr Einfluß auf die Sicherheit der Allianz und der Na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ace Support Operations (P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Security Interests (OS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sentliches Element solcher Szenarien ist das menschliche Verhal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E591-F84B-44FC-94EE-A96BC568F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Informationsoperation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formationsoperationen werden in zukünftigen Konflikten eine große Rolle spie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ür ihre Abbildung wird HBR benötig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es umfaßt Individuen, Teams, Gruppen und Organis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C393-D65D-41AF-B60A-8A7EEB78C9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ispiele aus zivilen Anwendung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ulung des Managements unter Nutzung von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bbildung von Produktionsanlagen unter Einbeziehung des Bedienperson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uchungen im Bereich Marketing und Vertri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ulung und Ausbi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CA41-8E38-4DED-9AC4-30D48E943E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o stehen wir heute?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siert auf geometrischen Betrachtungen, physikalischen Effekten und einer nahezu perfekten Wahrnehm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gel-basierte Systeme stehen im Vordergr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ur eine „durchschnittliche Verhaltensweise“ läßt sich abbilden, Variationen hierzu oder sogar stochastische Ansätze feh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ktives Verhalten, kein Setzen von Zi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05120"/>
            <a:ext cx="5638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400800" y="1905120"/>
          <a:ext cx="246060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905120"/>
                    <a:ext cx="24606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402240" y="4495680"/>
            <a:ext cx="249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urrent Huma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s Deaf, Mute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not Smell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MSO Assess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B3C9-E338-4DD9-BE21-F59180414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0-05-09T17:28:50Z</cp:lastPrinted>
  <dcterms:modified xsi:type="dcterms:W3CDTF">2000-07-10T08:09:44Z</dcterms:modified>
  <cp:revision>49</cp:revision>
  <dc:subject/>
  <dc:title>Kein Folientitel</dc:title>
</cp:coreProperties>
</file>