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58C7-979F-4EAF-92B8-94126F21A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B4A0-81DD-4D56-9090-9B4C3DDF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D8C7-305E-46D3-ACF8-F009FAF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9C5E-9C12-4334-8683-7D2536C61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EB99-17F9-4E25-8EFA-C7AF8DB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DDDC-882A-4993-9904-C187B21D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FDC3-F2B7-45B7-B5A4-A3532166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8ADA-ADD1-493D-A56B-D5655FD8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358B-1F08-410C-8E05-6CD28491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C892-FE65-4A0D-A2A6-EE0B514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BBC1-287F-496F-992B-462FA8CB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E247-8AAC-4A51-99EF-8389FE54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0B0-5E58-4DF1-88F5-3CFE93023E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.07.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438280" y="609588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räsentation unzulängliche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Modellbildung und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5000" y="685800"/>
            <a:ext cx="9009000" cy="1052640"/>
            <a:chOff x="135000" y="685800"/>
            <a:chExt cx="9009000" cy="1052640"/>
          </a:xfrm>
        </p:grpSpPr>
        <p:grpSp>
          <p:nvGrpSpPr>
            <p:cNvPr id="10" name=""/>
            <p:cNvGrpSpPr/>
            <p:nvPr/>
          </p:nvGrpSpPr>
          <p:grpSpPr>
            <a:xfrm>
              <a:off x="425520" y="793800"/>
              <a:ext cx="711360" cy="474840"/>
              <a:chOff x="425520" y="793800"/>
              <a:chExt cx="711360" cy="474840"/>
            </a:xfrm>
          </p:grpSpPr>
          <p:sp>
            <p:nvSpPr>
              <p:cNvPr id="11" name=""/>
              <p:cNvSpPr/>
              <p:nvPr/>
            </p:nvSpPr>
            <p:spPr>
              <a:xfrm>
                <a:off x="425520" y="7938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08560" y="793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49360" y="1216080"/>
              <a:ext cx="737640" cy="474840"/>
              <a:chOff x="549360" y="1216080"/>
              <a:chExt cx="737640" cy="474840"/>
            </a:xfrm>
          </p:grpSpPr>
          <p:sp>
            <p:nvSpPr>
              <p:cNvPr id="14" name=""/>
              <p:cNvSpPr/>
              <p:nvPr/>
            </p:nvSpPr>
            <p:spPr>
              <a:xfrm>
                <a:off x="549360" y="12160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18000" y="1216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135000" y="1143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0040" y="6858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451080" y="1508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3581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.07.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5000" y="1371600"/>
            <a:ext cx="9009000" cy="1052640"/>
            <a:chOff x="135000" y="1371600"/>
            <a:chExt cx="9009000" cy="1052640"/>
          </a:xfrm>
        </p:grpSpPr>
        <p:grpSp>
          <p:nvGrpSpPr>
            <p:cNvPr id="62" name=""/>
            <p:cNvGrpSpPr/>
            <p:nvPr/>
          </p:nvGrpSpPr>
          <p:grpSpPr>
            <a:xfrm>
              <a:off x="425520" y="1479600"/>
              <a:ext cx="711360" cy="474840"/>
              <a:chOff x="425520" y="1479600"/>
              <a:chExt cx="711360" cy="474840"/>
            </a:xfrm>
          </p:grpSpPr>
          <p:sp>
            <p:nvSpPr>
              <p:cNvPr id="63" name=""/>
              <p:cNvSpPr/>
              <p:nvPr/>
            </p:nvSpPr>
            <p:spPr>
              <a:xfrm>
                <a:off x="425520" y="14796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8560" y="1479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9360" y="1901880"/>
              <a:ext cx="737640" cy="474840"/>
              <a:chOff x="549360" y="1901880"/>
              <a:chExt cx="737640" cy="474840"/>
            </a:xfrm>
          </p:grpSpPr>
          <p:sp>
            <p:nvSpPr>
              <p:cNvPr id="66" name=""/>
              <p:cNvSpPr/>
              <p:nvPr/>
            </p:nvSpPr>
            <p:spPr>
              <a:xfrm>
                <a:off x="549360" y="19018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8000" y="1901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35000" y="1828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040" y="13716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51080" y="2193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326400" y="243684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reas Kö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IS e.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orkshop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„Perspektiven der 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dellbildung und Simulation“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240" y="281916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präsentation unzulänglicher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 der Modellbild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98AC9A-E526-4A02-9ADD-9798894E41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ethodische Ansätz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zur Erkennung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eststellung des Vorliegens und der Art unzulänglicher Information in der jeweiligen Modellbild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tuationsfest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gnoseverfahren (regel-/fallbasi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zur Arbeit unter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Ausführung von Schlußfolgerungsmechanismen auch bei fehlender oder mangelhaft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ault-Log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7A70-92AD-44D8-8B75-31031A7D82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DA530F-4E76-42F4-810C-5162DA8E2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ethodische Ansätz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zur Verarbeitung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Unzulängliche Information als Eingabe der 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istische 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zur Verbesserung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Maß der Unzulänglichkeit verringern, unzulängliche in „scharfe“ Information umwand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rbeh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9F98-3C3F-4A74-AFF7-7B57E6C14FC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B0322D1-1556-404A-AF61-9EC930BAAF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wertung der Method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bewertet man die Leistungsfähigkeit der Methoden? Ähnliche Fragestellung wie die Bewertung von VV&amp;A-Methoden: Vergleich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ihren Ergebnissen sollt ihr sie erkennen: Vergleichbarkeit der Leistungsfähigkeit von Modellen und Simulationssystemen, die mit verschiedenen Verfahren realisiert wurden, im konkrete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ammenspiel mit dem VV&amp;A-Prozeß: VV&amp;A beeinflußt Informationsqualität und umgeke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D6C1-D449-4B0C-B4D5-4704D1D859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FDC2FE-1B54-41FC-916D-63C8A66C6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Zielvorstellung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von einer Untersuchung dieser Fragestellungen zu erwar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, wo unzulängliche Information im Modellbildungsprozeß vorhanden ist bzw. entste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zieren der Unzulän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zeigen von Methoden, unzulängliche Information zu beseitigen bzw. in die Modellierung zu integr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ternative Methoden vergleichen und be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teri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s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 von Verifikation und 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kraft der Simulationserge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AD23-5947-4077-9DB5-05C225054E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9D1C7E-3038-4A50-B1C9-9A815189C0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rtesch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zenario: Großes deutsches Dienstleistungsunternehmen plant Umstellung von Einzelwarteschlangen auf Zentralwarteschlange und möchte die Auswirkungen der Umstellung vorher simul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setzung: Optimierung der Kundenabfertigung; Vermeidung zu langer Schlangen und Kundenabwand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n_line1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667240" cy="190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57800" y="4495680"/>
            <a:ext cx="2438280" cy="1067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648320"/>
            <a:ext cx="23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Unschar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19F7-9162-4D67-860E-54702E73EF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F46262E-D6A1-4843-8027-A1441A5EE6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untersu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icklung der Länge der Warteschlange über den Verlauf eines 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n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Warteschlange pro Sch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warteschl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ägliche Kundenverteilung exakt bekannt (d.h. statistische Verteil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ägliche Kundenverteilung geschätzt (d.h. vage Param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nahmen über Geduldsfaden der Kunden: Zeit, Schlangenlä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181480"/>
            <a:ext cx="4038480" cy="5335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trukturierte Problembeschrei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D3B7-8307-4551-8416-9FBF535076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F58949-967C-4F4B-95C9-BA5C8CC54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ten über die zu simulierend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Scha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% der Zeit nur 2 Schalter be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% der Zeit nur 1 Schalter be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nungszeiten: 8.00 bis 18.00 U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chnittliche Bedienungszeit: 2 Min/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LERK00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514600" cy="17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24080" y="4724280"/>
            <a:ext cx="236232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360" y="48769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ystem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9339-DA86-4696-B55A-702AE33BD2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00CE55C-877F-45B8-A8EB-151B7E0B94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verhal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.45 bis 11.00: 1 Kunde/2 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.00 bis 17.00: 1 Kunde/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.00 bis 18.00: 1 Kunde/30 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 Kunden warten vor der Tür bis zur Öff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üren werden um 18.00 geschlossen, alle in der Filiale befindlichen Kunden werden bed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wandern von Kunden: „Wenn die Schlange bis zur Tür reicht“ oder: Wahrscheinlichkeiten 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 bei Kundenzahl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0,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5/5), wenn 6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1,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wanderungsverhalten ggf. zeitabhängig (17.45-18.00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1828800"/>
            <a:ext cx="236232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520" y="19810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ystem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8BE-0451-4C79-AA6F-ED6D4E2CA9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951226-3ED9-43D8-8572-0089A94B7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unikatives Konzept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ale/schematische Beschreib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s Bedienungsvorga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kizze des Tagesablau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smeth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krete, ereignisgesteuer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 von Wartesch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 der stochastis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zesse, sofern bekan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16002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Model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ormalis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READ02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438640" cy="17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0946-AE11-443A-976A-8B394A32DB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292F991-48BF-4D6D-94B9-28FD2D14C4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Simulationsdiagramm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286000"/>
            <a:ext cx="609480" cy="485640"/>
          </a:xfrm>
          <a:custGeom>
            <a:avLst/>
            <a:gdLst>
              <a:gd name="textAreaLeft" fmla="*/ 0 w 609480"/>
              <a:gd name="textAreaRight" fmla="*/ 609840 w 6094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286000"/>
            <a:ext cx="762120" cy="533520"/>
          </a:xfrm>
          <a:prstGeom prst="flowChartMultidocumen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28600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286000"/>
            <a:ext cx="762120" cy="533520"/>
          </a:xfrm>
          <a:prstGeom prst="flowChartMultidocumen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28600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1981080"/>
            <a:ext cx="304920" cy="30492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362320"/>
            <a:ext cx="304920" cy="30456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2743200"/>
            <a:ext cx="304920" cy="30492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057400"/>
            <a:ext cx="1066680" cy="914400"/>
          </a:xfrm>
          <a:prstGeom prst="bracePair">
            <a:avLst>
              <a:gd name="adj" fmla="val 833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514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29400" y="2361600"/>
            <a:ext cx="609480" cy="5331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848000" y="2286000"/>
            <a:ext cx="609480" cy="48564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2514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52680" y="17521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175248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1752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3657600"/>
            <a:ext cx="114300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alt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m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200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2819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28954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24816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114300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ene Tü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819520" y="2819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9000" y="181296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dienungsverl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286000"/>
            <a:ext cx="609480" cy="485640"/>
          </a:xfrm>
          <a:custGeom>
            <a:avLst/>
            <a:gdLst>
              <a:gd name="textAreaLeft" fmla="*/ 0 w 609480"/>
              <a:gd name="textAreaRight" fmla="*/ 609840 w 6094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800" y="44956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gesverl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1120" y="2754360"/>
            <a:ext cx="134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unde erre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l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5960" y="28306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ü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64720" y="275436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l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89320" y="305928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280" y="1763640"/>
            <a:ext cx="83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le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2720" y="1828800"/>
            <a:ext cx="83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a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56920" y="2830680"/>
            <a:ext cx="69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1000" y="152388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 lange Schl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304560" cy="304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0292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257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28800" y="4191120"/>
            <a:ext cx="380880" cy="83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0000" y="449568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zeug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50292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895480" y="4191120"/>
            <a:ext cx="2210040" cy="83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5105520"/>
            <a:ext cx="304560" cy="304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105520"/>
            <a:ext cx="304920" cy="304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5105520"/>
            <a:ext cx="304920" cy="3045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5257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57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95880" y="51055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010280" y="51055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579132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1440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2520" y="48340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ühe Ku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4191120"/>
            <a:ext cx="304812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41911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7040" y="449568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zeug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94600" y="46054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rstör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760" y="4419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rstöre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4240" y="54100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Öff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3480" y="54100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nstbegi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1040" y="54100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schäftspha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0600" y="54100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ließ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97200" y="53672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ierab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680" y="380988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ssour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3581280"/>
            <a:ext cx="1600200" cy="83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Modell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ormalis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D82F-B8F0-40B5-A7BA-275A6480D72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675F63B-CCD7-40D2-BE6E-150113FA98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Unzulängliche Information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m Modellbildungsprozeß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Übersi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verarbeitung im Modellbildungsproze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rsachen der Entstehung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en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ische Ansätze zur Behandlung unzulänglic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A3FB-F88E-4686-9039-AEC7EADDAC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2FE6393-452A-47ED-A088-6D85B50917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 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s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-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führbares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gabedaten (Zufallsverteil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e (Simulationsläu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(Anzahl der bedienten/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bedienten Ku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886200"/>
            <a:ext cx="16002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imulation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xperi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24480" y="2133720"/>
            <a:ext cx="16002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I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ment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1B90-5FE6-4950-A272-906C9353B1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B2AEDC-FC71-42DF-A92D-A7BBB1862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Unzulängliche Information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m Beispielszenario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etzung der Schalter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chnittswerte, zeitlicher Verlauf unbekann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Resultierend aus Dienstpla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ienungszeit: Durchschnittswert (kann sicher je nach Einzelaufgabe stark schwanken,keine Angaben über Standardabweichunge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RSSWLK2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21004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9ADD-C6C7-4D13-9FC4-8746108B4E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C32A7A-A31A-4DA3-ACF5-89A655A8BD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Unzulängliche Information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m Beispielszenario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verhalten, statistisc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 nach Warteschlangentheorie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fallsvariable Zwischenankunftszeit(en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scheinlichkeitsverteilung(en)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eignis „Kunde kehrt um“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weils variiert nach Tages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verhalten, vag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 durch Fuzzy Set für di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 der Schalterbeamt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Bei sehr langer Schlang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ehen viele Leute an der Tür u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CRSSWLK2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2210040" cy="1575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6095880" y="4724280"/>
            <a:ext cx="1905120" cy="990720"/>
            <a:chOff x="6095880" y="4724280"/>
            <a:chExt cx="1905120" cy="990720"/>
          </a:xfrm>
        </p:grpSpPr>
        <p:sp>
          <p:nvSpPr>
            <p:cNvPr id="258" name=""/>
            <p:cNvSpPr/>
            <p:nvPr/>
          </p:nvSpPr>
          <p:spPr>
            <a:xfrm flipV="1">
              <a:off x="6095880" y="47242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5880" y="571500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095880" y="4876920"/>
              <a:ext cx="106704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62920" y="4876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981760" y="4670280"/>
            <a:ext cx="64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8840" y="475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94800" y="5672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87692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4876920"/>
            <a:ext cx="1067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86240" y="5595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0760" y="4527720"/>
            <a:ext cx="45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08D7-2765-4986-B716-63E5D75608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5A0CDB-718B-433D-8918-B8BD5FD48F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nformationsverarbeitung im Modellbildungsprozeß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änkung auf den Bereich der Modellbildung und Simulation: Allgemeiner Begriff der „Information“ ist zu schwer zu fassen - einheitliche Definition existiert nic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ildungsproze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are Darstellung eines (oftmals) iterativen Prozesses („Modellbildungszyklus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teilung in Ph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eiligte in verschiedenen Roll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geber, Entwickler, Anw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BB4C-B864-4CC2-8657-C8B69BC651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46E792-14B4-4A07-BBCE-16995029E1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nformationsverarbeitung im Modellbildungsprozeß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Grundlegende Modell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a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gaben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ierte Problembeschrei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3600" y="2057400"/>
            <a:ext cx="2452320" cy="850680"/>
            <a:chOff x="5943600" y="2057400"/>
            <a:chExt cx="2452320" cy="8506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303240" y="2057400"/>
              <a:ext cx="2092680" cy="8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943600" y="2147760"/>
              <a:ext cx="435600" cy="45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943600" y="3200400"/>
            <a:ext cx="2376000" cy="812520"/>
            <a:chOff x="5943600" y="3200400"/>
            <a:chExt cx="2376000" cy="8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03240" y="3200400"/>
              <a:ext cx="2016360" cy="81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943600" y="3200400"/>
              <a:ext cx="435600" cy="45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9480" y="3581280"/>
            <a:ext cx="7848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erarbeitende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stemgröß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mänenw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im wesentlichen Informationen über 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sbereich der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816E-565C-4275-BD7B-A6AAFBAD29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C1EDAC5-0E13-4DDF-8755-102D7DBFA4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nformationsverarbeitung im Modellbildungsprozeß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Modellformalisie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erarbeitend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smeth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10080" y="2057400"/>
            <a:ext cx="2668320" cy="761760"/>
            <a:chOff x="5410080" y="2057400"/>
            <a:chExt cx="2668320" cy="761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5769720" y="2057400"/>
              <a:ext cx="23086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410080" y="2057400"/>
              <a:ext cx="435960" cy="453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410080" y="3733920"/>
            <a:ext cx="2538000" cy="839160"/>
            <a:chOff x="5410080" y="3733920"/>
            <a:chExt cx="2538000" cy="8391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5769720" y="3733920"/>
              <a:ext cx="2178360" cy="83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410080" y="3733920"/>
              <a:ext cx="435600" cy="45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407200" y="4952880"/>
            <a:ext cx="2752200" cy="961920"/>
            <a:chOff x="5407200" y="4952880"/>
            <a:chExt cx="2752200" cy="96192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5766840" y="4952880"/>
              <a:ext cx="23925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07200" y="4952880"/>
              <a:ext cx="435600" cy="452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09480" y="350532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Implementierungs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erarbeitende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techn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800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Experimenta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verarbeitende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- und Ausgabedaten der Simulationsl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F5DA-4B2E-454D-9119-8B83AFD48F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ACC026-C308-49C5-8464-F3AF0B39F9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Ursachen unzulänglicher Inform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: Welche  Form der Unzulänglichkeit gehört zum Modell, welche zum Modell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rsachen der Unzulän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Eigenschaften des zu modellierenden Systems (systemimmanente Unzulänglichkei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erung hochkomplexer Systeme (z.B. W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Factors”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ierung menschlichen Verhalt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0968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4CD1-129E-4F8F-AAB0-5B092CE5BE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D1FC9B-85B6-4BFF-9972-758317D22E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Ursachen unzulänglicher Inform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rsachen der Unzulänglichkeit (For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Modellbildungsprozeß entstehende Unzulänglichk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mangelndem/fehlerhaftem Wissen über das zu modellierend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Fehlern im Modellbildungsproze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 Eigenschaften der Modellierungsmethode (z.B. fuzzy modelling, neural n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komplexer Systeme: Nebeneinanderauftreten von systemimmanenter und durch den Modellbildungsprozeß bedingte Unzulänglichk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B77F-4F86-49D5-9FB0-C60F5FB61E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205357F-518E-45CF-9601-CD1E3B57FC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Arten unzulänglicher Inform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vollständigk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e der vorhandenen Information nicht verfüg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e der notwendigen Information nicht verfüg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bare/verborgene Lü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erhaft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kt bewertbare Information existiert, ist aber nur eingeschränkt bekan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Wahrscheinlichkeiten, Konfidenzinterv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gheit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aguene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 selbst ist unscharf, exakte Wertzuweisung nicht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linguistische Variablen: „Paul ist groß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05C8-F804-41B5-944C-DDEA484B9F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F18F6D-DD3C-4E69-BDBE-3F47946D06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Arten unzulänglicher Inform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Beisp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vollständige Systemanalyse: Übersehen von für die Simulation wichtigen Parame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ge Aussagen über Systemeigenschaf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rhafte Eingabedaten für die Simulationsexperi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istische Unsich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sicherheit aus Nichtselektivität von Meß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k: Drift, Alt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eres Beispielszenario im An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8B91-6088-473D-8CD6-16A37655F2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2CBB6B-7CA8-4F42-BB67-50FEE3ABD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0-05-09T17:28:50Z</cp:lastPrinted>
  <dcterms:modified xsi:type="dcterms:W3CDTF">2000-07-09T14:28:05Z</dcterms:modified>
  <cp:revision>55</cp:revision>
  <dc:subject/>
  <dc:title>Kein Folientitel</dc:title>
</cp:coreProperties>
</file>