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4D62-8C23-4CB8-B100-0C7E61C216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FA91-5980-4B2E-9770-A9D754FB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437D-F817-4716-ABC8-FFB5A077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63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17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1433-B028-4592-A9FC-3B281BECE9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84D4-BD64-4E15-AD7F-7337FDA0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63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17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DF0D-D15B-4B05-B93F-7A35DC6E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FE7B-A00B-4E0D-80E1-8F2CDD94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869B-D742-4C8D-AA66-25434CB5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B825-BC83-4CAE-8541-9C132822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3CB8-6679-4EF7-AE91-78CA49D4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07BF-1E9F-4E81-BBCB-FB362BAA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B8A1-B167-4E8E-BD64-F0CE0EB2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68904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705360" y="60958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5CAF-6AAA-4290-AB0D-699DE9A5C6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21896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438280" y="6095880"/>
            <a:ext cx="426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iederverwendung von Modulen in Simulationssyst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35000" y="685800"/>
            <a:ext cx="9009000" cy="1052640"/>
            <a:chOff x="135000" y="685800"/>
            <a:chExt cx="9009000" cy="1052640"/>
          </a:xfrm>
        </p:grpSpPr>
        <p:grpSp>
          <p:nvGrpSpPr>
            <p:cNvPr id="10" name=""/>
            <p:cNvGrpSpPr/>
            <p:nvPr/>
          </p:nvGrpSpPr>
          <p:grpSpPr>
            <a:xfrm>
              <a:off x="425520" y="793800"/>
              <a:ext cx="711360" cy="474840"/>
              <a:chOff x="425520" y="793800"/>
              <a:chExt cx="711360" cy="474840"/>
            </a:xfrm>
          </p:grpSpPr>
          <p:sp>
            <p:nvSpPr>
              <p:cNvPr id="11" name=""/>
              <p:cNvSpPr/>
              <p:nvPr/>
            </p:nvSpPr>
            <p:spPr>
              <a:xfrm>
                <a:off x="425520" y="793800"/>
                <a:ext cx="437400" cy="47484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08560" y="7938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49360" y="1216080"/>
              <a:ext cx="737640" cy="474840"/>
              <a:chOff x="549360" y="1216080"/>
              <a:chExt cx="737640" cy="474840"/>
            </a:xfrm>
          </p:grpSpPr>
          <p:sp>
            <p:nvSpPr>
              <p:cNvPr id="14" name=""/>
              <p:cNvSpPr/>
              <p:nvPr/>
            </p:nvSpPr>
            <p:spPr>
              <a:xfrm>
                <a:off x="549360" y="1216080"/>
                <a:ext cx="421560" cy="4748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918000" y="12160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135000" y="11430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70040" y="6858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451080" y="15080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689040" cy="457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3581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5000" y="1371600"/>
            <a:ext cx="9009000" cy="1052640"/>
            <a:chOff x="135000" y="1371600"/>
            <a:chExt cx="9009000" cy="1052640"/>
          </a:xfrm>
        </p:grpSpPr>
        <p:grpSp>
          <p:nvGrpSpPr>
            <p:cNvPr id="62" name=""/>
            <p:cNvGrpSpPr/>
            <p:nvPr/>
          </p:nvGrpSpPr>
          <p:grpSpPr>
            <a:xfrm>
              <a:off x="425520" y="1479600"/>
              <a:ext cx="711360" cy="474840"/>
              <a:chOff x="425520" y="1479600"/>
              <a:chExt cx="711360" cy="474840"/>
            </a:xfrm>
          </p:grpSpPr>
          <p:sp>
            <p:nvSpPr>
              <p:cNvPr id="63" name=""/>
              <p:cNvSpPr/>
              <p:nvPr/>
            </p:nvSpPr>
            <p:spPr>
              <a:xfrm>
                <a:off x="425520" y="1479600"/>
                <a:ext cx="437400" cy="47484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08560" y="1479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49360" y="1901880"/>
              <a:ext cx="737640" cy="474840"/>
              <a:chOff x="549360" y="1901880"/>
              <a:chExt cx="737640" cy="474840"/>
            </a:xfrm>
          </p:grpSpPr>
          <p:sp>
            <p:nvSpPr>
              <p:cNvPr id="66" name=""/>
              <p:cNvSpPr/>
              <p:nvPr/>
            </p:nvSpPr>
            <p:spPr>
              <a:xfrm>
                <a:off x="549360" y="1901880"/>
                <a:ext cx="421560" cy="4748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18000" y="1901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35000" y="1828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0040" y="13716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51080" y="2193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514600" y="5105520"/>
            <a:ext cx="4191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r. rer. nat. Marko Hof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Thomas Kri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Workshop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„Perspektiven der 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Modellbildung und Simulation“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ederverwendung von Modulen in Simulationssystemen / Komponentenbasierter Modellentw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5CCAE5-3A37-4207-A8F3-B28BB49A01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4191120"/>
            <a:ext cx="3809880" cy="1447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286000"/>
            <a:ext cx="12952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2514600"/>
            <a:ext cx="838080" cy="304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2286000"/>
            <a:ext cx="12952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2514600"/>
            <a:ext cx="838080" cy="304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Typen der Wieder-/Weiterverwendung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1676520"/>
            <a:ext cx="0" cy="426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7772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25146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2819520"/>
            <a:ext cx="1295640" cy="761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3048120"/>
            <a:ext cx="838440" cy="3045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752480"/>
            <a:ext cx="12956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1981080"/>
            <a:ext cx="838440" cy="304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286000"/>
            <a:ext cx="12952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2514600"/>
            <a:ext cx="838080" cy="304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495680"/>
            <a:ext cx="12952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4724280"/>
            <a:ext cx="838080" cy="304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4495680"/>
            <a:ext cx="12952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4724280"/>
            <a:ext cx="838080" cy="304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72428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4648320"/>
            <a:ext cx="1295280" cy="761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4876920"/>
            <a:ext cx="838080" cy="3045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4648320"/>
            <a:ext cx="1295280" cy="761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4876920"/>
            <a:ext cx="838080" cy="3045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876920"/>
            <a:ext cx="1143000" cy="304560"/>
          </a:xfrm>
          <a:prstGeom prst="rightArrow">
            <a:avLst>
              <a:gd name="adj1" fmla="val 50000"/>
              <a:gd name="adj2" fmla="val 93824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0315400">
            <a:off x="5867280" y="220968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179000">
            <a:off x="5867280" y="2819520"/>
            <a:ext cx="1143000" cy="304560"/>
          </a:xfrm>
          <a:prstGeom prst="rightArrow">
            <a:avLst>
              <a:gd name="adj1" fmla="val 50000"/>
              <a:gd name="adj2" fmla="val 93824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200400"/>
            <a:ext cx="99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k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s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200400"/>
            <a:ext cx="99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k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s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3200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isproduk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5146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rianten 1 und 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5486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k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5486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kt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5715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k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4267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system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4267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system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A15C-DE24-42DA-B65D-89D9FF46B76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A06D28B-C2E1-4A15-84ED-BEC4075027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Wiederverwendung von Software (II)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traktionsnivea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in funktionale Abstraktion (Prozeduren, Funktionen, Makro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tenabstraktionen (abstrakte Datenobjekte und Datenty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llständige Objektorientierung (Klassen mit Vererbung und Polymorphism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B260-8060-4C9D-A04F-93D9B6BF793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5D8DBC2-0F65-4418-8C10-8F9C307EA2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Wiederverwendung von Modelle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einfachste Form: Wiederverwendung von Objekt-Schablonen (OMT)  [syntaxs-orientiert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iederverwendung von konzeptionellen Teilmodellen (CMMS) [semantik-orientiert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iederverwendung von formalisierten Modellen (logisch-mathematischer Ansat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CC45-DFBE-4F29-8BFB-144184D335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9EB4F21-9395-4313-8DDB-A58E914CAB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Hindernisse beim Übergang zu     geplanter Wiederverwendung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chnische und konzeption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mel 3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gewisse Zukunftsentwick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ökonomi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zahlung betriebsfremder Mod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rganisatori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r legt die offenen Repositories an und pflegt s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E693-B9F0-4EAB-AC2D-4647FEFEA9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7F442AF-29DC-4EA1-8A62-110B7ED572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Hindernisse beim Übergang zu     geplanter Wiederverwendung (Forts.)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tl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gemeine Regelung der Nutzungsrech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währleistungspflich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oziologi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ividu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: Künstlersynd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llek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: Not-invented-here-Synd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116D-7E53-42B9-912E-D68D85B73C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4C5BC52-DA23-4DE9-9D86-BD08279F48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Spezifizierung, Klassifizierung und Verwaltung von Modulen/Komponente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forderungen an ein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tützung 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fizierung (standardisierte Beschreibung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u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ifizieru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rtu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Einbindung der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3DFB-6943-469A-B978-C40AC86CAF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895BF99-B24E-4BD8-88BE-E9521E5EF2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Spezifizierung, Klassifizierung und Verwaltung von Modulen/Komponenten (II)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Anforderungen an ein Repository (Forts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figurations- und Änderungsverwal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Historisierung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sverwal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ffenheit versus Datensicherhe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ndardisierte Speicher- und Zugriffsfor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6B52-C2DD-4F1B-9DBA-CC89723A9D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054AD62-7855-420D-81DF-401F0F1F1C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Spezifizierung, Klassifizierung und Verwaltung von Modulen/Komponenten (III)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wertung der Module mittels eines Anforderungskata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Übertragbarkeit und Transparenz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tändlichkeit und Definierthe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greifbarkeit und Portierbarke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se Kopplung oder Abhängigke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figurierbarke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verlässigkeit us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5BBB-8336-4508-A018-5AF6495BA0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520D6CD-36C3-4DE8-8508-1B56CEE8E1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Bestehende Formalismen und Werkzeuge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DEVS 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Modellentwurf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, form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Modellentwurf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, aus Chip-Entwick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575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LA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technische Rahmen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, Ba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imultaan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technischer Rahmen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, Erweiteru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PSISA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technischer Rahmen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, Erweiterung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575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BSC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allg. mili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Entwicklungsumgebu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ESCADRE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spez. mili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300" spc="-1" strike="noStrike">
                <a:solidFill>
                  <a:srgbClr val="000000"/>
                </a:solidFill>
                <a:latin typeface="Arial"/>
              </a:rPr>
              <a:t>Entwicklungsumgebu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148D-C107-4CB6-B1DA-4E828EB0F8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580D7F6-8505-40E2-8B40-33B3283D64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Studienergebnisse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weitere Präzisierung 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grifflichen Grundlag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er Wiederverwendung ist unbedingt notwend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Standardisierung auf den Ebe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ntax und Techni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ollte mitbestimm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Entwicklung eine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ta-Modells für die komponentenbasierte Modellentwickl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rscheint langfristig unabding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vollständig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ktronische Erfassung aller Domänenda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Voraussetzung aller zukünftiger Arbei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8718-32A9-47CA-9847-DE5F16C10B7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D6FDDA5-099C-4E80-A1AD-37CF811C95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Begriffsbestimmunge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eder- und Weiterverwendung (BW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derverwendung: in anderen Produk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iterverwendung: im gleichen Produk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gl. nur „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Reuseabili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dul und K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ul: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oftwar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-Bestandt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ponente: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Model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-Bestandt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52D8-9179-4027-8F6C-951B379F7A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98E16A2-9072-46F3-9C11-4393359C86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Aktuelle Probleme bei der Entwicklung von Simulationssystemen 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igende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Komplexitä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ufgrund erweiterter technischer Möglichkei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nkende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Entwurfs- und Entwicklungszeiten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z.B. für die Einsatzunterstütz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ruck zur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igende Anforderungen an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Performanz,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Sicherheit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 Zuverlässig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VV&amp;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5216-FFB1-4FB2-9F02-FAA23EFA14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584E640-7A1F-47EE-A8C9-890428DD56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rum Wiederverwend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Reduzierung der Entwicklungskosten und/oder der Entwicklungszeiten durch </a:t>
            </a:r>
            <a:r>
              <a:rPr b="0" i="1" lang="de-DE" sz="2700" spc="-1" strike="noStrike">
                <a:solidFill>
                  <a:srgbClr val="000000"/>
                </a:solidFill>
                <a:latin typeface="Arial"/>
              </a:rPr>
              <a:t>Redundanzvermeidu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Nutzung </a:t>
            </a:r>
            <a:r>
              <a:rPr b="0" i="1" lang="de-DE" sz="2700" spc="-1" strike="noStrike">
                <a:solidFill>
                  <a:srgbClr val="000000"/>
                </a:solidFill>
                <a:latin typeface="Arial"/>
              </a:rPr>
              <a:t>verifizierter</a:t>
            </a: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DE" sz="2700" spc="-1" strike="noStrike">
                <a:solidFill>
                  <a:srgbClr val="000000"/>
                </a:solidFill>
                <a:latin typeface="Arial"/>
              </a:rPr>
              <a:t>validierter</a:t>
            </a: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Softw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Inkrementeller Aufbau von offenen, </a:t>
            </a:r>
            <a:r>
              <a:rPr b="0" i="1" lang="de-DE" sz="2700" spc="-1" strike="noStrike">
                <a:solidFill>
                  <a:srgbClr val="000000"/>
                </a:solidFill>
                <a:latin typeface="Arial"/>
              </a:rPr>
              <a:t>standardisierten Repositories</a:t>
            </a: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erleichtert den kritischen Erfahrungsaustausch und fairen Leistungs- und Sicherheitsverglei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AEBB-FE0D-48C2-A4D1-100ADB5485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0383D19-FBCD-40F1-B40F-D3CEBFAB84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Beispiel: Gefechtsimulation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419720"/>
            <a:ext cx="8686800" cy="1447560"/>
          </a:xfrm>
          <a:prstGeom prst="cube">
            <a:avLst>
              <a:gd name="adj" fmla="val 1927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Kernsimulator I (verifiziert und validie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lementare Gefechtsobje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Aufklärung, Bewegung, Abnutzung, Kommunikation, Geländeveränd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1600200"/>
            <a:ext cx="1600200" cy="762120"/>
          </a:xfrm>
          <a:prstGeom prst="cube">
            <a:avLst>
              <a:gd name="adj" fmla="val 19273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hrungs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ph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(V&amp;V‘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37360" y="3886200"/>
            <a:ext cx="1677600" cy="685800"/>
            <a:chOff x="837360" y="3886200"/>
            <a:chExt cx="1677600" cy="685800"/>
          </a:xfrm>
        </p:grpSpPr>
        <p:cxnSp>
          <p:nvCxnSpPr>
            <p:cNvPr id="121" name=""/>
            <p:cNvCxnSpPr>
              <a:stCxn id="122" idx="3"/>
            </p:cNvCxnSpPr>
            <p:nvPr/>
          </p:nvCxnSpPr>
          <p:spPr>
            <a:xfrm flipH="1">
              <a:off x="1676160" y="3886200"/>
              <a:ext cx="2160" cy="686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22" idx="3"/>
            </p:cNvCxnSpPr>
            <p:nvPr/>
          </p:nvCxnSpPr>
          <p:spPr>
            <a:xfrm flipH="1">
              <a:off x="837360" y="3886200"/>
              <a:ext cx="840600" cy="686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2" idx="3"/>
            </p:cNvCxnSpPr>
            <p:nvPr/>
          </p:nvCxnSpPr>
          <p:spPr>
            <a:xfrm>
              <a:off x="1677960" y="3886200"/>
              <a:ext cx="837360" cy="686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22" name=""/>
          <p:cNvSpPr/>
          <p:nvPr/>
        </p:nvSpPr>
        <p:spPr>
          <a:xfrm>
            <a:off x="950760" y="3200400"/>
            <a:ext cx="1600200" cy="762120"/>
          </a:xfrm>
          <a:prstGeom prst="cube">
            <a:avLst>
              <a:gd name="adj" fmla="val 1927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hrungs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(V&amp;V‘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/>
          <p:nvPr/>
        </p:nvCxnSpPr>
        <p:spPr>
          <a:xfrm flipH="1">
            <a:off x="4647960" y="3885840"/>
            <a:ext cx="2160" cy="686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6" name=""/>
          <p:cNvCxnSpPr/>
          <p:nvPr/>
        </p:nvCxnSpPr>
        <p:spPr>
          <a:xfrm flipH="1">
            <a:off x="3809160" y="3885840"/>
            <a:ext cx="840600" cy="686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7" name=""/>
          <p:cNvCxnSpPr/>
          <p:nvPr/>
        </p:nvCxnSpPr>
        <p:spPr>
          <a:xfrm>
            <a:off x="4649760" y="3885840"/>
            <a:ext cx="837360" cy="686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922560" y="3200400"/>
            <a:ext cx="1600200" cy="762120"/>
          </a:xfrm>
          <a:prstGeom prst="cube">
            <a:avLst>
              <a:gd name="adj" fmla="val 1927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hrungs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(V&amp;V‘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780960" y="3886200"/>
            <a:ext cx="1677600" cy="685800"/>
            <a:chOff x="6780960" y="3886200"/>
            <a:chExt cx="1677600" cy="685800"/>
          </a:xfrm>
        </p:grpSpPr>
        <p:cxnSp>
          <p:nvCxnSpPr>
            <p:cNvPr id="130" name=""/>
            <p:cNvCxnSpPr>
              <a:stCxn id="131" idx="3"/>
            </p:cNvCxnSpPr>
            <p:nvPr/>
          </p:nvCxnSpPr>
          <p:spPr>
            <a:xfrm flipH="1">
              <a:off x="7619760" y="3886200"/>
              <a:ext cx="2160" cy="686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31" idx="3"/>
            </p:cNvCxnSpPr>
            <p:nvPr/>
          </p:nvCxnSpPr>
          <p:spPr>
            <a:xfrm flipH="1">
              <a:off x="6780960" y="3886200"/>
              <a:ext cx="840600" cy="686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31" idx="3"/>
            </p:cNvCxnSpPr>
            <p:nvPr/>
          </p:nvCxnSpPr>
          <p:spPr>
            <a:xfrm>
              <a:off x="7621560" y="3886200"/>
              <a:ext cx="837360" cy="686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31" name=""/>
          <p:cNvSpPr/>
          <p:nvPr/>
        </p:nvSpPr>
        <p:spPr>
          <a:xfrm>
            <a:off x="6894360" y="3200400"/>
            <a:ext cx="1600200" cy="762120"/>
          </a:xfrm>
          <a:prstGeom prst="cube">
            <a:avLst>
              <a:gd name="adj" fmla="val 1927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hrungs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(V&amp;V‘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687560" y="2362320"/>
            <a:ext cx="2932920" cy="915120"/>
          </a:xfrm>
          <a:prstGeom prst="straightConnector1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 flipH="1">
            <a:off x="1675800" y="2362320"/>
            <a:ext cx="3012120" cy="915120"/>
          </a:xfrm>
          <a:prstGeom prst="straightConnector1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19" idx="3"/>
          </p:cNvCxnSpPr>
          <p:nvPr/>
        </p:nvCxnSpPr>
        <p:spPr>
          <a:xfrm flipH="1">
            <a:off x="4682520" y="2362320"/>
            <a:ext cx="6840" cy="915120"/>
          </a:xfrm>
          <a:prstGeom prst="straightConnector1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52280" y="2013120"/>
            <a:ext cx="304812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Verifiziertes und validiertes Gefechtssimulationssystem für das </a:t>
            </a:r>
            <a:r>
              <a:rPr b="1" lang="de-DE" sz="1400" spc="-1" strike="noStrike" u="sng">
                <a:solidFill>
                  <a:srgbClr val="ff0000"/>
                </a:solidFill>
                <a:uFillTx/>
                <a:latin typeface="Arial"/>
              </a:rPr>
              <a:t>klassische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Einsatzspek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A120-54B5-490F-A70F-D3D4B11FE7C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0D1C9C0-3E5B-4AAC-9ACD-F7F0B38E3B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Beispiel (Forts.)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19720"/>
            <a:ext cx="8686800" cy="1447560"/>
          </a:xfrm>
          <a:prstGeom prst="cube">
            <a:avLst>
              <a:gd name="adj" fmla="val 1927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Kernsimulator I (verifiziert und validie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lementare Gefechtsobje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Aufklärung, Bewegung, Abnutzung, Kommunikation, Geländeveränd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1600200"/>
            <a:ext cx="1600200" cy="762120"/>
          </a:xfrm>
          <a:prstGeom prst="cube">
            <a:avLst>
              <a:gd name="adj" fmla="val 19273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hrungs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pha (V&amp;V‘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7360" y="3886200"/>
            <a:ext cx="1677600" cy="685800"/>
            <a:chOff x="837360" y="3886200"/>
            <a:chExt cx="1677600" cy="685800"/>
          </a:xfrm>
        </p:grpSpPr>
        <p:cxnSp>
          <p:nvCxnSpPr>
            <p:cNvPr id="142" name=""/>
            <p:cNvCxnSpPr>
              <a:stCxn id="143" idx="3"/>
            </p:cNvCxnSpPr>
            <p:nvPr/>
          </p:nvCxnSpPr>
          <p:spPr>
            <a:xfrm flipH="1">
              <a:off x="1676160" y="3886200"/>
              <a:ext cx="2160" cy="686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3" idx="3"/>
            </p:cNvCxnSpPr>
            <p:nvPr/>
          </p:nvCxnSpPr>
          <p:spPr>
            <a:xfrm flipH="1">
              <a:off x="837360" y="3886200"/>
              <a:ext cx="840600" cy="686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>
              <a:stCxn id="143" idx="3"/>
            </p:cNvCxnSpPr>
            <p:nvPr/>
          </p:nvCxnSpPr>
          <p:spPr>
            <a:xfrm>
              <a:off x="1677960" y="3886200"/>
              <a:ext cx="837360" cy="686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43" name=""/>
          <p:cNvSpPr/>
          <p:nvPr/>
        </p:nvSpPr>
        <p:spPr>
          <a:xfrm>
            <a:off x="950760" y="3200400"/>
            <a:ext cx="1600200" cy="762120"/>
          </a:xfrm>
          <a:prstGeom prst="cube">
            <a:avLst>
              <a:gd name="adj" fmla="val 192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hrungs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eu-A (Te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/>
          <p:nvPr/>
        </p:nvCxnSpPr>
        <p:spPr>
          <a:xfrm flipH="1">
            <a:off x="4647960" y="3885840"/>
            <a:ext cx="2160" cy="686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 flipH="1">
            <a:off x="3809160" y="3885840"/>
            <a:ext cx="840600" cy="686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649760" y="3885840"/>
            <a:ext cx="837360" cy="686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3922560" y="3200400"/>
            <a:ext cx="1600200" cy="762120"/>
          </a:xfrm>
          <a:prstGeom prst="cube">
            <a:avLst>
              <a:gd name="adj" fmla="val 192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hrungs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eu-B (Te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780960" y="3886200"/>
            <a:ext cx="1677600" cy="685800"/>
            <a:chOff x="6780960" y="3886200"/>
            <a:chExt cx="1677600" cy="685800"/>
          </a:xfrm>
        </p:grpSpPr>
        <p:cxnSp>
          <p:nvCxnSpPr>
            <p:cNvPr id="151" name=""/>
            <p:cNvCxnSpPr>
              <a:stCxn id="152" idx="3"/>
            </p:cNvCxnSpPr>
            <p:nvPr/>
          </p:nvCxnSpPr>
          <p:spPr>
            <a:xfrm flipH="1">
              <a:off x="7619760" y="3886200"/>
              <a:ext cx="2160" cy="686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52" idx="3"/>
            </p:cNvCxnSpPr>
            <p:nvPr/>
          </p:nvCxnSpPr>
          <p:spPr>
            <a:xfrm flipH="1">
              <a:off x="6780960" y="3886200"/>
              <a:ext cx="840600" cy="686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3"/>
            </p:cNvCxnSpPr>
            <p:nvPr/>
          </p:nvCxnSpPr>
          <p:spPr>
            <a:xfrm>
              <a:off x="7621560" y="3886200"/>
              <a:ext cx="837360" cy="686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2" name=""/>
          <p:cNvSpPr/>
          <p:nvPr/>
        </p:nvSpPr>
        <p:spPr>
          <a:xfrm>
            <a:off x="6894360" y="3200400"/>
            <a:ext cx="1600200" cy="762120"/>
          </a:xfrm>
          <a:prstGeom prst="cube">
            <a:avLst>
              <a:gd name="adj" fmla="val 1927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hrungs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(V&amp;V‘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>
            <a:off x="4687560" y="2362320"/>
            <a:ext cx="2932920" cy="915120"/>
          </a:xfrm>
          <a:prstGeom prst="straightConnector1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56" name=""/>
          <p:cNvCxnSpPr/>
          <p:nvPr/>
        </p:nvCxnSpPr>
        <p:spPr>
          <a:xfrm flipH="1">
            <a:off x="1675800" y="2362320"/>
            <a:ext cx="3012120" cy="915120"/>
          </a:xfrm>
          <a:prstGeom prst="straightConnector1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0" idx="3"/>
          </p:cNvCxnSpPr>
          <p:nvPr/>
        </p:nvCxnSpPr>
        <p:spPr>
          <a:xfrm flipH="1">
            <a:off x="4682520" y="2362320"/>
            <a:ext cx="6840" cy="915120"/>
          </a:xfrm>
          <a:prstGeom prst="straightConnector1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76320" y="1828800"/>
            <a:ext cx="304776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Teilweise modifiziertes Gefechtssimulationssystem für eine neue Aufgabe (OOTW) in der </a:t>
            </a:r>
            <a:r>
              <a:rPr b="1" lang="de-DE" sz="1400" spc="-1" strike="noStrike" u="sng">
                <a:solidFill>
                  <a:srgbClr val="ff0000"/>
                </a:solidFill>
                <a:uFillTx/>
                <a:latin typeface="Arial"/>
              </a:rPr>
              <a:t>Testphase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 neuer 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276720"/>
            <a:ext cx="1295280" cy="685800"/>
          </a:xfrm>
          <a:prstGeom prst="leftRightArrow">
            <a:avLst>
              <a:gd name="adj1" fmla="val 50000"/>
              <a:gd name="adj2" fmla="val 37599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formanz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124080"/>
            <a:ext cx="762120" cy="1143000"/>
          </a:xfrm>
          <a:prstGeom prst="upDownArrow">
            <a:avLst>
              <a:gd name="adj1" fmla="val 50000"/>
              <a:gd name="adj2" fmla="val 29856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761760" cy="1143000"/>
          </a:xfrm>
          <a:prstGeom prst="upDownArrow">
            <a:avLst>
              <a:gd name="adj1" fmla="val 50000"/>
              <a:gd name="adj2" fmla="val 2987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36E9-AC77-48FD-9795-BD58EA34DCE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69AE50E-3A4A-47E6-BDE8-E3DB4CC48E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Beispiel (Forts. II)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4419720"/>
            <a:ext cx="8686800" cy="1447560"/>
          </a:xfrm>
          <a:prstGeom prst="cube">
            <a:avLst>
              <a:gd name="adj" fmla="val 1927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Kernsimulator I (verifiziert und validie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lementare Gefechtsobje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Aufklärung, Bewegung, Abnutzung, Kommunikation, Geländeveränd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1600200"/>
            <a:ext cx="1600200" cy="762120"/>
          </a:xfrm>
          <a:prstGeom prst="cube">
            <a:avLst>
              <a:gd name="adj" fmla="val 19273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hrungs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pha (V&amp;V‘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7360" y="3886200"/>
            <a:ext cx="1677600" cy="685800"/>
            <a:chOff x="837360" y="3886200"/>
            <a:chExt cx="1677600" cy="685800"/>
          </a:xfrm>
        </p:grpSpPr>
        <p:cxnSp>
          <p:nvCxnSpPr>
            <p:cNvPr id="166" name=""/>
            <p:cNvCxnSpPr>
              <a:stCxn id="167" idx="3"/>
            </p:cNvCxnSpPr>
            <p:nvPr/>
          </p:nvCxnSpPr>
          <p:spPr>
            <a:xfrm flipH="1">
              <a:off x="1676160" y="3886200"/>
              <a:ext cx="2160" cy="686160"/>
            </a:xfrm>
            <a:prstGeom prst="straightConnector1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7" idx="3"/>
            </p:cNvCxnSpPr>
            <p:nvPr/>
          </p:nvCxnSpPr>
          <p:spPr>
            <a:xfrm flipH="1">
              <a:off x="837360" y="3886200"/>
              <a:ext cx="840600" cy="686160"/>
            </a:xfrm>
            <a:prstGeom prst="straightConnector1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7" idx="3"/>
            </p:cNvCxnSpPr>
            <p:nvPr/>
          </p:nvCxnSpPr>
          <p:spPr>
            <a:xfrm>
              <a:off x="1677960" y="3886200"/>
              <a:ext cx="837360" cy="686160"/>
            </a:xfrm>
            <a:prstGeom prst="straightConnector1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</p:cxnSp>
      </p:grpSp>
      <p:sp>
        <p:nvSpPr>
          <p:cNvPr id="167" name=""/>
          <p:cNvSpPr/>
          <p:nvPr/>
        </p:nvSpPr>
        <p:spPr>
          <a:xfrm>
            <a:off x="950760" y="3200400"/>
            <a:ext cx="1600200" cy="762120"/>
          </a:xfrm>
          <a:prstGeom prst="cube">
            <a:avLst>
              <a:gd name="adj" fmla="val 192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hrungs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eu-B (V&amp;V‘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/>
          <p:nvPr/>
        </p:nvCxnSpPr>
        <p:spPr>
          <a:xfrm flipH="1">
            <a:off x="4647960" y="3885840"/>
            <a:ext cx="2160" cy="68652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71" name=""/>
          <p:cNvCxnSpPr/>
          <p:nvPr/>
        </p:nvCxnSpPr>
        <p:spPr>
          <a:xfrm flipH="1">
            <a:off x="3809160" y="3885840"/>
            <a:ext cx="840600" cy="68652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72" name=""/>
          <p:cNvCxnSpPr/>
          <p:nvPr/>
        </p:nvCxnSpPr>
        <p:spPr>
          <a:xfrm>
            <a:off x="4649760" y="3885840"/>
            <a:ext cx="837360" cy="68652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922560" y="3200400"/>
            <a:ext cx="1600200" cy="762120"/>
          </a:xfrm>
          <a:prstGeom prst="cube">
            <a:avLst>
              <a:gd name="adj" fmla="val 192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hrungs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eu-B (V&amp;V‘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780960" y="3886200"/>
            <a:ext cx="1677600" cy="685800"/>
            <a:chOff x="6780960" y="3886200"/>
            <a:chExt cx="1677600" cy="685800"/>
          </a:xfrm>
        </p:grpSpPr>
        <p:cxnSp>
          <p:nvCxnSpPr>
            <p:cNvPr id="175" name=""/>
            <p:cNvCxnSpPr>
              <a:stCxn id="176" idx="3"/>
            </p:cNvCxnSpPr>
            <p:nvPr/>
          </p:nvCxnSpPr>
          <p:spPr>
            <a:xfrm flipH="1">
              <a:off x="7619760" y="3886200"/>
              <a:ext cx="2160" cy="686160"/>
            </a:xfrm>
            <a:prstGeom prst="straightConnector1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76" idx="3"/>
            </p:cNvCxnSpPr>
            <p:nvPr/>
          </p:nvCxnSpPr>
          <p:spPr>
            <a:xfrm flipH="1">
              <a:off x="6780960" y="3886200"/>
              <a:ext cx="840600" cy="686160"/>
            </a:xfrm>
            <a:prstGeom prst="straightConnector1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76" idx="3"/>
            </p:cNvCxnSpPr>
            <p:nvPr/>
          </p:nvCxnSpPr>
          <p:spPr>
            <a:xfrm>
              <a:off x="7621560" y="3886200"/>
              <a:ext cx="837360" cy="686160"/>
            </a:xfrm>
            <a:prstGeom prst="straightConnector1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6894360" y="3200400"/>
            <a:ext cx="1600200" cy="762120"/>
          </a:xfrm>
          <a:prstGeom prst="cube">
            <a:avLst>
              <a:gd name="adj" fmla="val 192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ührungs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eu-B (V&amp;V‘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/>
          <p:nvPr/>
        </p:nvCxnSpPr>
        <p:spPr>
          <a:xfrm>
            <a:off x="4687560" y="2362320"/>
            <a:ext cx="2932920" cy="915120"/>
          </a:xfrm>
          <a:prstGeom prst="straightConnector1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H="1">
            <a:off x="1675800" y="2362320"/>
            <a:ext cx="3012120" cy="915120"/>
          </a:xfrm>
          <a:prstGeom prst="straightConnector1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 flipH="1">
            <a:off x="4723920" y="2362320"/>
            <a:ext cx="7200" cy="915120"/>
          </a:xfrm>
          <a:prstGeom prst="straightConnector1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152280" y="2013120"/>
            <a:ext cx="304812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Leistungsfähige, v&amp;v‘te Variante des Gefechtssimulationssystem für die neue Aufgabe (OOT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8767-7DF3-4AC8-A94D-DB23549FBE5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D8FF897-6CE1-4980-B9A0-D9747D4C15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Was kann wiederverwendet werden?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delle und ihre Kompon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gramme und ihre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nkbar aber au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rukturierte Problembeschreibungen, konzeptionelle und formale Spezifikationen, Designs, Dokumentationen, Architekturen, Testergebnisse, Kostenplanungen, Projektpläne und Systemkonfiguratio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223D-974C-49D0-B21D-708C612FF58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CD09BE8-7735-4426-B6B0-5029C3C15B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Wiederverwendung von Software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ögliche Klassifizierun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ionsentwick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ariantenentwick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raproduktorientierte“ Wiederverwe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produktorientierte“ Wiederverwe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30000"/>
              </a:lnSpc>
              <a:spcBef>
                <a:spcPts val="700"/>
              </a:spcBef>
              <a:buClr>
                <a:srgbClr val="009900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tikale versus horizontale Wiederver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2497-E20F-4B9F-85C9-5E965CD9478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B881459-A0C0-4433-B9C5-E580D5315F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09:46:56Z</dcterms:created>
  <dc:creator>marko</dc:creator>
  <dc:description/>
  <dc:language>en-US</dc:language>
  <cp:lastModifiedBy>Inf4</cp:lastModifiedBy>
  <cp:lastPrinted>2000-07-10T06:42:06Z</cp:lastPrinted>
  <dcterms:modified xsi:type="dcterms:W3CDTF">2000-07-10T08:12:51Z</dcterms:modified>
  <cp:revision>51</cp:revision>
  <dc:subject/>
  <dc:title>Kein Folientitel</dc:title>
</cp:coreProperties>
</file>