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166240" y="6537240"/>
            <a:ext cx="109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[Slide </a:t>
            </a:r>
            <a:fld id="{D8193BF1-E46B-4E4F-BEF2-7898C11C8B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687600" y="380880"/>
            <a:ext cx="795312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uture Perspectives on Modeling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Discussion for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rspectives in Modeling and Simulati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kshop, sponsor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Institute for Technology of Intelligen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T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ndeswehr University Mun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 July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esented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vid F. Da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nior Fellow and Acting Dir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Program on Peacekeeping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School of Public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orge Mas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-42480" y="765000"/>
            <a:ext cx="9136800" cy="45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e Big 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 intervention necessa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, what kind? With what objecti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should be the lead, if an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we operate most effectively if there is no le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should be involv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we operate most effectively if the r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s are not involv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will it cost and who will pay for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27080" y="1450800"/>
            <a:ext cx="883224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ome other ques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o are the parties to the conflict? Victims of the Disaster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at are they likely to do/need?  To what effect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at does the mandating authority want to happe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at are the options in designing the interventio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ch organizations would follow the design once created?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o must agre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94200" y="966960"/>
            <a:ext cx="801216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nflict/Disaster Dri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stated positions of the partie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ir interest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ir capabilities to pursue their interes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nterests are productive and should be reinforc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nterests are seen as counter-productive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refu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capabilities are destabilizing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hould be done?  What might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source of party differentiation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uppo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51200" y="1828800"/>
            <a:ext cx="8688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are the peop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re refuge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re IDP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are they, why did they move, why are they still ther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y safe, can they be brought back safely, is/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housing/food/schools/job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must be done? What are the potential impact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ing courses of actio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should be involv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83200" y="1574640"/>
            <a:ext cx="7952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re a humanitarian n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is needed by whom and where might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 fr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 hel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id be given without doing long term har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id be given without conflicting with other aims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t, what happens if it is given anyw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medical/injury/disease situ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4160" y="1165320"/>
            <a:ext cx="885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re human rights violations/war crim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criminals identified and loc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arrest, detention and trial be possi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should arrest, detain, t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potential impacts of differing choi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government stable/functional/exist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upport is needed and who should provide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consequences of governmental reform del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nstitution building is requi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current infrastructure viable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t, what can be done by whom at what co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trusteeship/protectorate requi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677240" y="2209680"/>
            <a:ext cx="6334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economy via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t, who can hel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must be d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what prior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options for interven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-1800" y="1752480"/>
            <a:ext cx="902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being done for former combata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re former combatants from all parties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ir stat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re child combatants? Non-volunteer combata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y likely to do if demobilized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re a continued security ris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they get home? Is there likely to be a home there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someone else in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73680" y="914400"/>
            <a:ext cx="835056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nally, What must the military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ce command and control of multi-national dissimilar fo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ligence sharing: What happens when it is good or b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s compat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t and combined planning processes understood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ly participated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sion of military ob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, from whom, placed where, to do 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ce surveillance and/or control of borders/DMZs/spe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s and ar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, from whom, to watch 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-151200" y="1727280"/>
            <a:ext cx="905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ct civilians from any threat internally (policing)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ly (secur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what RO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what author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what expected outcom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liaison to other organizations and civil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 or reduce inter party violence with presence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wd/riot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often? What size? What ROE? With what desired e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906120" y="399960"/>
            <a:ext cx="75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 and other Peace Operations since 194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821880" y="1793880"/>
            <a:ext cx="338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 Observation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2 Peacekee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Peace Enfor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W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4477320" y="3546360"/>
            <a:ext cx="4201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e Observation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Peacekeeping 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 Peace Enforcement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W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016240" y="2022480"/>
            <a:ext cx="20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 Mand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25480" y="4079880"/>
            <a:ext cx="26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-UN Man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343040" y="228600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838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21200" y="762120"/>
            <a:ext cx="8268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own forces with security and logis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security and support to other organiz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ofte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what desired end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if support not provi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what alternativ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uct military operations in support of other activ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loyment, movement, transportation; mobility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-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/Secure/Protect the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prepared to conduct combat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at force ut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at support force ut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support ut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20440" y="2184480"/>
            <a:ext cx="7747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ceptual Modeling to capture the underlying proce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stems Dynamics for Process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sion Theoretic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ellular Automata and Agent Based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47560" y="272880"/>
            <a:ext cx="4280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Techniqu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31200" y="644400"/>
            <a:ext cx="85017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 challenge is in providing effective analysis from a subordin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ole with superiors who don’t do analysis!  A daunting but no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ntirely impossible task.  That our superiors do not do it is not 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ason to demure.  The military must still do what is right for i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wn within the context of the greater good.  In the design of IFOR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cretary Perry limited the force with an arbitrary restriction 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5,000 US soldiers and Holbrooke implemented a false parti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etween the military and civilian leadership that has contributed t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 lengthening and continued presence of a military force.  I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Kosovo the lack of understanding of potential spontaneous refuge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turn has impacted all elements of the intervention.  In Sierra Leon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 political ‘design to budget’ approach to Force Design cost liv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nd national honor when the Security Council failed to heed th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ilitary advise of the Mission Planning Service.  Examples aboun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here the lack of an accepted rational analyses could have sav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ives and resourc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7600" y="380880"/>
            <a:ext cx="795312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uture Perspectives on Modeling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Discussion for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rspectives in Modeling and Simulati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kshop, sponsor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Institute for Technology of Intelligen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T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ndeswehr University Mun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 July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esented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vid F. Da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nior Fellow and Acting Dir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Program on Peacekeeping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School of Public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orge Mas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2120" y="141300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4800" y="133668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lict Pre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5680" y="27846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43760" y="232740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acekee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7240" y="179388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umanitarian 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600" y="225108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aster Reli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8040" y="499428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ikes and Ra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64840" y="5603760"/>
            <a:ext cx="20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nter Dr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28840" y="3470400"/>
            <a:ext cx="26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ace Enfor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5832360"/>
            <a:ext cx="26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nter Terro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214840" y="61372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08240" y="4308480"/>
            <a:ext cx="49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 to Foreign Internal Def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2743200"/>
            <a:ext cx="8458200" cy="609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65200">
            <a:off x="7072200" y="28954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527200"/>
            <a:ext cx="8153640" cy="1714680"/>
          </a:xfrm>
          <a:custGeom>
            <a:avLst/>
            <a:gdLst/>
            <a:ahLst/>
            <a:rect l="l" t="t" r="r" b="b"/>
            <a:pathLst>
              <a:path w="5136" h="1080">
                <a:moveTo>
                  <a:pt x="0" y="136"/>
                </a:moveTo>
                <a:cubicBezTo>
                  <a:pt x="352" y="68"/>
                  <a:pt x="704" y="0"/>
                  <a:pt x="1392" y="136"/>
                </a:cubicBezTo>
                <a:cubicBezTo>
                  <a:pt x="2080" y="272"/>
                  <a:pt x="3504" y="824"/>
                  <a:pt x="4128" y="952"/>
                </a:cubicBezTo>
                <a:cubicBezTo>
                  <a:pt x="4752" y="1080"/>
                  <a:pt x="4944" y="992"/>
                  <a:pt x="5136" y="904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943200">
            <a:off x="3507120" y="2742840"/>
            <a:ext cx="167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mpar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85800" y="3123720"/>
            <a:ext cx="7924680" cy="1600200"/>
          </a:xfrm>
          <a:prstGeom prst="line">
            <a:avLst/>
          </a:prstGeom>
          <a:ln w="7632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20971200">
            <a:off x="746280" y="403812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ntent to Use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2120" y="141300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4800" y="133668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lict Pre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5680" y="27846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3760" y="232740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acekee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7240" y="179388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umanitarian 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5600" y="225108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aster Reli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8040" y="499428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ikes and Ra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4840" y="5603760"/>
            <a:ext cx="20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nter Dr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28840" y="3470400"/>
            <a:ext cx="26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ace Enfor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5832360"/>
            <a:ext cx="26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nter Terro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14840" y="61372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08240" y="4308480"/>
            <a:ext cx="49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 to Foreign Internal Def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141300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4800" y="133668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lict Pre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5680" y="27846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3760" y="232740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acekee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7240" y="179388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umanitarian 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600" y="225108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aster Reli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8040" y="499428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ikes and Ra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64840" y="5603760"/>
            <a:ext cx="20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nter Dr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28840" y="3470400"/>
            <a:ext cx="26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ace Enfor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5832360"/>
            <a:ext cx="26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nter Terro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14840" y="61372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08240" y="4308480"/>
            <a:ext cx="49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 to Foreign Internal Def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85800" y="3123720"/>
            <a:ext cx="7924680" cy="1600200"/>
          </a:xfrm>
          <a:prstGeom prst="line">
            <a:avLst/>
          </a:prstGeom>
          <a:ln w="7632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20971200">
            <a:off x="746280" y="403812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ntent to Use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2120" y="141300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04800" y="133668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lict Pre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5680" y="27846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43760" y="232740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acekee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7240" y="179388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umanitarian 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600" y="225108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aster Reli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8040" y="499428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ikes and Ra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4840" y="5603760"/>
            <a:ext cx="20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nter Dr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8840" y="3470400"/>
            <a:ext cx="26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ace Enfor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05520" y="5832360"/>
            <a:ext cx="26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nter Terro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14840" y="61372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08240" y="4308480"/>
            <a:ext cx="49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 to Foreign Internal Def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2743200"/>
            <a:ext cx="8458200" cy="609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65200">
            <a:off x="7072200" y="28954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2120" y="141300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4800" y="133668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lict Pre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5680" y="27846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43760" y="232740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acekee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67240" y="179388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umanitarian 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600" y="225108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aster Reli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8040" y="499428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ikes and Ra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4840" y="5603760"/>
            <a:ext cx="20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nter Dr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8840" y="3470400"/>
            <a:ext cx="26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ace Enfor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05520" y="5832360"/>
            <a:ext cx="26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nter Terro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214840" y="61372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08240" y="4308480"/>
            <a:ext cx="49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 to Foreign Internal Def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527200"/>
            <a:ext cx="8153640" cy="1714680"/>
          </a:xfrm>
          <a:custGeom>
            <a:avLst/>
            <a:gdLst/>
            <a:ahLst/>
            <a:rect l="l" t="t" r="r" b="b"/>
            <a:pathLst>
              <a:path w="5136" h="1080">
                <a:moveTo>
                  <a:pt x="0" y="136"/>
                </a:moveTo>
                <a:cubicBezTo>
                  <a:pt x="352" y="68"/>
                  <a:pt x="704" y="0"/>
                  <a:pt x="1392" y="136"/>
                </a:cubicBezTo>
                <a:cubicBezTo>
                  <a:pt x="2080" y="272"/>
                  <a:pt x="3504" y="824"/>
                  <a:pt x="4128" y="952"/>
                </a:cubicBezTo>
                <a:cubicBezTo>
                  <a:pt x="4752" y="1080"/>
                  <a:pt x="4944" y="992"/>
                  <a:pt x="5136" y="904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943200">
            <a:off x="3507120" y="2742840"/>
            <a:ext cx="167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mpar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62120" y="141300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4800" y="133668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lict Pre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5680" y="27846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3760" y="232740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acekee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67240" y="179388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umanitarian 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600" y="225108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aster Reli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8040" y="499428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ikes and Ra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64840" y="5603760"/>
            <a:ext cx="20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nter Dr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8840" y="3470400"/>
            <a:ext cx="26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ace Enfor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5832360"/>
            <a:ext cx="26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nter Terro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14840" y="61372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08240" y="4308480"/>
            <a:ext cx="49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 to Foreign Internal Def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85800" y="3123720"/>
            <a:ext cx="7924680" cy="1600200"/>
          </a:xfrm>
          <a:prstGeom prst="line">
            <a:avLst/>
          </a:prstGeom>
          <a:ln w="7632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0971200">
            <a:off x="746280" y="403812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ntent to Use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760" y="458640"/>
            <a:ext cx="8232840" cy="3351240"/>
          </a:xfrm>
          <a:custGeom>
            <a:avLst/>
            <a:gdLst/>
            <a:ahLst/>
            <a:rect l="l" t="t" r="r" b="b"/>
            <a:pathLst>
              <a:path w="5186" h="2111">
                <a:moveTo>
                  <a:pt x="296" y="2111"/>
                </a:moveTo>
                <a:cubicBezTo>
                  <a:pt x="483" y="2074"/>
                  <a:pt x="660" y="2053"/>
                  <a:pt x="852" y="2044"/>
                </a:cubicBezTo>
                <a:cubicBezTo>
                  <a:pt x="1045" y="2025"/>
                  <a:pt x="1190" y="2026"/>
                  <a:pt x="1396" y="2033"/>
                </a:cubicBezTo>
                <a:cubicBezTo>
                  <a:pt x="1475" y="2049"/>
                  <a:pt x="1552" y="2072"/>
                  <a:pt x="1630" y="2089"/>
                </a:cubicBezTo>
                <a:cubicBezTo>
                  <a:pt x="1728" y="2081"/>
                  <a:pt x="1769" y="2087"/>
                  <a:pt x="1852" y="2055"/>
                </a:cubicBezTo>
                <a:cubicBezTo>
                  <a:pt x="1924" y="2028"/>
                  <a:pt x="1988" y="1985"/>
                  <a:pt x="2063" y="1966"/>
                </a:cubicBezTo>
                <a:cubicBezTo>
                  <a:pt x="2188" y="1882"/>
                  <a:pt x="2378" y="1895"/>
                  <a:pt x="2508" y="1877"/>
                </a:cubicBezTo>
                <a:cubicBezTo>
                  <a:pt x="2797" y="1838"/>
                  <a:pt x="3083" y="1813"/>
                  <a:pt x="3374" y="1800"/>
                </a:cubicBezTo>
                <a:cubicBezTo>
                  <a:pt x="3529" y="1785"/>
                  <a:pt x="3685" y="1775"/>
                  <a:pt x="3841" y="1766"/>
                </a:cubicBezTo>
                <a:cubicBezTo>
                  <a:pt x="3952" y="1740"/>
                  <a:pt x="4068" y="1731"/>
                  <a:pt x="4174" y="1689"/>
                </a:cubicBezTo>
                <a:cubicBezTo>
                  <a:pt x="4270" y="1651"/>
                  <a:pt x="4370" y="1622"/>
                  <a:pt x="4463" y="1578"/>
                </a:cubicBezTo>
                <a:cubicBezTo>
                  <a:pt x="4508" y="1557"/>
                  <a:pt x="4551" y="1530"/>
                  <a:pt x="4597" y="1511"/>
                </a:cubicBezTo>
                <a:cubicBezTo>
                  <a:pt x="4709" y="1466"/>
                  <a:pt x="4808" y="1412"/>
                  <a:pt x="4897" y="1322"/>
                </a:cubicBezTo>
                <a:cubicBezTo>
                  <a:pt x="4973" y="1245"/>
                  <a:pt x="5042" y="1164"/>
                  <a:pt x="5108" y="1078"/>
                </a:cubicBezTo>
                <a:cubicBezTo>
                  <a:pt x="5134" y="1044"/>
                  <a:pt x="5186" y="978"/>
                  <a:pt x="5186" y="978"/>
                </a:cubicBezTo>
                <a:cubicBezTo>
                  <a:pt x="5175" y="952"/>
                  <a:pt x="5170" y="922"/>
                  <a:pt x="5152" y="900"/>
                </a:cubicBezTo>
                <a:cubicBezTo>
                  <a:pt x="5135" y="879"/>
                  <a:pt x="5086" y="855"/>
                  <a:pt x="5086" y="855"/>
                </a:cubicBezTo>
                <a:cubicBezTo>
                  <a:pt x="5069" y="737"/>
                  <a:pt x="5060" y="618"/>
                  <a:pt x="5041" y="500"/>
                </a:cubicBezTo>
                <a:cubicBezTo>
                  <a:pt x="5035" y="464"/>
                  <a:pt x="5009" y="381"/>
                  <a:pt x="4986" y="366"/>
                </a:cubicBezTo>
                <a:cubicBezTo>
                  <a:pt x="4953" y="345"/>
                  <a:pt x="4946" y="338"/>
                  <a:pt x="4908" y="322"/>
                </a:cubicBezTo>
                <a:cubicBezTo>
                  <a:pt x="4771" y="263"/>
                  <a:pt x="4658" y="266"/>
                  <a:pt x="4508" y="255"/>
                </a:cubicBezTo>
                <a:cubicBezTo>
                  <a:pt x="4419" y="249"/>
                  <a:pt x="4241" y="233"/>
                  <a:pt x="4241" y="233"/>
                </a:cubicBezTo>
                <a:cubicBezTo>
                  <a:pt x="4141" y="237"/>
                  <a:pt x="4041" y="251"/>
                  <a:pt x="3941" y="244"/>
                </a:cubicBezTo>
                <a:cubicBezTo>
                  <a:pt x="3770" y="232"/>
                  <a:pt x="3430" y="178"/>
                  <a:pt x="3430" y="178"/>
                </a:cubicBezTo>
                <a:cubicBezTo>
                  <a:pt x="3317" y="144"/>
                  <a:pt x="3214" y="123"/>
                  <a:pt x="3097" y="111"/>
                </a:cubicBezTo>
                <a:cubicBezTo>
                  <a:pt x="2672" y="129"/>
                  <a:pt x="2610" y="153"/>
                  <a:pt x="2263" y="55"/>
                </a:cubicBezTo>
                <a:cubicBezTo>
                  <a:pt x="2142" y="21"/>
                  <a:pt x="2211" y="37"/>
                  <a:pt x="2052" y="11"/>
                </a:cubicBezTo>
                <a:cubicBezTo>
                  <a:pt x="2030" y="7"/>
                  <a:pt x="1985" y="0"/>
                  <a:pt x="1985" y="0"/>
                </a:cubicBezTo>
                <a:cubicBezTo>
                  <a:pt x="1797" y="10"/>
                  <a:pt x="1618" y="43"/>
                  <a:pt x="1430" y="55"/>
                </a:cubicBezTo>
                <a:cubicBezTo>
                  <a:pt x="1285" y="94"/>
                  <a:pt x="1142" y="142"/>
                  <a:pt x="996" y="178"/>
                </a:cubicBezTo>
                <a:cubicBezTo>
                  <a:pt x="840" y="255"/>
                  <a:pt x="960" y="183"/>
                  <a:pt x="863" y="267"/>
                </a:cubicBezTo>
                <a:cubicBezTo>
                  <a:pt x="801" y="320"/>
                  <a:pt x="755" y="413"/>
                  <a:pt x="674" y="422"/>
                </a:cubicBezTo>
                <a:cubicBezTo>
                  <a:pt x="549" y="436"/>
                  <a:pt x="422" y="444"/>
                  <a:pt x="307" y="500"/>
                </a:cubicBezTo>
                <a:cubicBezTo>
                  <a:pt x="281" y="526"/>
                  <a:pt x="255" y="552"/>
                  <a:pt x="229" y="578"/>
                </a:cubicBezTo>
                <a:cubicBezTo>
                  <a:pt x="218" y="589"/>
                  <a:pt x="196" y="611"/>
                  <a:pt x="196" y="611"/>
                </a:cubicBezTo>
                <a:cubicBezTo>
                  <a:pt x="168" y="721"/>
                  <a:pt x="143" y="825"/>
                  <a:pt x="107" y="933"/>
                </a:cubicBezTo>
                <a:cubicBezTo>
                  <a:pt x="99" y="1037"/>
                  <a:pt x="101" y="1176"/>
                  <a:pt x="18" y="1255"/>
                </a:cubicBezTo>
                <a:cubicBezTo>
                  <a:pt x="0" y="1348"/>
                  <a:pt x="5" y="1397"/>
                  <a:pt x="107" y="1422"/>
                </a:cubicBezTo>
                <a:cubicBezTo>
                  <a:pt x="124" y="1492"/>
                  <a:pt x="131" y="1557"/>
                  <a:pt x="163" y="1622"/>
                </a:cubicBezTo>
                <a:cubicBezTo>
                  <a:pt x="176" y="1685"/>
                  <a:pt x="194" y="1732"/>
                  <a:pt x="241" y="1777"/>
                </a:cubicBezTo>
                <a:cubicBezTo>
                  <a:pt x="274" y="1844"/>
                  <a:pt x="257" y="1805"/>
                  <a:pt x="285" y="1889"/>
                </a:cubicBezTo>
                <a:cubicBezTo>
                  <a:pt x="289" y="1900"/>
                  <a:pt x="292" y="1911"/>
                  <a:pt x="296" y="1922"/>
                </a:cubicBezTo>
                <a:cubicBezTo>
                  <a:pt x="300" y="1933"/>
                  <a:pt x="307" y="1955"/>
                  <a:pt x="307" y="1955"/>
                </a:cubicBezTo>
                <a:cubicBezTo>
                  <a:pt x="296" y="2104"/>
                  <a:pt x="296" y="2052"/>
                  <a:pt x="296" y="2111"/>
                </a:cubicBez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01720" y="117360"/>
            <a:ext cx="31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eace Operations (P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52560" y="3981600"/>
            <a:ext cx="8164440" cy="2614320"/>
          </a:xfrm>
          <a:custGeom>
            <a:avLst/>
            <a:gdLst/>
            <a:ahLst/>
            <a:rect l="l" t="t" r="r" b="b"/>
            <a:pathLst>
              <a:path w="5143" h="1647">
                <a:moveTo>
                  <a:pt x="56" y="936"/>
                </a:moveTo>
                <a:cubicBezTo>
                  <a:pt x="287" y="705"/>
                  <a:pt x="597" y="486"/>
                  <a:pt x="911" y="381"/>
                </a:cubicBezTo>
                <a:cubicBezTo>
                  <a:pt x="1025" y="299"/>
                  <a:pt x="1146" y="258"/>
                  <a:pt x="1278" y="214"/>
                </a:cubicBezTo>
                <a:cubicBezTo>
                  <a:pt x="1367" y="185"/>
                  <a:pt x="1460" y="141"/>
                  <a:pt x="1556" y="136"/>
                </a:cubicBezTo>
                <a:cubicBezTo>
                  <a:pt x="1667" y="130"/>
                  <a:pt x="1778" y="129"/>
                  <a:pt x="1889" y="125"/>
                </a:cubicBezTo>
                <a:cubicBezTo>
                  <a:pt x="1962" y="101"/>
                  <a:pt x="1891" y="122"/>
                  <a:pt x="2023" y="103"/>
                </a:cubicBezTo>
                <a:cubicBezTo>
                  <a:pt x="2112" y="90"/>
                  <a:pt x="2202" y="69"/>
                  <a:pt x="2289" y="47"/>
                </a:cubicBezTo>
                <a:cubicBezTo>
                  <a:pt x="2670" y="61"/>
                  <a:pt x="2876" y="66"/>
                  <a:pt x="3301" y="58"/>
                </a:cubicBezTo>
                <a:cubicBezTo>
                  <a:pt x="3717" y="30"/>
                  <a:pt x="3268" y="67"/>
                  <a:pt x="3578" y="25"/>
                </a:cubicBezTo>
                <a:cubicBezTo>
                  <a:pt x="3648" y="15"/>
                  <a:pt x="3789" y="3"/>
                  <a:pt x="3789" y="3"/>
                </a:cubicBezTo>
                <a:cubicBezTo>
                  <a:pt x="3915" y="7"/>
                  <a:pt x="4042" y="0"/>
                  <a:pt x="4167" y="14"/>
                </a:cubicBezTo>
                <a:cubicBezTo>
                  <a:pt x="4209" y="19"/>
                  <a:pt x="4304" y="67"/>
                  <a:pt x="4356" y="81"/>
                </a:cubicBezTo>
                <a:cubicBezTo>
                  <a:pt x="4452" y="107"/>
                  <a:pt x="4547" y="109"/>
                  <a:pt x="4645" y="125"/>
                </a:cubicBezTo>
                <a:cubicBezTo>
                  <a:pt x="4727" y="165"/>
                  <a:pt x="4819" y="265"/>
                  <a:pt x="4878" y="336"/>
                </a:cubicBezTo>
                <a:cubicBezTo>
                  <a:pt x="4925" y="392"/>
                  <a:pt x="4948" y="463"/>
                  <a:pt x="5001" y="514"/>
                </a:cubicBezTo>
                <a:cubicBezTo>
                  <a:pt x="5030" y="572"/>
                  <a:pt x="5052" y="629"/>
                  <a:pt x="5067" y="692"/>
                </a:cubicBezTo>
                <a:cubicBezTo>
                  <a:pt x="5086" y="847"/>
                  <a:pt x="5092" y="1003"/>
                  <a:pt x="5112" y="1158"/>
                </a:cubicBezTo>
                <a:cubicBezTo>
                  <a:pt x="5117" y="1195"/>
                  <a:pt x="5134" y="1269"/>
                  <a:pt x="5134" y="1269"/>
                </a:cubicBezTo>
                <a:cubicBezTo>
                  <a:pt x="5130" y="1377"/>
                  <a:pt x="5143" y="1486"/>
                  <a:pt x="5123" y="1592"/>
                </a:cubicBezTo>
                <a:cubicBezTo>
                  <a:pt x="5115" y="1632"/>
                  <a:pt x="4974" y="1644"/>
                  <a:pt x="4956" y="1647"/>
                </a:cubicBezTo>
                <a:cubicBezTo>
                  <a:pt x="4778" y="1640"/>
                  <a:pt x="4600" y="1636"/>
                  <a:pt x="4423" y="1625"/>
                </a:cubicBezTo>
                <a:cubicBezTo>
                  <a:pt x="4371" y="1622"/>
                  <a:pt x="4319" y="1610"/>
                  <a:pt x="4267" y="1603"/>
                </a:cubicBezTo>
                <a:cubicBezTo>
                  <a:pt x="4241" y="1599"/>
                  <a:pt x="4190" y="1592"/>
                  <a:pt x="4190" y="1592"/>
                </a:cubicBezTo>
                <a:cubicBezTo>
                  <a:pt x="3760" y="1637"/>
                  <a:pt x="3983" y="1622"/>
                  <a:pt x="3523" y="1636"/>
                </a:cubicBezTo>
                <a:cubicBezTo>
                  <a:pt x="3112" y="1613"/>
                  <a:pt x="2799" y="1619"/>
                  <a:pt x="2345" y="1625"/>
                </a:cubicBezTo>
                <a:cubicBezTo>
                  <a:pt x="1952" y="1586"/>
                  <a:pt x="1560" y="1615"/>
                  <a:pt x="1167" y="1569"/>
                </a:cubicBezTo>
                <a:cubicBezTo>
                  <a:pt x="922" y="1496"/>
                  <a:pt x="675" y="1430"/>
                  <a:pt x="422" y="1392"/>
                </a:cubicBezTo>
                <a:cubicBezTo>
                  <a:pt x="310" y="1353"/>
                  <a:pt x="375" y="1379"/>
                  <a:pt x="222" y="1303"/>
                </a:cubicBezTo>
                <a:cubicBezTo>
                  <a:pt x="131" y="1258"/>
                  <a:pt x="34" y="1217"/>
                  <a:pt x="0" y="1114"/>
                </a:cubicBezTo>
                <a:cubicBezTo>
                  <a:pt x="15" y="1068"/>
                  <a:pt x="40" y="1021"/>
                  <a:pt x="67" y="981"/>
                </a:cubicBezTo>
                <a:cubicBezTo>
                  <a:pt x="60" y="973"/>
                  <a:pt x="42" y="968"/>
                  <a:pt x="45" y="958"/>
                </a:cubicBezTo>
                <a:cubicBezTo>
                  <a:pt x="51" y="932"/>
                  <a:pt x="109" y="936"/>
                  <a:pt x="56" y="936"/>
                </a:cubicBez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720" y="6477120"/>
            <a:ext cx="30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ot-Peace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0T06:15:15Z</dcterms:created>
  <dc:creator>D.F. Davis</dc:creator>
  <dc:description/>
  <dc:language>en-US</dc:language>
  <cp:lastModifiedBy>Inf4</cp:lastModifiedBy>
  <dcterms:modified xsi:type="dcterms:W3CDTF">2000-07-10T09:05:26Z</dcterms:modified>
  <cp:revision>1</cp:revision>
  <dc:subject/>
  <dc:title>No Slide Title</dc:title>
</cp:coreProperties>
</file>