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jpeg" ContentType="image/jpeg"/>
  <Override PartName="/ppt/media/image2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5220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372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23CC-075D-4560-868D-E4B703BD6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 dem Vorgesagten kann man auch ein neues Rollenverständnis für den Auftraggeber ableiten, indem er den Antrieb gibt für Modellinnovatio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70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685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32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685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32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770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770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685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32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685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32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70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ath200" descr=""/>
          <p:cNvPicPr/>
          <p:nvPr/>
        </p:nvPicPr>
        <p:blipFill>
          <a:blip r:embed="rId2"/>
          <a:stretch/>
        </p:blipFill>
        <p:spPr>
          <a:xfrm>
            <a:off x="1219320" y="6172200"/>
            <a:ext cx="53316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80880" y="6477120"/>
            <a:ext cx="76212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28800" y="6477120"/>
            <a:ext cx="99072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63244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66ff"/>
                </a:solidFill>
                <a:latin typeface="Times New Roman"/>
              </a:rPr>
              <a:t>UniBwM * Labor für Ingenieurinformat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867280" y="6477120"/>
            <a:ext cx="281952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1712880" y="31575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okumentation Simulationsmod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th200" descr=""/>
          <p:cNvPicPr/>
          <p:nvPr/>
        </p:nvPicPr>
        <p:blipFill>
          <a:blip r:embed="rId2"/>
          <a:stretch/>
        </p:blipFill>
        <p:spPr>
          <a:xfrm>
            <a:off x="1600200" y="6172200"/>
            <a:ext cx="533520" cy="523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6477120"/>
            <a:ext cx="76176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6477120"/>
            <a:ext cx="7621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632448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iBwM  Labor für Ingenieurinformat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477120"/>
            <a:ext cx="266688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38640" y="1447920"/>
            <a:ext cx="473760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kumentation Simulationsmod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Pilotstudie des AStudÜbBw - Be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Univ.-Prof. Dr.-Ing. D. Kön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Labor für Ingenieurinforma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Sachbearbeiter:</a:t>
            </a: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Dr. rer.nat. J. Q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6684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Dipl.-Ing. E. Pfei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52480" y="914400"/>
            <a:ext cx="6782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tivation (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Die Arbeitsweise/Gültigkeit/Zuverlässigkeit von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Algorithmen, die entscheidungstheoretischen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Grundlagen, die Konzepte verschiedener Auto-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maten, methodisch bedingte Modellgrenzen und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dgl. sind für den militärischen Fachmann in der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Komplexität der Übungsszenarien nicht immer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nachvollziehb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In Ausschnitten und repräsentativen Szenarien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     soll das Modellverhalten analysiert und darge-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     stellt werden, um Qualitäten aber auch Unschärfen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     der Modelle aufzuzei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52480" y="990720"/>
            <a:ext cx="69343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tivation (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Die Programm- und Datenstrukturen der Modelle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sind zu ermitteln und darzustellen, um z.B. den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Anpassungsaufwand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fü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TSK-übergreifende Simulationen                  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(joint and combin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verteilte Simul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abschätzen und insbesondere die Weiternutzung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bestehender Datenarchive abklären zu kö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52480" y="609480"/>
            <a:ext cx="7010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tivation (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Aufgrund der wechselnden Zweckbestimmung/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Nutzung der Modelle ist ein Übergang von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monolithischen Modellen zu konfigurierbaren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Simulationen erwünscht. Die Modellkomponenten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sind auf eine entsprechende Wiederverwendbarkeit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zu analysieren und zu bewer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Softwareentwicklung unterliegt regelmäßig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einem technologischen Wan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Die Eignung der Modellkomponenten für eine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Weiterverwendung bei den aktuellen Technologie-/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Paradigmenwechseln (OOM, C/S, HLA) ist zu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beurtei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flipH="1">
            <a:off x="1523160" y="3505320"/>
            <a:ext cx="6248520" cy="1676160"/>
          </a:xfrm>
          <a:prstGeom prst="rtTriangle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2133720"/>
            <a:ext cx="152640" cy="1218960"/>
          </a:xfrm>
          <a:prstGeom prst="downArrow">
            <a:avLst>
              <a:gd name="adj1" fmla="val 50000"/>
              <a:gd name="adj2" fmla="val 199646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2133720"/>
            <a:ext cx="152280" cy="1218960"/>
          </a:xfrm>
          <a:prstGeom prst="downArrow">
            <a:avLst>
              <a:gd name="adj1" fmla="val 50000"/>
              <a:gd name="adj2" fmla="val 20011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2133720"/>
            <a:ext cx="152280" cy="1218960"/>
          </a:xfrm>
          <a:prstGeom prst="downArrow">
            <a:avLst>
              <a:gd name="adj1" fmla="val 50000"/>
              <a:gd name="adj2" fmla="val 200118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00800" y="2133720"/>
            <a:ext cx="152280" cy="1218960"/>
          </a:xfrm>
          <a:prstGeom prst="downArrow">
            <a:avLst>
              <a:gd name="adj1" fmla="val 50000"/>
              <a:gd name="adj2" fmla="val 20011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0" idx="0"/>
            <a:endCxn id="192" idx="0"/>
          </p:cNvCxnSpPr>
          <p:nvPr/>
        </p:nvCxnSpPr>
        <p:spPr>
          <a:xfrm flipH="1" rot="16200000">
            <a:off x="5790600" y="1448280"/>
            <a:ext cx="2160" cy="1372320"/>
          </a:xfrm>
          <a:prstGeom prst="curvedConnector5">
            <a:avLst>
              <a:gd name="adj1" fmla="val -22900000"/>
              <a:gd name="adj2" fmla="val 49986"/>
              <a:gd name="adj3" fmla="val -22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9" idx="0"/>
            <a:endCxn id="191" idx="0"/>
          </p:cNvCxnSpPr>
          <p:nvPr/>
        </p:nvCxnSpPr>
        <p:spPr>
          <a:xfrm flipH="1" rot="16200000">
            <a:off x="3847320" y="343440"/>
            <a:ext cx="2160" cy="3582000"/>
          </a:xfrm>
          <a:prstGeom prst="curvedConnector5">
            <a:avLst>
              <a:gd name="adj1" fmla="val -30000000"/>
              <a:gd name="adj2" fmla="val 49994"/>
              <a:gd name="adj3" fmla="val -30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143000" y="1028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ionsmodell HOR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Simulationsmodell MOC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371600"/>
            <a:ext cx="0" cy="5335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1371600"/>
            <a:ext cx="0" cy="5335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9080" y="5334120"/>
            <a:ext cx="67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höhung des Dokumentationslevels durch Reverse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81080" y="1447920"/>
            <a:ext cx="6705720" cy="30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1981080"/>
            <a:ext cx="5613480" cy="2819520"/>
          </a:xfrm>
          <a:custGeom>
            <a:avLst/>
            <a:gdLst/>
            <a:ahLst/>
            <a:rect l="l" t="t" r="r" b="b"/>
            <a:pathLst>
              <a:path w="3536" h="792">
                <a:moveTo>
                  <a:pt x="112" y="120"/>
                </a:moveTo>
                <a:cubicBezTo>
                  <a:pt x="120" y="144"/>
                  <a:pt x="128" y="136"/>
                  <a:pt x="112" y="168"/>
                </a:cubicBezTo>
                <a:cubicBezTo>
                  <a:pt x="96" y="200"/>
                  <a:pt x="0" y="280"/>
                  <a:pt x="16" y="312"/>
                </a:cubicBezTo>
                <a:cubicBezTo>
                  <a:pt x="32" y="344"/>
                  <a:pt x="168" y="312"/>
                  <a:pt x="208" y="360"/>
                </a:cubicBezTo>
                <a:cubicBezTo>
                  <a:pt x="248" y="408"/>
                  <a:pt x="200" y="552"/>
                  <a:pt x="256" y="600"/>
                </a:cubicBezTo>
                <a:cubicBezTo>
                  <a:pt x="312" y="648"/>
                  <a:pt x="464" y="624"/>
                  <a:pt x="544" y="648"/>
                </a:cubicBezTo>
                <a:cubicBezTo>
                  <a:pt x="624" y="672"/>
                  <a:pt x="656" y="744"/>
                  <a:pt x="736" y="744"/>
                </a:cubicBezTo>
                <a:cubicBezTo>
                  <a:pt x="816" y="744"/>
                  <a:pt x="928" y="640"/>
                  <a:pt x="1024" y="648"/>
                </a:cubicBezTo>
                <a:cubicBezTo>
                  <a:pt x="1120" y="656"/>
                  <a:pt x="1224" y="792"/>
                  <a:pt x="1312" y="792"/>
                </a:cubicBezTo>
                <a:cubicBezTo>
                  <a:pt x="1400" y="792"/>
                  <a:pt x="1464" y="656"/>
                  <a:pt x="1552" y="648"/>
                </a:cubicBezTo>
                <a:cubicBezTo>
                  <a:pt x="1640" y="640"/>
                  <a:pt x="1736" y="728"/>
                  <a:pt x="1840" y="744"/>
                </a:cubicBezTo>
                <a:cubicBezTo>
                  <a:pt x="1944" y="760"/>
                  <a:pt x="2080" y="776"/>
                  <a:pt x="2176" y="744"/>
                </a:cubicBezTo>
                <a:cubicBezTo>
                  <a:pt x="2272" y="712"/>
                  <a:pt x="2336" y="568"/>
                  <a:pt x="2416" y="552"/>
                </a:cubicBezTo>
                <a:cubicBezTo>
                  <a:pt x="2496" y="536"/>
                  <a:pt x="2568" y="616"/>
                  <a:pt x="2656" y="648"/>
                </a:cubicBezTo>
                <a:cubicBezTo>
                  <a:pt x="2744" y="680"/>
                  <a:pt x="2856" y="768"/>
                  <a:pt x="2944" y="744"/>
                </a:cubicBezTo>
                <a:cubicBezTo>
                  <a:pt x="3032" y="720"/>
                  <a:pt x="3088" y="560"/>
                  <a:pt x="3184" y="504"/>
                </a:cubicBezTo>
                <a:cubicBezTo>
                  <a:pt x="3280" y="448"/>
                  <a:pt x="3504" y="448"/>
                  <a:pt x="3520" y="408"/>
                </a:cubicBezTo>
                <a:cubicBezTo>
                  <a:pt x="3536" y="368"/>
                  <a:pt x="3408" y="320"/>
                  <a:pt x="3280" y="264"/>
                </a:cubicBezTo>
                <a:cubicBezTo>
                  <a:pt x="3152" y="208"/>
                  <a:pt x="2888" y="80"/>
                  <a:pt x="2752" y="72"/>
                </a:cubicBezTo>
                <a:cubicBezTo>
                  <a:pt x="2616" y="64"/>
                  <a:pt x="2568" y="216"/>
                  <a:pt x="2464" y="216"/>
                </a:cubicBezTo>
                <a:cubicBezTo>
                  <a:pt x="2360" y="216"/>
                  <a:pt x="2224" y="64"/>
                  <a:pt x="2128" y="72"/>
                </a:cubicBezTo>
                <a:cubicBezTo>
                  <a:pt x="2032" y="80"/>
                  <a:pt x="2000" y="248"/>
                  <a:pt x="1888" y="264"/>
                </a:cubicBezTo>
                <a:cubicBezTo>
                  <a:pt x="1776" y="280"/>
                  <a:pt x="1592" y="192"/>
                  <a:pt x="1456" y="168"/>
                </a:cubicBezTo>
                <a:cubicBezTo>
                  <a:pt x="1320" y="144"/>
                  <a:pt x="1200" y="120"/>
                  <a:pt x="1072" y="120"/>
                </a:cubicBezTo>
                <a:cubicBezTo>
                  <a:pt x="944" y="120"/>
                  <a:pt x="800" y="184"/>
                  <a:pt x="688" y="168"/>
                </a:cubicBezTo>
                <a:cubicBezTo>
                  <a:pt x="576" y="152"/>
                  <a:pt x="504" y="48"/>
                  <a:pt x="400" y="24"/>
                </a:cubicBezTo>
                <a:cubicBezTo>
                  <a:pt x="296" y="0"/>
                  <a:pt x="112" y="8"/>
                  <a:pt x="64" y="24"/>
                </a:cubicBezTo>
                <a:cubicBezTo>
                  <a:pt x="16" y="40"/>
                  <a:pt x="104" y="96"/>
                  <a:pt x="112" y="12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1447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6094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sgangssituation Modelldoku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2057400"/>
            <a:ext cx="38124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057400"/>
            <a:ext cx="2286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2057400"/>
            <a:ext cx="15264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2057400"/>
            <a:ext cx="228600" cy="160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36576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2057400"/>
            <a:ext cx="457200" cy="1447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057400"/>
            <a:ext cx="7632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057400"/>
            <a:ext cx="15228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2057400"/>
            <a:ext cx="228600" cy="160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2057400"/>
            <a:ext cx="22860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2057400"/>
            <a:ext cx="7632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2057400"/>
            <a:ext cx="3808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5334120"/>
            <a:ext cx="1219320" cy="75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5562720"/>
            <a:ext cx="1219320" cy="759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5791320"/>
            <a:ext cx="121932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5257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rhandene Dok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5486400"/>
            <a:ext cx="635040" cy="431640"/>
          </a:xfrm>
          <a:custGeom>
            <a:avLst/>
            <a:gdLst/>
            <a:ahLst/>
            <a:rect l="l" t="t" r="r" b="b"/>
            <a:pathLst>
              <a:path w="400" h="272">
                <a:moveTo>
                  <a:pt x="152" y="72"/>
                </a:moveTo>
                <a:cubicBezTo>
                  <a:pt x="128" y="80"/>
                  <a:pt x="80" y="104"/>
                  <a:pt x="56" y="120"/>
                </a:cubicBezTo>
                <a:cubicBezTo>
                  <a:pt x="32" y="136"/>
                  <a:pt x="0" y="144"/>
                  <a:pt x="8" y="168"/>
                </a:cubicBezTo>
                <a:cubicBezTo>
                  <a:pt x="16" y="192"/>
                  <a:pt x="72" y="256"/>
                  <a:pt x="104" y="264"/>
                </a:cubicBezTo>
                <a:cubicBezTo>
                  <a:pt x="136" y="272"/>
                  <a:pt x="168" y="216"/>
                  <a:pt x="200" y="216"/>
                </a:cubicBezTo>
                <a:cubicBezTo>
                  <a:pt x="232" y="216"/>
                  <a:pt x="264" y="272"/>
                  <a:pt x="296" y="264"/>
                </a:cubicBezTo>
                <a:cubicBezTo>
                  <a:pt x="328" y="256"/>
                  <a:pt x="384" y="208"/>
                  <a:pt x="392" y="168"/>
                </a:cubicBezTo>
                <a:cubicBezTo>
                  <a:pt x="400" y="128"/>
                  <a:pt x="368" y="48"/>
                  <a:pt x="344" y="24"/>
                </a:cubicBezTo>
                <a:cubicBezTo>
                  <a:pt x="320" y="0"/>
                  <a:pt x="272" y="16"/>
                  <a:pt x="248" y="24"/>
                </a:cubicBezTo>
                <a:cubicBezTo>
                  <a:pt x="224" y="32"/>
                  <a:pt x="216" y="64"/>
                  <a:pt x="200" y="72"/>
                </a:cubicBezTo>
                <a:cubicBezTo>
                  <a:pt x="184" y="80"/>
                  <a:pt x="176" y="64"/>
                  <a:pt x="152" y="72"/>
                </a:cubicBezTo>
                <a:close/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5410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Globale Analyse und Dokumentation durch UniBw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54864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rgänzende Dokumentation durch IAB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5715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Ergänzende Detail-/Moduldokumentation durch UniBw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2057400"/>
            <a:ext cx="114300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ich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057400"/>
            <a:ext cx="228600" cy="990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2133720"/>
            <a:ext cx="228600" cy="990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2057400"/>
            <a:ext cx="228600" cy="12952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80988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ttlere Durchdringungstie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1676520"/>
            <a:ext cx="7238880" cy="3581280"/>
          </a:xfrm>
          <a:custGeom>
            <a:avLst/>
            <a:gdLst/>
            <a:ahLst/>
            <a:rect l="l" t="t" r="r" b="b"/>
            <a:pathLst>
              <a:path w="4560" h="2144">
                <a:moveTo>
                  <a:pt x="1928" y="168"/>
                </a:moveTo>
                <a:cubicBezTo>
                  <a:pt x="1776" y="160"/>
                  <a:pt x="1584" y="120"/>
                  <a:pt x="1352" y="120"/>
                </a:cubicBezTo>
                <a:cubicBezTo>
                  <a:pt x="1120" y="120"/>
                  <a:pt x="720" y="168"/>
                  <a:pt x="536" y="168"/>
                </a:cubicBezTo>
                <a:cubicBezTo>
                  <a:pt x="352" y="168"/>
                  <a:pt x="336" y="48"/>
                  <a:pt x="248" y="120"/>
                </a:cubicBezTo>
                <a:cubicBezTo>
                  <a:pt x="160" y="192"/>
                  <a:pt x="0" y="352"/>
                  <a:pt x="8" y="600"/>
                </a:cubicBezTo>
                <a:cubicBezTo>
                  <a:pt x="16" y="848"/>
                  <a:pt x="160" y="1416"/>
                  <a:pt x="296" y="1608"/>
                </a:cubicBezTo>
                <a:cubicBezTo>
                  <a:pt x="432" y="1800"/>
                  <a:pt x="640" y="1664"/>
                  <a:pt x="824" y="1752"/>
                </a:cubicBezTo>
                <a:cubicBezTo>
                  <a:pt x="1008" y="1840"/>
                  <a:pt x="1176" y="2128"/>
                  <a:pt x="1400" y="2136"/>
                </a:cubicBezTo>
                <a:cubicBezTo>
                  <a:pt x="1624" y="2144"/>
                  <a:pt x="1840" y="1816"/>
                  <a:pt x="2168" y="1800"/>
                </a:cubicBezTo>
                <a:cubicBezTo>
                  <a:pt x="2496" y="1784"/>
                  <a:pt x="3040" y="2064"/>
                  <a:pt x="3368" y="2040"/>
                </a:cubicBezTo>
                <a:cubicBezTo>
                  <a:pt x="3696" y="2016"/>
                  <a:pt x="3944" y="1800"/>
                  <a:pt x="4136" y="1656"/>
                </a:cubicBezTo>
                <a:cubicBezTo>
                  <a:pt x="4328" y="1512"/>
                  <a:pt x="4512" y="1424"/>
                  <a:pt x="4520" y="1176"/>
                </a:cubicBezTo>
                <a:cubicBezTo>
                  <a:pt x="4528" y="928"/>
                  <a:pt x="4560" y="336"/>
                  <a:pt x="4184" y="168"/>
                </a:cubicBezTo>
                <a:cubicBezTo>
                  <a:pt x="3808" y="0"/>
                  <a:pt x="2640" y="168"/>
                  <a:pt x="2264" y="168"/>
                </a:cubicBezTo>
                <a:cubicBezTo>
                  <a:pt x="1888" y="168"/>
                  <a:pt x="2080" y="176"/>
                  <a:pt x="1928" y="168"/>
                </a:cubicBezTo>
                <a:close/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2057400"/>
            <a:ext cx="22860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6351480" y="2104920"/>
            <a:ext cx="6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430280" y="2753640"/>
            <a:ext cx="15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rchitek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2270880" y="256644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z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2875320" y="26190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ktio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25200">
            <a:off x="3468240" y="262836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od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4244760" y="2650320"/>
            <a:ext cx="7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l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4412520" y="263988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nstruktu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5115600" y="262476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k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5522760" y="2706840"/>
            <a:ext cx="12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uftragsmodu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13200">
            <a:off x="6550560" y="245664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10800">
            <a:off x="6728760" y="2338560"/>
            <a:ext cx="11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TML-Do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981080" y="1752480"/>
            <a:ext cx="670572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209680"/>
            <a:ext cx="5613480" cy="2819520"/>
          </a:xfrm>
          <a:custGeom>
            <a:avLst/>
            <a:gdLst/>
            <a:ahLst/>
            <a:rect l="l" t="t" r="r" b="b"/>
            <a:pathLst>
              <a:path w="3536" h="792">
                <a:moveTo>
                  <a:pt x="112" y="120"/>
                </a:moveTo>
                <a:cubicBezTo>
                  <a:pt x="120" y="144"/>
                  <a:pt x="128" y="136"/>
                  <a:pt x="112" y="168"/>
                </a:cubicBezTo>
                <a:cubicBezTo>
                  <a:pt x="96" y="200"/>
                  <a:pt x="0" y="280"/>
                  <a:pt x="16" y="312"/>
                </a:cubicBezTo>
                <a:cubicBezTo>
                  <a:pt x="32" y="344"/>
                  <a:pt x="168" y="312"/>
                  <a:pt x="208" y="360"/>
                </a:cubicBezTo>
                <a:cubicBezTo>
                  <a:pt x="248" y="408"/>
                  <a:pt x="200" y="552"/>
                  <a:pt x="256" y="600"/>
                </a:cubicBezTo>
                <a:cubicBezTo>
                  <a:pt x="312" y="648"/>
                  <a:pt x="464" y="624"/>
                  <a:pt x="544" y="648"/>
                </a:cubicBezTo>
                <a:cubicBezTo>
                  <a:pt x="624" y="672"/>
                  <a:pt x="656" y="744"/>
                  <a:pt x="736" y="744"/>
                </a:cubicBezTo>
                <a:cubicBezTo>
                  <a:pt x="816" y="744"/>
                  <a:pt x="928" y="640"/>
                  <a:pt x="1024" y="648"/>
                </a:cubicBezTo>
                <a:cubicBezTo>
                  <a:pt x="1120" y="656"/>
                  <a:pt x="1224" y="792"/>
                  <a:pt x="1312" y="792"/>
                </a:cubicBezTo>
                <a:cubicBezTo>
                  <a:pt x="1400" y="792"/>
                  <a:pt x="1464" y="656"/>
                  <a:pt x="1552" y="648"/>
                </a:cubicBezTo>
                <a:cubicBezTo>
                  <a:pt x="1640" y="640"/>
                  <a:pt x="1736" y="728"/>
                  <a:pt x="1840" y="744"/>
                </a:cubicBezTo>
                <a:cubicBezTo>
                  <a:pt x="1944" y="760"/>
                  <a:pt x="2080" y="776"/>
                  <a:pt x="2176" y="744"/>
                </a:cubicBezTo>
                <a:cubicBezTo>
                  <a:pt x="2272" y="712"/>
                  <a:pt x="2336" y="568"/>
                  <a:pt x="2416" y="552"/>
                </a:cubicBezTo>
                <a:cubicBezTo>
                  <a:pt x="2496" y="536"/>
                  <a:pt x="2568" y="616"/>
                  <a:pt x="2656" y="648"/>
                </a:cubicBezTo>
                <a:cubicBezTo>
                  <a:pt x="2744" y="680"/>
                  <a:pt x="2856" y="768"/>
                  <a:pt x="2944" y="744"/>
                </a:cubicBezTo>
                <a:cubicBezTo>
                  <a:pt x="3032" y="720"/>
                  <a:pt x="3088" y="560"/>
                  <a:pt x="3184" y="504"/>
                </a:cubicBezTo>
                <a:cubicBezTo>
                  <a:pt x="3280" y="448"/>
                  <a:pt x="3504" y="448"/>
                  <a:pt x="3520" y="408"/>
                </a:cubicBezTo>
                <a:cubicBezTo>
                  <a:pt x="3536" y="368"/>
                  <a:pt x="3408" y="320"/>
                  <a:pt x="3280" y="264"/>
                </a:cubicBezTo>
                <a:cubicBezTo>
                  <a:pt x="3152" y="208"/>
                  <a:pt x="2888" y="80"/>
                  <a:pt x="2752" y="72"/>
                </a:cubicBezTo>
                <a:cubicBezTo>
                  <a:pt x="2616" y="64"/>
                  <a:pt x="2568" y="216"/>
                  <a:pt x="2464" y="216"/>
                </a:cubicBezTo>
                <a:cubicBezTo>
                  <a:pt x="2360" y="216"/>
                  <a:pt x="2224" y="64"/>
                  <a:pt x="2128" y="72"/>
                </a:cubicBezTo>
                <a:cubicBezTo>
                  <a:pt x="2032" y="80"/>
                  <a:pt x="2000" y="248"/>
                  <a:pt x="1888" y="264"/>
                </a:cubicBezTo>
                <a:cubicBezTo>
                  <a:pt x="1776" y="280"/>
                  <a:pt x="1592" y="192"/>
                  <a:pt x="1456" y="168"/>
                </a:cubicBezTo>
                <a:cubicBezTo>
                  <a:pt x="1320" y="144"/>
                  <a:pt x="1200" y="120"/>
                  <a:pt x="1072" y="120"/>
                </a:cubicBezTo>
                <a:cubicBezTo>
                  <a:pt x="944" y="120"/>
                  <a:pt x="800" y="184"/>
                  <a:pt x="688" y="168"/>
                </a:cubicBezTo>
                <a:cubicBezTo>
                  <a:pt x="576" y="152"/>
                  <a:pt x="504" y="48"/>
                  <a:pt x="400" y="24"/>
                </a:cubicBezTo>
                <a:cubicBezTo>
                  <a:pt x="296" y="0"/>
                  <a:pt x="112" y="8"/>
                  <a:pt x="64" y="24"/>
                </a:cubicBezTo>
                <a:cubicBezTo>
                  <a:pt x="16" y="40"/>
                  <a:pt x="104" y="96"/>
                  <a:pt x="112" y="12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75248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strukturiertes Simulationsmod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6094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 Strategien bei der Modelldoku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2286000"/>
            <a:ext cx="381240" cy="1447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2286000"/>
            <a:ext cx="228600" cy="1295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286000"/>
            <a:ext cx="152640" cy="1523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2286000"/>
            <a:ext cx="2286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3657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286000"/>
            <a:ext cx="457200" cy="1447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286000"/>
            <a:ext cx="76320" cy="1523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2286000"/>
            <a:ext cx="1522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2286000"/>
            <a:ext cx="228600" cy="1523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49528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tlere Durchdringungstie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2286000"/>
            <a:ext cx="2286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2286000"/>
            <a:ext cx="759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28600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2286000"/>
            <a:ext cx="1526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2286000"/>
            <a:ext cx="2286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2286000"/>
            <a:ext cx="152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86600" y="2286000"/>
            <a:ext cx="228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67480" y="2286000"/>
            <a:ext cx="152640" cy="243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2286000"/>
            <a:ext cx="228600" cy="19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077320" y="2286000"/>
            <a:ext cx="7596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29600" y="2286000"/>
            <a:ext cx="228600" cy="175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8440" y="4952880"/>
            <a:ext cx="316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erflächliche“ Gesamtdoku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Schwerpunktdoku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315200" y="2057400"/>
            <a:ext cx="380880" cy="1905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1523880"/>
            <a:ext cx="670536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057400"/>
            <a:ext cx="304920" cy="1447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2057400"/>
            <a:ext cx="685800" cy="1143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2057400"/>
            <a:ext cx="152640" cy="17524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2057400"/>
            <a:ext cx="457200" cy="10666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2057400"/>
            <a:ext cx="304920" cy="1219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2057400"/>
            <a:ext cx="152280" cy="8380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15238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CCA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3124080"/>
            <a:ext cx="4572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14600" y="3200400"/>
            <a:ext cx="68580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2209680"/>
            <a:ext cx="152280" cy="2362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91320" y="2057400"/>
            <a:ext cx="380880" cy="2209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2057400"/>
            <a:ext cx="228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2057400"/>
            <a:ext cx="304920" cy="1981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24480" y="2057400"/>
            <a:ext cx="381240" cy="1676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2057400"/>
            <a:ext cx="152640" cy="1981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3280" y="2057400"/>
            <a:ext cx="228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63560" y="1714680"/>
            <a:ext cx="7239240" cy="3403440"/>
          </a:xfrm>
          <a:custGeom>
            <a:avLst/>
            <a:gdLst/>
            <a:ahLst/>
            <a:rect l="l" t="t" r="r" b="b"/>
            <a:pathLst>
              <a:path w="4560" h="2144">
                <a:moveTo>
                  <a:pt x="1928" y="168"/>
                </a:moveTo>
                <a:cubicBezTo>
                  <a:pt x="1776" y="160"/>
                  <a:pt x="1584" y="120"/>
                  <a:pt x="1352" y="120"/>
                </a:cubicBezTo>
                <a:cubicBezTo>
                  <a:pt x="1120" y="120"/>
                  <a:pt x="720" y="168"/>
                  <a:pt x="536" y="168"/>
                </a:cubicBezTo>
                <a:cubicBezTo>
                  <a:pt x="352" y="168"/>
                  <a:pt x="336" y="48"/>
                  <a:pt x="248" y="120"/>
                </a:cubicBezTo>
                <a:cubicBezTo>
                  <a:pt x="160" y="192"/>
                  <a:pt x="0" y="352"/>
                  <a:pt x="8" y="600"/>
                </a:cubicBezTo>
                <a:cubicBezTo>
                  <a:pt x="16" y="848"/>
                  <a:pt x="160" y="1416"/>
                  <a:pt x="296" y="1608"/>
                </a:cubicBezTo>
                <a:cubicBezTo>
                  <a:pt x="432" y="1800"/>
                  <a:pt x="640" y="1664"/>
                  <a:pt x="824" y="1752"/>
                </a:cubicBezTo>
                <a:cubicBezTo>
                  <a:pt x="1008" y="1840"/>
                  <a:pt x="1176" y="2128"/>
                  <a:pt x="1400" y="2136"/>
                </a:cubicBezTo>
                <a:cubicBezTo>
                  <a:pt x="1624" y="2144"/>
                  <a:pt x="1840" y="1816"/>
                  <a:pt x="2168" y="1800"/>
                </a:cubicBezTo>
                <a:cubicBezTo>
                  <a:pt x="2496" y="1784"/>
                  <a:pt x="3040" y="2064"/>
                  <a:pt x="3368" y="2040"/>
                </a:cubicBezTo>
                <a:cubicBezTo>
                  <a:pt x="3696" y="2016"/>
                  <a:pt x="3944" y="1800"/>
                  <a:pt x="4136" y="1656"/>
                </a:cubicBezTo>
                <a:cubicBezTo>
                  <a:pt x="4328" y="1512"/>
                  <a:pt x="4512" y="1424"/>
                  <a:pt x="4520" y="1176"/>
                </a:cubicBezTo>
                <a:cubicBezTo>
                  <a:pt x="4528" y="928"/>
                  <a:pt x="4560" y="336"/>
                  <a:pt x="4184" y="168"/>
                </a:cubicBezTo>
                <a:cubicBezTo>
                  <a:pt x="3808" y="0"/>
                  <a:pt x="2640" y="168"/>
                  <a:pt x="2264" y="168"/>
                </a:cubicBezTo>
                <a:cubicBezTo>
                  <a:pt x="1888" y="168"/>
                  <a:pt x="2080" y="176"/>
                  <a:pt x="1928" y="168"/>
                </a:cubicBezTo>
                <a:close/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5257800"/>
            <a:ext cx="1219320" cy="763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7400" y="5486400"/>
            <a:ext cx="1219320" cy="76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5715000"/>
            <a:ext cx="121932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51814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rhandene Dok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6094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sgangssituation Modelldoku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81680" y="5486400"/>
            <a:ext cx="635040" cy="431640"/>
          </a:xfrm>
          <a:custGeom>
            <a:avLst/>
            <a:gdLst/>
            <a:ahLst/>
            <a:rect l="l" t="t" r="r" b="b"/>
            <a:pathLst>
              <a:path w="400" h="272">
                <a:moveTo>
                  <a:pt x="152" y="72"/>
                </a:moveTo>
                <a:cubicBezTo>
                  <a:pt x="128" y="80"/>
                  <a:pt x="80" y="104"/>
                  <a:pt x="56" y="120"/>
                </a:cubicBezTo>
                <a:cubicBezTo>
                  <a:pt x="32" y="136"/>
                  <a:pt x="0" y="144"/>
                  <a:pt x="8" y="168"/>
                </a:cubicBezTo>
                <a:cubicBezTo>
                  <a:pt x="16" y="192"/>
                  <a:pt x="72" y="256"/>
                  <a:pt x="104" y="264"/>
                </a:cubicBezTo>
                <a:cubicBezTo>
                  <a:pt x="136" y="272"/>
                  <a:pt x="168" y="216"/>
                  <a:pt x="200" y="216"/>
                </a:cubicBezTo>
                <a:cubicBezTo>
                  <a:pt x="232" y="216"/>
                  <a:pt x="264" y="272"/>
                  <a:pt x="296" y="264"/>
                </a:cubicBezTo>
                <a:cubicBezTo>
                  <a:pt x="328" y="256"/>
                  <a:pt x="384" y="208"/>
                  <a:pt x="392" y="168"/>
                </a:cubicBezTo>
                <a:cubicBezTo>
                  <a:pt x="400" y="128"/>
                  <a:pt x="368" y="48"/>
                  <a:pt x="344" y="24"/>
                </a:cubicBezTo>
                <a:cubicBezTo>
                  <a:pt x="320" y="0"/>
                  <a:pt x="272" y="16"/>
                  <a:pt x="248" y="24"/>
                </a:cubicBezTo>
                <a:cubicBezTo>
                  <a:pt x="224" y="32"/>
                  <a:pt x="216" y="64"/>
                  <a:pt x="200" y="72"/>
                </a:cubicBezTo>
                <a:cubicBezTo>
                  <a:pt x="184" y="80"/>
                  <a:pt x="176" y="64"/>
                  <a:pt x="152" y="72"/>
                </a:cubicBezTo>
                <a:close/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67480" y="5181480"/>
            <a:ext cx="14479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Globale Analyse und Dokumentation durch UniBw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chwerpunk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ichtfunktiona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Anforderun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2057400"/>
            <a:ext cx="2286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5943600"/>
            <a:ext cx="1219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541008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rgänzende Dokumentation durch IAB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563868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Ergänzende Detail-/Moduldokumentation durch UniBw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29000" y="58672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hlende/Unvollständige Dok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584080" y="24364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102920" y="2300040"/>
            <a:ext cx="93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zenari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4765320" y="24778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7200">
            <a:off x="5335560" y="28353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rchitekt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6076800" y="268812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wer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6192200">
            <a:off x="3176280" y="290340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t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2962080" y="279144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Aus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6010560" y="283356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gänzung User 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8320" y="3048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20800" y="3048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40320" y="3962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981080" y="8380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onderheiten von MOC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1523880"/>
            <a:ext cx="678204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Das Simulationsmodell hat eine überwiegend technologische Ba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Waffentechnik, Flugdynamik, Sensorik, Leitsysteme us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Daraus allein resultiert schon eine umfassende technische Dokumentation der Einflußgröß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Das Modell ist deshalb in wesentlichen Komponenten determinier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Durch die Trennung in technische und taktische Module ergibt sich zwangsläufig eine Strukturierung des Mode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828800" y="914400"/>
            <a:ext cx="685152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zeitige Defizite von MOC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Die Einzelfunktionalitäten werden zwar bei den Qualitätstests ab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geprüft und dokumentiert. Das Modellverhalten ist damit aber fü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bestimmte Szenarien nicht unbedingt eindeutig reproduzierb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Mit repräsentativen </a:t>
            </a:r>
            <a:r>
              <a:rPr b="0" i="1" lang="de-DE" sz="2000" spc="-1" strike="noStrike">
                <a:solidFill>
                  <a:srgbClr val="3333cc"/>
                </a:solidFill>
                <a:latin typeface="Times New Roman"/>
              </a:rPr>
              <a:t>mini games</a:t>
            </a: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sind Entscheidungsstrategi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zu veranschauli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Unsicherheiten in der Modellbewertung entstehen noch dadurc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daß taktische Elemente, Entscheidungstrategien und Analy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(z.B. Clusterbewertungen) noch nicht dokumentiert si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feiffer_1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4051440" cy="5743800"/>
          </a:xfrm>
          <a:prstGeom prst="rect">
            <a:avLst/>
          </a:prstGeom>
          <a:ln w="0">
            <a:noFill/>
          </a:ln>
        </p:spPr>
      </p:pic>
      <p:pic>
        <p:nvPicPr>
          <p:cNvPr id="314" name="pic01" descr=""/>
          <p:cNvPicPr/>
          <p:nvPr/>
        </p:nvPicPr>
        <p:blipFill>
          <a:blip r:embed="rId2"/>
          <a:stretch/>
        </p:blipFill>
        <p:spPr>
          <a:xfrm>
            <a:off x="6629400" y="2133720"/>
            <a:ext cx="2133720" cy="2063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943600" y="31240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81080" y="11430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609480"/>
            <a:ext cx="7543800" cy="38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ftwareentwicklung = Ingenieurarbe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Civil Enginee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Planen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     Entwerfen/Konstruieren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        Bau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Software Enginee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Planen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     Entwerfen/Konstruieren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        Co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19810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19810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41148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41148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772400" y="1676160"/>
            <a:ext cx="0" cy="228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52880" y="1676520"/>
            <a:ext cx="28195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1676520"/>
            <a:ext cx="0" cy="2286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809880"/>
            <a:ext cx="281952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3809880"/>
            <a:ext cx="0" cy="228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3809880"/>
            <a:ext cx="0" cy="2286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2362320"/>
            <a:ext cx="2286000" cy="1066680"/>
          </a:xfrm>
          <a:prstGeom prst="rightArrowCallout">
            <a:avLst>
              <a:gd name="adj1" fmla="val 12501"/>
              <a:gd name="adj2" fmla="val 13394"/>
              <a:gd name="adj3" fmla="val 36909"/>
              <a:gd name="adj4" fmla="val 76514"/>
            </a:avLst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27432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Dok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4495680"/>
            <a:ext cx="3276720" cy="1295640"/>
          </a:xfrm>
          <a:prstGeom prst="rightArrowCallout">
            <a:avLst>
              <a:gd name="adj1" fmla="val 5880"/>
              <a:gd name="adj2" fmla="val 10296"/>
              <a:gd name="adj3" fmla="val 26836"/>
              <a:gd name="adj4" fmla="val 85106"/>
            </a:avLst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4419720"/>
            <a:ext cx="1752840" cy="533160"/>
          </a:xfrm>
          <a:prstGeom prst="downArrowCallout">
            <a:avLst>
              <a:gd name="adj1" fmla="val 10716"/>
              <a:gd name="adj2" fmla="val 19650"/>
              <a:gd name="adj3" fmla="val 20833"/>
              <a:gd name="adj4" fmla="val 64287"/>
            </a:avLst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438280"/>
            <a:ext cx="16761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Übersichtsplä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usführungsplä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tückli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560" y="4495680"/>
            <a:ext cx="2783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Hierarchie-/Aufrufdia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Flußdiagramme/Strukt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Datenstrukturdia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User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3520" y="4419720"/>
            <a:ext cx="16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enutzeran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89120" y="495288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Dok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4320" y="5867280"/>
            <a:ext cx="50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Zeitansatz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              n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aufbau_abs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316560" cy="4640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276720" y="55627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komponenten von 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grundmodell" descr=""/>
          <p:cNvPicPr/>
          <p:nvPr/>
        </p:nvPicPr>
        <p:blipFill>
          <a:blip r:embed="rId1"/>
          <a:stretch/>
        </p:blipFill>
        <p:spPr>
          <a:xfrm>
            <a:off x="2438280" y="609480"/>
            <a:ext cx="41036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fautomat_abs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6019920" cy="4773600"/>
          </a:xfrm>
          <a:prstGeom prst="rect">
            <a:avLst/>
          </a:prstGeom>
          <a:ln w="0">
            <a:noFill/>
          </a:ln>
        </p:spPr>
      </p:pic>
      <p:pic>
        <p:nvPicPr>
          <p:cNvPr id="320" name="pic04" descr=""/>
          <p:cNvPicPr/>
          <p:nvPr/>
        </p:nvPicPr>
        <p:blipFill>
          <a:blip r:embed="rId2"/>
          <a:stretch/>
        </p:blipFill>
        <p:spPr>
          <a:xfrm>
            <a:off x="2286000" y="5334120"/>
            <a:ext cx="48387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94000" y="2233440"/>
            <a:ext cx="6570360" cy="3445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70160" y="2543040"/>
            <a:ext cx="1389240" cy="411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nsatzele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87520" y="404640"/>
            <a:ext cx="6576840" cy="183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01880" y="693720"/>
            <a:ext cx="1683000" cy="3794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fehlsgeb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Nutz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95520" y="1281240"/>
            <a:ext cx="2303640" cy="6951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ührungsproze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73640" y="3579840"/>
            <a:ext cx="1235160" cy="41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iedsrich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hi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96000" y="2863800"/>
            <a:ext cx="1376280" cy="46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fklä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5040" y="3659040"/>
            <a:ext cx="1365120" cy="482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weg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73360" y="3651120"/>
            <a:ext cx="1403280" cy="506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uerkam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19600" y="4419720"/>
            <a:ext cx="2612880" cy="799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lzust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esamtzustand der Simulationsobjek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32" idx="3"/>
            <a:endCxn id="327" idx="2"/>
          </p:cNvCxnSpPr>
          <p:nvPr/>
        </p:nvCxnSpPr>
        <p:spPr>
          <a:xfrm>
            <a:off x="5183280" y="309672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3" name=""/>
          <p:cNvCxnSpPr>
            <a:stCxn id="324" idx="2"/>
            <a:endCxn id="325" idx="0"/>
          </p:cNvCxnSpPr>
          <p:nvPr/>
        </p:nvCxnSpPr>
        <p:spPr>
          <a:xfrm>
            <a:off x="4543200" y="1073160"/>
            <a:ext cx="540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 flipH="1">
            <a:off x="3949200" y="1971720"/>
            <a:ext cx="397080" cy="57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537160" y="3993840"/>
            <a:ext cx="363600" cy="44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46440" y="4133880"/>
            <a:ext cx="260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8280" y="4067280"/>
            <a:ext cx="132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965320" y="3298680"/>
            <a:ext cx="14781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351320" y="3294000"/>
            <a:ext cx="139680" cy="37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19720" y="46188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ührungsproze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91080" y="533412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mpfhandlungsproze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28" idx="6"/>
            <a:endCxn id="329" idx="2"/>
          </p:cNvCxnSpPr>
          <p:nvPr/>
        </p:nvCxnSpPr>
        <p:spPr>
          <a:xfrm>
            <a:off x="3170160" y="3900240"/>
            <a:ext cx="403920" cy="5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4489560" y="107172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f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7615400">
            <a:off x="3524760" y="205956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igene Lage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indl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13560" y="3579840"/>
            <a:ext cx="1185840" cy="4125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lä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38440" y="2709720"/>
            <a:ext cx="1363680" cy="411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nsatzele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040" y="2892600"/>
            <a:ext cx="1389240" cy="411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nsatzele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30" idx="7"/>
            <a:endCxn id="345" idx="2"/>
          </p:cNvCxnSpPr>
          <p:nvPr/>
        </p:nvCxnSpPr>
        <p:spPr>
          <a:xfrm flipV="1">
            <a:off x="6049440" y="3991680"/>
            <a:ext cx="115776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 flipH="1" flipV="1">
            <a:off x="6737400" y="3314880"/>
            <a:ext cx="428400" cy="26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923080" y="3314880"/>
            <a:ext cx="312480" cy="26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106880" y="1969920"/>
            <a:ext cx="63360" cy="828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73960" y="5789520"/>
            <a:ext cx="37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uktur des Kampfhandlungsproz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bew_struktur_abs_neu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5341680" cy="56214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971800" y="57913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 des Bewegungsmod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feuer_struktur_abs_neu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437000" cy="559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5867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uktur des Feuerkampfmod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mocca_kompon_abs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6145200" cy="52372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971800" y="56386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komponenten von MOCCA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Mocca_grundmodell_abs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908600" cy="4908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048120" y="55627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undmodell von MOCCA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1676520" y="152280"/>
          <a:ext cx="55324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280"/>
                    <a:ext cx="55324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mocca_sb_kalender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6838920" cy="49622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593440" y="5638680"/>
            <a:ext cx="464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mbol-/Referenztabelle eines MOCCA II-Modu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92200" y="380880"/>
            <a:ext cx="76518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Weitere Analogi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i der Planung eines Bauwerkes werden maßgeblich die Folge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späteren Nutzung implizit festg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1800" spc="-1" strike="noStrike">
                <a:solidFill>
                  <a:srgbClr val="ff0066"/>
                </a:solidFill>
                <a:latin typeface="Times New Roman"/>
              </a:rPr>
              <a:t>Bei Planung/Entwurf von Software werden maßgeblich die Eins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de-DE" sz="1800" spc="-1" strike="noStrike">
                <a:solidFill>
                  <a:srgbClr val="ff0066"/>
                </a:solidFill>
                <a:latin typeface="Times New Roman"/>
              </a:rPr>
              <a:t>potentiale für die spätere Programmpflege/Weiterentwicklung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de-DE" sz="1800" spc="-1" strike="noStrike">
                <a:solidFill>
                  <a:srgbClr val="ff0066"/>
                </a:solidFill>
                <a:latin typeface="Times New Roman"/>
              </a:rPr>
              <a:t>Wiederverwendung usw. festg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e Funktionalität/Korrektheit eines Bauwerkes kann schon i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lanungsstadium in virtual reality Simulationen geprüf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1800" spc="-1" strike="noStrike">
                <a:solidFill>
                  <a:srgbClr val="ff0066"/>
                </a:solidFill>
                <a:latin typeface="Times New Roman"/>
              </a:rPr>
              <a:t>Die Funktionalität/Korrektheit von Softwarekonzepten (Architektu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de-DE" sz="1800" spc="-1" strike="noStrike">
                <a:solidFill>
                  <a:srgbClr val="ff0066"/>
                </a:solidFill>
                <a:latin typeface="Times New Roman"/>
              </a:rPr>
              <a:t>Ablaufstrukturen, Datenkonsistenz usw.) kann man schon vor 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de-DE" sz="1800" spc="-1" strike="noStrike">
                <a:solidFill>
                  <a:srgbClr val="ff0066"/>
                </a:solidFill>
                <a:latin typeface="Times New Roman"/>
              </a:rPr>
              <a:t>Codierung mit Spezifikationssystemen analysieren.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uplanung: Die Funktion bestimmt die 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1800" spc="-1" strike="noStrike">
                <a:solidFill>
                  <a:srgbClr val="ff0066"/>
                </a:solidFill>
                <a:latin typeface="Times New Roman"/>
              </a:rPr>
              <a:t>Softwareentwurf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ff0066"/>
                </a:solidFill>
                <a:latin typeface="Times New Roman"/>
              </a:rPr>
              <a:t>Architekturzentriertes Entwickeln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240" y="1905120"/>
          <a:ext cx="352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240" y="1905120"/>
                    <a:ext cx="352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371240" y="3809880"/>
          <a:ext cx="35244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240" y="3809880"/>
                    <a:ext cx="352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371240" y="5181480"/>
          <a:ext cx="35244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240" y="5181480"/>
                    <a:ext cx="352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mocca_hierarchie" descr=""/>
          <p:cNvPicPr/>
          <p:nvPr/>
        </p:nvPicPr>
        <p:blipFill>
          <a:blip r:embed="rId1"/>
          <a:stretch/>
        </p:blipFill>
        <p:spPr>
          <a:xfrm>
            <a:off x="2249640" y="228600"/>
            <a:ext cx="5292720" cy="56386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971800" y="586728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gramm einer Vererbungshierarch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mocca_job_sim_neu2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6229440" cy="5661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71800" y="57913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oss-Referenz-Diagramm (Call-Grap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horus_proto_easycase_risc_of_proto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919840" cy="56898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971800" y="58672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uktogramm einer HORUS-Fun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da_c_horus_riscofproto_strukto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7239240" cy="5527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057400" y="57913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 Struktogrammdarstellung eines anderen Werkzeu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da_c_horus_riscofproto_flowchar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7086600" cy="54165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971800" y="571500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ßdiagramm einer HORUS-Fun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00200" y="838080"/>
            <a:ext cx="7238880" cy="47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Grenzen des Reverse Enginee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Eine umfassende Codeanalyse ist nur auf der Basis </a:t>
            </a:r>
            <a:r>
              <a:rPr b="0" lang="de-DE" sz="2000" spc="-1" strike="noStrike">
                <a:solidFill>
                  <a:srgbClr val="ff0066"/>
                </a:solidFill>
                <a:latin typeface="Times New Roman"/>
              </a:rPr>
              <a:t>aller Programm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Times New Roman"/>
              </a:rPr>
              <a:t>quellen </a:t>
            </a: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möglich. Der Einsatz einiger Tools scheitert, wenn nur Programmteile zur Verfügung steh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Reverse Engineering liefert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ff0066"/>
                </a:solidFill>
                <a:latin typeface="Times New Roman"/>
              </a:rPr>
              <a:t>vorwiegend statische Analysen</a:t>
            </a: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, d.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Aussagen über das Laufzeitverhalten, die Effizienz von Algorithmen, Optimierungsmöglichkeiten und andere nichtfunktionale Anforderungen sind kaum mögl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Die Werkzeuge und Tools für Reverse Engineering haben unt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schiedliche Ausprägungen und Leistungsmerkmale. Nur mit einer Kombination verschiedener Auswertesysteme lassen sich die um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fangreichen Modelle analys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676520" y="762120"/>
            <a:ext cx="701028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Grenzen des Reverse Engineering (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Reverse Engineering kann zwar die Programm- und Daten- strukturen darstellen, das ursprüngliche Modellkonzept oder verschiedene Implementierungsabsichten können aber nicht nachvollzogen werden. Eine Systemanalyse beschreibt nur den aktuellen Modellzustand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Modellgrenzen können nur in Mini Games oder Benchmarks ermittelt werden, wobei nicht sichergestellt ist, daß man damit alle Problemfälle erfaßt 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600200" y="457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Anfangsprobleme bei der Bearbeitung der Studie:  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00200" y="1143000"/>
            <a:ext cx="723888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Auf die Auswahl der zu bearbeitenden Simulationsmodelle 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haben wir keinen Einfluß nehmen können, d.h. die Besonder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heiten der Modelle, ihre Mächtigkeit und ihre Grundkonzepte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waren uns nicht bekannt. Wir konnten deshalb auch nicht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bestimmte Bearbeitungsstrategien vorauspla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Bei den Entwicklern waren z.T. erst „vertrauensbildende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Maßnahmen“ erforderlich, bis wir nicht mehr als „Konkurrenten“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angesehen wurden und die Bereitschaft bestand, Modellinterna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offenzule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Die Modellersteller und Bearbeiter der Komplementärstudien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hatten zunächst keine Vorstellungen über ihre Zuarbeitsfunktion,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d.h. es gab z.B. keine aktuellen Übersichten über alle bisherigen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Veröffentlichungen und Dokumentationen zu den Modellen, der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Zugang zu den Programmquellen war in keiner Weise vorgeklär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661760" y="838080"/>
            <a:ext cx="57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Times New Roman"/>
              </a:rPr>
              <a:t>Anfangsprobleme bei der Bearbeitung der Studie:  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1523880"/>
            <a:ext cx="5791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76520" y="1523880"/>
            <a:ext cx="70102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In mehreren Vorgesprächen und Erörterungen offenbarten sich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unterschiedliche Vorstellungen, was eigentlich in welcher Form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und in welchem Umfang zu dokumentieren sei. Hier mußten erst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einmal gemeinsame Zielvorstellungen und Begriffsbildungen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entwickel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817640" y="6094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Probleme während der Studienbearbeitu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52480" y="1295280"/>
            <a:ext cx="701064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Die vorgesehenen Studienziele waren nur mit Analysetools zu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erreichen. Die Leistungsfähigkeit verschiedener Tools war nicht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von Anfang an bekannt und mußte erst erprob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Für ADA-Programmsysteme gibt es nur eine geringe Auswahl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an Analysesoft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Programmquellen wurden nicht in einem Schub freigegeben 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sondern successive, z.T. auch erst auf mehrfaches Drängen.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Dadurch mußten einige Analysen wiederho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Von keinem Simulationsmodell stand der komplette Quellcode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zur Verfügung. Er wurde z.T. zurückgehalten,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&gt; weil er aus anderen Firmenentwicklungen übernommen wurde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oder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&gt; weil eingestufte Informationen verarbeitet wu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97080" y="990720"/>
            <a:ext cx="63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ten der Softwareentwickl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entwurf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5909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1905120"/>
            <a:ext cx="1600200" cy="1676160"/>
          </a:xfrm>
          <a:prstGeom prst="line">
            <a:avLst/>
          </a:prstGeom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28800" y="1828800"/>
            <a:ext cx="1371600" cy="1905120"/>
          </a:xfrm>
          <a:prstGeom prst="line">
            <a:avLst/>
          </a:prstGeom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343400" y="1523880"/>
          <a:ext cx="123336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523880"/>
                    <a:ext cx="12333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296000" y="426708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pid Prototyping, 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2760" y="495288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eme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5960" y="4495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66"/>
                </a:solidFill>
                <a:latin typeface="Times New Roman"/>
              </a:rPr>
              <a:t>quick and dirty?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495680"/>
            <a:ext cx="91440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572000" y="4952520"/>
            <a:ext cx="9144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10560" y="609480"/>
            <a:ext cx="50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Probleme während der Studienbearbeitung:  (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3880" y="1295280"/>
            <a:ext cx="72392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Ohne vollständigen Quellcode bzw. ohne die Möglichkeit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Laufzeitvarianten zu erzeugen, war ein Teil der Studienziele nicht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zu realisieren 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(z.B. Metriken, Portierbarkeit, Performance, Stabilitä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Von MOCCA konnte bei dem Auftragnehmer keine lauffähige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Version installiert werden, was systematische Analysen und Tests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erschwe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738800" y="838080"/>
            <a:ext cx="48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Künftige Dokumentationsanforderungen:  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1447920"/>
            <a:ext cx="7162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Für jede Phase einer Modellentwicklung sind die Requirements 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festzuschreiben und falls diese dynamisch erarbeitet werden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fortlaufend zu dokumentieren. Die Entwicklungsvorgaben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müssen jederzeit reproduzierbar sein, um bestimmte Modell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ausprägungen evaluieren zu können. 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Die Systemspezifikationen sind auch die Basis für die Erarbeitung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von Testfällen und für ein ggf. erforderliches Reenginee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Auch für Modelle, die als Experimentalmodelle begonnen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werden, ist von Anfang an eine umfassende Dokumentation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zu ford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Aus der Vielfalt der möglichen Dokumentationsformen ist eine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verbindliche Teilmenge zu definieren, die generell zum Leistungs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umfang gehören so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662840" y="838080"/>
            <a:ext cx="48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Künftige Dokumentationsanforderungen:  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1600200"/>
            <a:ext cx="723888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Für jedes Simulationsmodell ist ein klares Release-Management 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erforderlich und jeweils nach Abschluß eines Entwicklungs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auftrages ist eine lauffähige Modellversion an den Auftraggeber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auszuhändigen. Pseudo-Lieferungen in Form von Präsentationen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oder Nachweisen der Funktionsfähigkeit z.B. bei Übungen,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widersprechen allen Regularien der Lieferung eines Werk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ff0066"/>
                </a:solidFill>
                <a:latin typeface="Times New Roman"/>
              </a:rPr>
              <a:t>Es kann auch nicht im Sinne des Auftraggebers sein, daß ein von </a:t>
            </a:r>
            <a:br>
              <a:rPr sz="2000"/>
            </a:br>
            <a:r>
              <a:rPr b="0" lang="de-DE" sz="2000" spc="-1" strike="noStrike">
                <a:solidFill>
                  <a:srgbClr val="ff0066"/>
                </a:solidFill>
                <a:latin typeface="Times New Roman"/>
              </a:rPr>
              <a:t>  ihm in Auftrag gegebenes Modell nur in einer bestimmten Firmen-</a:t>
            </a:r>
            <a:br>
              <a:rPr sz="2000"/>
            </a:br>
            <a:r>
              <a:rPr b="0" lang="de-DE" sz="2000" spc="-1" strike="noStrike">
                <a:solidFill>
                  <a:srgbClr val="ff0066"/>
                </a:solidFill>
                <a:latin typeface="Times New Roman"/>
              </a:rPr>
              <a:t>  umgebung lauffähig is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Der Auftraggeber hat grundsätzlich Anspruch auf alle Quellen 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der von ihm in Auftrag gegebenen Softwareentwicklung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(Individualsoftware)! Mit der Auslieferung der Software, sind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deshalb auch diese Quellen unaufgefordert zu überg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586520" y="838080"/>
            <a:ext cx="48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Künftige Dokumentationsanforderungen:  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1447920"/>
            <a:ext cx="71629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Da die militärfachlichen Studienbegleiter immer wieder wechseln, 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ist der Auftraggeber in einer Modell-Zustandsdokumentation zu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unterstützen (s.o.), um das Aufkommen von Unklarheiten über den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aktuellen Entwicklungsstand zu unterbin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Es sollte permanent ein repräsentativer Satz von Szenarien und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Testfällen zur Verfügung stehen, der querschnittsartig die Modell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funktionen darstellt. Mit diesen Testszenarien sollten bestimmte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Modellausprägungen nachvollziehbar, Modellantworten variier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bar und Modellgrenzen auslotbar se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738800" y="838080"/>
            <a:ext cx="48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Künftige Dokumentationsanforderungen:  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28800" y="1447920"/>
            <a:ext cx="68580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Sofern in eine Modellentwicklung Komponenten eingehen,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die von anderen Projekten übernommen werden (z.B. firmen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interner Methodenpool), liegt also u.U. eine Fremd- oder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Mischfinanzierung vor, so ist der Auftraggeber möglichst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frühzeitig über diese Einbindung in Kenntnis zu setzen.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Insbesondere sind nach Abschluß eines Entwicklungsabschnitts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mit der definierten Modellübergabe (s.o.) auch eindeutige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Verweise auf die Fremdanteile zu liefer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Die Selbsterklärungsfähigkeit des Codes, wie sie mit heutigen 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Programmiertools unterstützt wird, muß gefordert werden, z.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&gt; Konsequent mnemotechnische Bezeichnungen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&gt; übersichtliche Codestrukturierung, Typdeklarationen usw.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&gt; Konventionen über Dateninitialisie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38800" y="762120"/>
            <a:ext cx="48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Künftige Dokumentationsanforderungen:  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76520" y="1523880"/>
            <a:ext cx="6705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- Es ist Vorsorge zu treffen, daß das Modellwissen auf eine 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breitere Basis von Entwicklern verteilt wird, um Abhängig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keiten von einzelnen Personen auszuschließ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Individualentwicklungen mit der Modell-Alleinverantwortung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Einzelner sind anachronistisch und dürfen weder vom Auf-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traggeber noch den Verantwortlichen des Auftragnehmers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imes New Roman"/>
              </a:rPr>
              <a:t>  geduld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3962520"/>
            <a:ext cx="7696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rsach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&gt;  Unklare/unvollständige Spezifikation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&gt;  Komplexität der Aufgabenstellung wird nicht hinreichend ausgelotet/erkan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&gt;  Methoden des Software-Engineerings (Abstraktionsprozesse) werden nicht beherrsch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&gt;  Nutzen der Dokumentation wird verkannt. Mit dem vorschnellen Argument der 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chränkt man sich auf wenige ausgewählte Dokumentation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727200"/>
            <a:ext cx="637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arianten der Softwareentwickl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228600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loud"/>
          <p:cNvSpPr/>
          <p:nvPr/>
        </p:nvSpPr>
        <p:spPr>
          <a:xfrm rot="3000">
            <a:off x="1371600" y="1447920"/>
            <a:ext cx="4422600" cy="22064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83808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verse Engine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legacy, undocumen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74320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2362320"/>
            <a:ext cx="1066680" cy="30456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2971800"/>
            <a:ext cx="762120" cy="38088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657600"/>
            <a:ext cx="1066680" cy="30492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9" idx="2"/>
            <a:endCxn id="140" idx="0"/>
          </p:cNvCxnSpPr>
          <p:nvPr/>
        </p:nvCxnSpPr>
        <p:spPr>
          <a:xfrm>
            <a:off x="2819160" y="26665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2"/>
            <a:endCxn id="141" idx="0"/>
          </p:cNvCxnSpPr>
          <p:nvPr/>
        </p:nvCxnSpPr>
        <p:spPr>
          <a:xfrm>
            <a:off x="2819160" y="33523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40" idx="3"/>
            <a:endCxn id="145" idx="1"/>
          </p:cNvCxnSpPr>
          <p:nvPr/>
        </p:nvCxnSpPr>
        <p:spPr>
          <a:xfrm>
            <a:off x="3200400" y="3162240"/>
            <a:ext cx="95328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2286000" y="1752480"/>
            <a:ext cx="1066680" cy="304920"/>
          </a:xfrm>
          <a:prstGeom prst="flowChartTerminator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2"/>
            <a:endCxn id="139" idx="0"/>
          </p:cNvCxnSpPr>
          <p:nvPr/>
        </p:nvCxnSpPr>
        <p:spPr>
          <a:xfrm>
            <a:off x="2819160" y="2057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3581280" y="3657600"/>
            <a:ext cx="1143000" cy="304920"/>
          </a:xfrm>
          <a:prstGeom prst="flowChartInputOutpu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4495680"/>
            <a:ext cx="1066680" cy="304920"/>
          </a:xfrm>
          <a:prstGeom prst="flowChartTerminator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1" idx="2"/>
            <a:endCxn id="148" idx="0"/>
          </p:cNvCxnSpPr>
          <p:nvPr/>
        </p:nvCxnSpPr>
        <p:spPr>
          <a:xfrm flipV="1" rot="10800000">
            <a:off x="2818800" y="3962160"/>
            <a:ext cx="10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5" idx="4"/>
          </p:cNvCxnSpPr>
          <p:nvPr/>
        </p:nvCxnSpPr>
        <p:spPr>
          <a:xfrm rot="5400000">
            <a:off x="3371400" y="3409920"/>
            <a:ext cx="2293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Cloud"/>
          <p:cNvSpPr/>
          <p:nvPr/>
        </p:nvSpPr>
        <p:spPr>
          <a:xfrm>
            <a:off x="914400" y="1752480"/>
            <a:ext cx="4419720" cy="2667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743200" y="510480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-360 h 533160"/>
              <a:gd name="textAreaBottom" fmla="*/ 5331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03" stAng="10800000" swAng="5400000"/>
                <a:lnTo>
                  <a:pt x="16706" y="2957"/>
                </a:lnTo>
                <a:lnTo>
                  <a:pt x="16706" y="0"/>
                </a:lnTo>
                <a:lnTo>
                  <a:pt x="21600" y="6079"/>
                </a:lnTo>
                <a:lnTo>
                  <a:pt x="16706" y="12158"/>
                </a:lnTo>
                <a:lnTo>
                  <a:pt x="16706" y="9201"/>
                </a:lnTo>
                <a:lnTo>
                  <a:pt x="12427" y="9201"/>
                </a:lnTo>
                <a:arcTo wR="6183" hR="2959" stAng="16200000" swAng="-5400000"/>
                <a:lnTo>
                  <a:pt x="6244" y="216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54100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1960" y="52578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engine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4400" y="52578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e Modellarchite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23320" y="685800"/>
            <a:ext cx="3571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he process of analyzing a subject system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dentify the system‘s components and th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terrelationships and create representation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he system in another form or at a higher lev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of abstraction.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19520" y="914400"/>
            <a:ext cx="2438280" cy="1371600"/>
          </a:xfrm>
          <a:prstGeom prst="rightArrow">
            <a:avLst>
              <a:gd name="adj1" fmla="val 50000"/>
              <a:gd name="adj2" fmla="val 4444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wenderanforder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ntwicklungsz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914400"/>
            <a:ext cx="281952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issensakqui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achtechnische Spezifiaktionen als Pflichtenheft (statis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quirement-Managementsystem (dynamis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aten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zenarie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200400"/>
            <a:ext cx="731520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27432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37339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lbi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581280"/>
            <a:ext cx="28195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usammenstellung 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Grundla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Method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Theori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286000"/>
            <a:ext cx="3276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Times New Roman"/>
              </a:rPr>
              <a:t>Primäre Dokumentationszie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Verbesserung einer Evaluation </a:t>
            </a:r>
            <a:br>
              <a:rPr sz="1400"/>
            </a:b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     der Systemantwor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27432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5410080"/>
            <a:ext cx="723888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876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Times New Roman"/>
              </a:rPr>
              <a:t>Aktualität/Effizienz der Methoden/Algorithmen prüf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3049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asserfallmodel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53341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3124080"/>
            <a:ext cx="259056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wenderschnitts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124080" y="1143000"/>
            <a:ext cx="2438640" cy="609480"/>
          </a:xfrm>
          <a:prstGeom prst="rightArrow">
            <a:avLst>
              <a:gd name="adj1" fmla="val 50000"/>
              <a:gd name="adj2" fmla="val 1000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ierung 1. Stu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838080"/>
            <a:ext cx="28195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stlegung der Datenstruktu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Programmstruktur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atenstruktur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Schnitt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formanceplanung fü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gorithm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aten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3124080"/>
            <a:ext cx="480060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205740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Reverse Engineering:</a:t>
            </a:r>
            <a:br>
              <a:rPr sz="1400"/>
            </a:b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   - Dokumentation der Programm-/Datenstrukturen </a:t>
            </a:r>
            <a:br>
              <a:rPr sz="1400"/>
            </a:b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   - Dokumentation der Schnittstellen</a:t>
            </a:r>
            <a:br>
              <a:rPr sz="1400"/>
            </a:b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   - Analyse der Optimierungsmöglichkei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685800"/>
            <a:ext cx="723888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3352680"/>
            <a:ext cx="2438280" cy="838440"/>
          </a:xfrm>
          <a:prstGeom prst="rightArrow">
            <a:avLst>
              <a:gd name="adj1" fmla="val 50000"/>
              <a:gd name="adj2" fmla="val 7270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ierung 2. Stuf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dieru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28195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cc33"/>
                </a:solidFill>
                <a:latin typeface="Times New Roman"/>
              </a:rPr>
              <a:t>Hardware/Software-</a:t>
            </a:r>
            <a:br>
              <a:rPr sz="1400"/>
            </a:br>
            <a:r>
              <a:rPr b="0" lang="de-DE" sz="1400" spc="-1" strike="noStrike">
                <a:solidFill>
                  <a:srgbClr val="33cc33"/>
                </a:solidFill>
                <a:latin typeface="Times New Roman"/>
              </a:rPr>
              <a:t>Abstraction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3124080"/>
            <a:ext cx="99036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358128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swahl der Sprachen/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4114800"/>
            <a:ext cx="27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Codeanalyse statisch/dynamisch:</a:t>
            </a:r>
            <a:br>
              <a:rPr sz="1400"/>
            </a:b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- Einhaltung von Standards</a:t>
            </a:r>
            <a:br>
              <a:rPr sz="1400"/>
            </a:b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- Portierbarkeit</a:t>
            </a:r>
            <a:br>
              <a:rPr sz="1400"/>
            </a:b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- Performanceanaly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5029200"/>
            <a:ext cx="746784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5105520"/>
            <a:ext cx="7162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Times New Roman"/>
              </a:rPr>
              <a:t>Sekundäre Dokumentationszie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- Bewertung der Wiederverwendbarkeit </a:t>
            </a:r>
            <a:br>
              <a:rPr sz="1400"/>
            </a:b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ff0066"/>
                </a:solidFill>
                <a:latin typeface="Times New Roman"/>
              </a:rPr>
              <a:t>        - Zukunftsfähigkeit: C/S, Objektorientierung, Komponententechnologie, H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3049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Primäre Dokumentationszie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52480" y="762120"/>
            <a:ext cx="71629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tiv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Machbarkeitsstud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Ist mit vertretbarem Aufwand eine aussagefähige,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nachträgliche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 Dokumentation mögli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Können aus den Erfahrungen der Studie allge-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meine Dokumentationsrichtlinien für andere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Modelle abgeleite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Das in die Modelle eingeflossene Wissen (u.a. milit.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Expertise) soll nicht allein Firmen-Know-How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bleiben, um Investitionen zu sichern und Monopole 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zu vermei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6:51:40Z</dcterms:created>
  <dc:creator>pfeiffer</dc:creator>
  <dc:description/>
  <dc:language>en-US</dc:language>
  <cp:lastModifiedBy>INF4</cp:lastModifiedBy>
  <cp:lastPrinted>2000-07-09T21:13:16Z</cp:lastPrinted>
  <dcterms:modified xsi:type="dcterms:W3CDTF">2000-07-10T13:55:19Z</dcterms:modified>
  <cp:revision>38</cp:revision>
  <dc:subject/>
  <dc:title>Kein Folientitel</dc:title>
</cp:coreProperties>
</file>