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60040" y="734760"/>
            <a:ext cx="490716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883800" y="4660560"/>
            <a:ext cx="4854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8C60BCDC-4217-48C5-8307-EDD29FFD5F5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8960" y="736560"/>
            <a:ext cx="4903560" cy="3678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83800" y="4660560"/>
            <a:ext cx="485460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d Ressourc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oftware reuse (Koppelung), Verweis auf nächste VO (Dirk Brade,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dware: Nutzung von verteilten HW Ressourc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58960" y="736560"/>
            <a:ext cx="4903560" cy="3678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83800" y="4660560"/>
            <a:ext cx="485460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merkung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mmunikationskosten während der Simulation (im Sinne von Kommunikationszeit) steigt von oben nach un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ber: auch Verfügbarkeit steig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8960" y="736560"/>
            <a:ext cx="4903560" cy="3678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83800" y="4660560"/>
            <a:ext cx="485460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merkung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mmunikationskosten während der Simulation (im Sinne von Kommunikationszeit) steigt von oben nach un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ber: auch Verfügbarkeit steig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8562-6841-417B-96EB-CB31CBC4B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02D3-B0BC-40F5-9DD2-0794E25F7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1958-C8A4-4DEA-8E99-6063D76D1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340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1732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45A7-3F4D-4FB6-B6FB-0A1144C64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39F6-2AE9-4AA8-B42D-C9E6474E0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6340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1732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F0EA-429C-483F-8439-97704849D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93A9-A207-478A-8BF2-52BDE269B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74A2-9C53-4428-88BF-EADBB65A7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A8636-2565-4517-A379-6F13830ED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8B50-24F7-41AE-A427-8FFB9D851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417F-3BE7-448C-95D8-346050000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9A13-6D3B-4A41-B1A5-BB6248CFD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689040" cy="457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09480" y="6019920"/>
            <a:ext cx="7834320" cy="2880"/>
          </a:xfrm>
          <a:custGeom>
            <a:avLst/>
            <a:gdLst/>
            <a:ahLst/>
            <a:rect l="l" t="t" r="r" b="b"/>
            <a:pathLst>
              <a:path w="4935" h="2">
                <a:moveTo>
                  <a:pt x="0" y="2"/>
                </a:moveTo>
                <a:lnTo>
                  <a:pt x="4935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09480" y="6095880"/>
          <a:ext cx="520920" cy="533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6095880"/>
                    <a:ext cx="52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7543800" y="6091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42C0-BDC3-420D-BEB3-7FAD8E70E1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209680" y="624852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istungs- und Zuverlässigkeitssteigerung mittels verteilter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1676520"/>
            <a:ext cx="7834320" cy="2880"/>
          </a:xfrm>
          <a:custGeom>
            <a:avLst/>
            <a:gdLst/>
            <a:ahLst/>
            <a:rect l="l" t="t" r="r" b="b"/>
            <a:pathLst>
              <a:path w="4935" h="2">
                <a:moveTo>
                  <a:pt x="0" y="2"/>
                </a:moveTo>
                <a:lnTo>
                  <a:pt x="4935" y="0"/>
                </a:ln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95280" y="62485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J. Lüt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477120" y="62485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C. Bercht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689040" cy="457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6019920"/>
            <a:ext cx="7834320" cy="2880"/>
          </a:xfrm>
          <a:custGeom>
            <a:avLst/>
            <a:gdLst/>
            <a:ahLst/>
            <a:rect l="l" t="t" r="r" b="b"/>
            <a:pathLst>
              <a:path w="4935" h="2">
                <a:moveTo>
                  <a:pt x="0" y="2"/>
                </a:moveTo>
                <a:lnTo>
                  <a:pt x="4935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9480" y="6095880"/>
          <a:ext cx="520920" cy="533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6095880"/>
                    <a:ext cx="52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3581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66ff"/>
                </a:solidFill>
                <a:latin typeface="Arial"/>
              </a:rPr>
              <a:t>Workshop </a:t>
            </a:r>
            <a:br>
              <a:rPr sz="3000"/>
            </a:br>
            <a:r>
              <a:rPr b="1" lang="de-AT" sz="3000" spc="-1" strike="noStrike">
                <a:solidFill>
                  <a:srgbClr val="0066ff"/>
                </a:solidFill>
                <a:latin typeface="Arial"/>
              </a:rPr>
              <a:t>„Perspektiven der Modellbildung und Simulation”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7920" y="30477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J. Lüthi, C. Bercht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Leistungs- und Zuverlässigkeitssteigerung mittels verteilter Simulation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E00E379-669D-4F6B-BE5B-E2ADFCCBFE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Fehlertoleranz: Anforderungen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0000"/>
                </a:solidFill>
                <a:latin typeface="Arial"/>
              </a:rPr>
              <a:t>Fehlererkenn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usfälle müssen erkannt werden kön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0000"/>
                </a:solidFill>
                <a:latin typeface="Arial"/>
              </a:rPr>
              <a:t>Datenwiederherstell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ur Fortsetzung der Simulation müssen beim Fehlerfall verlorengegangene Zustände rekonstruiert werden kön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0000"/>
                </a:solidFill>
                <a:latin typeface="Arial"/>
              </a:rPr>
              <a:t>Lastumverteil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i nicht-temporären Ausfällen von Rechnerknoten müssen die dort simulierten Regionen umverteilt wer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7AD7-4B89-4B3B-88AF-1C792949A841}" type="slidenum">
              <a:t>10</a:t>
            </a:fld>
          </a:p>
        </p:txBody>
      </p:sp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Zwei Ansätze zur FT und verteilte Simulation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12800" y="1809720"/>
            <a:ext cx="2654280" cy="1171440"/>
          </a:xfrm>
          <a:prstGeom prst="roundRect">
            <a:avLst>
              <a:gd name="adj" fmla="val 14120"/>
            </a:avLst>
          </a:prstGeom>
          <a:solidFill>
            <a:srgbClr val="0066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T Techniken i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n vertei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75320" y="4781520"/>
            <a:ext cx="2654280" cy="11714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thoden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ken in 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eilten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266720" y="1743120"/>
            <a:ext cx="3479760" cy="2980800"/>
            <a:chOff x="4266720" y="1743120"/>
            <a:chExt cx="3479760" cy="2980800"/>
          </a:xfrm>
        </p:grpSpPr>
        <p:sp>
          <p:nvSpPr>
            <p:cNvPr id="187" name=""/>
            <p:cNvSpPr/>
            <p:nvPr/>
          </p:nvSpPr>
          <p:spPr>
            <a:xfrm>
              <a:off x="6006960" y="1743120"/>
              <a:ext cx="1739520" cy="72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pezialisier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ür vert. Si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8" name=""/>
            <p:cNvCxnSpPr>
              <a:stCxn id="184" idx="3"/>
              <a:endCxn id="185" idx="0"/>
            </p:cNvCxnSpPr>
            <p:nvPr/>
          </p:nvCxnSpPr>
          <p:spPr>
            <a:xfrm>
              <a:off x="4266720" y="2542320"/>
              <a:ext cx="2383560" cy="2181960"/>
            </a:xfrm>
            <a:prstGeom prst="bentConnector2">
              <a:avLst/>
            </a:prstGeom>
            <a:ln w="28440">
              <a:solidFill>
                <a:srgbClr val="003399"/>
              </a:solidFill>
              <a:miter/>
              <a:tailEnd len="med" type="triangle" w="med"/>
            </a:ln>
          </p:spPr>
        </p:cxnSp>
      </p:grpSp>
      <p:grpSp>
        <p:nvGrpSpPr>
          <p:cNvPr id="189" name=""/>
          <p:cNvGrpSpPr/>
          <p:nvPr/>
        </p:nvGrpSpPr>
        <p:grpSpPr>
          <a:xfrm>
            <a:off x="2031840" y="2971080"/>
            <a:ext cx="3453840" cy="2962800"/>
            <a:chOff x="2031840" y="2971080"/>
            <a:chExt cx="3453840" cy="2962800"/>
          </a:xfrm>
        </p:grpSpPr>
        <p:cxnSp>
          <p:nvCxnSpPr>
            <p:cNvPr id="190" name=""/>
            <p:cNvCxnSpPr>
              <a:stCxn id="185" idx="1"/>
              <a:endCxn id="184" idx="2"/>
            </p:cNvCxnSpPr>
            <p:nvPr/>
          </p:nvCxnSpPr>
          <p:spPr>
            <a:xfrm rot="10800000">
              <a:off x="3170160" y="2971080"/>
              <a:ext cx="2315520" cy="2168280"/>
            </a:xfrm>
            <a:prstGeom prst="bentConnector2">
              <a:avLst/>
            </a:prstGeom>
            <a:ln w="28440">
              <a:solidFill>
                <a:srgbClr val="003399"/>
              </a:solidFill>
              <a:miter/>
              <a:tailEnd len="med" type="triangle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2031840" y="5211720"/>
              <a:ext cx="1690560" cy="722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eneralisier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ür F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937560" y="3124080"/>
            <a:ext cx="17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B.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artbe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plik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2280" y="3505320"/>
            <a:ext cx="6009480" cy="1191240"/>
            <a:chOff x="332280" y="3505320"/>
            <a:chExt cx="6009480" cy="1191240"/>
          </a:xfrm>
        </p:grpSpPr>
        <p:sp>
          <p:nvSpPr>
            <p:cNvPr id="194" name=""/>
            <p:cNvSpPr/>
            <p:nvPr/>
          </p:nvSpPr>
          <p:spPr>
            <a:xfrm>
              <a:off x="1664280" y="3807000"/>
              <a:ext cx="194040" cy="84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2280" y="3505320"/>
              <a:ext cx="6009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z.B.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eadlock detection 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Fehlererkenn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ptimistisches Checkpointing 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Datenwiedergewinn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pezialisierte Lastbalanzier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84F32-01D4-4A79-9B49-D85546D3B38F}" type="slidenum">
              <a:t>11</a:t>
            </a:fld>
          </a:p>
        </p:txBody>
      </p:sp>
    </p:spTree>
  </p:cSld>
  <p:transition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HLA und Fehlertoleranz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spcBef>
                <a:spcPts val="7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190440"/>
                <a:tab algn="l" pos="482760"/>
                <a:tab algn="l" pos="76212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T RTI Implementation, z.B.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spcBef>
                <a:spcPts val="550"/>
              </a:spcBef>
              <a:buNone/>
              <a:tabLst>
                <a:tab algn="l" pos="0"/>
                <a:tab algn="l" pos="190440"/>
                <a:tab algn="l" pos="482760"/>
                <a:tab algn="l" pos="76212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likation und Dezentralisieren von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RTIexe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und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FedExe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rozeß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190440"/>
                <a:tab algn="l" pos="482760"/>
                <a:tab algn="l" pos="76212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T Föderationen - 3 Strategi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482760"/>
                <a:tab algn="l" pos="76212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 innerhalb eines Föder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482760"/>
                <a:tab algn="l" pos="76212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zielle Föderaten für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482760"/>
                <a:tab algn="l" pos="76212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weiterung der HLA in bezug auf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67E0-36B6-4033-B375-AE0D717C29FF}" type="slidenum">
              <a:t>12</a:t>
            </a:fld>
          </a:p>
        </p:txBody>
      </p:sp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Arial"/>
              </a:rPr>
              <a:t>Aktuelle Forschungsaktivitäten</a:t>
            </a:r>
            <a:endParaRPr b="1" lang="en-US" sz="3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190440"/>
                <a:tab algn="l" pos="669960"/>
                <a:tab algn="l" pos="76212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ienprojekt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649"/>
              </a:spcBef>
              <a:buNone/>
              <a:tabLst>
                <a:tab algn="l" pos="0"/>
                <a:tab algn="l" pos="190440"/>
                <a:tab algn="l" pos="669960"/>
                <a:tab algn="l" pos="76212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de-AT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AT" sz="2600" spc="-1" strike="noStrike">
                <a:solidFill>
                  <a:srgbClr val="000000"/>
                </a:solidFill>
                <a:latin typeface="Arial"/>
              </a:rPr>
              <a:t>FT verteilte Simulation mittels HLA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190440"/>
                <a:tab algn="l" pos="669960"/>
                <a:tab algn="l" pos="76212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-38160">
              <a:spcBef>
                <a:spcPts val="64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190440"/>
                <a:tab algn="l" pos="669960"/>
                <a:tab algn="l" pos="76212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LA basiertes Testbett eines FT verteilte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ul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-38160">
              <a:spcBef>
                <a:spcPts val="64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190440"/>
                <a:tab algn="l" pos="669960"/>
                <a:tab algn="l" pos="76212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istungs- und Zuverlässigkeitsmodelle d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T verteilten Simul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-38160">
              <a:spcBef>
                <a:spcPts val="64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190440"/>
                <a:tab algn="l" pos="669960"/>
                <a:tab algn="l" pos="762120"/>
                <a:tab algn="l" pos="114300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nzeptvorschläge für HLA und FT und di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urteilung darü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369D-B3A1-423C-B8B8-2949F9CF1B95}" type="slidenum">
              <a:t>13</a:t>
            </a:fld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ff"/>
                </a:solidFill>
                <a:latin typeface="Arial"/>
              </a:rPr>
              <a:t>Inhalt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100"/>
              </a:spcAft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istungssteiger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allele und verteilte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2100"/>
              </a:spcAft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verlässigkeitssteiger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hlertolerante verteilte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FF2D-F363-4772-A1D9-EBB381867E91}" type="slidenum">
              <a:t>2</a:t>
            </a:fld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Motivation für Parallelisierung und Verteilung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nge Rechenzeiten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schnellere Simulationsläu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mulationsmodelle oft speicherintensiv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größere Mod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dundanz durch Verteilung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höhere Zuverläss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utzen von vorhandenen Ressourcen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effizientes Ressourcen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A712-26E0-4BD3-9B9E-77D7D5501958}" type="slidenum">
              <a:t>3</a:t>
            </a:fld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Voraussetzungen für eine Parallelisierung und Verteilung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162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31200" indent="-331200">
              <a:spcBef>
                <a:spcPts val="675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(Gut) Parallelisierbares Mode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1687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Parallele oder verteilte Architektu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1687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Mehraufwand (Software-Adaptierung, aufwendigere Hardware) muß sich lohn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33760" indent="-248040">
              <a:spcBef>
                <a:spcPts val="601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pazitätsgrenzen (Zeit, Speic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3760" indent="-248040">
              <a:spcBef>
                <a:spcPts val="601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nge Verwendung des Modell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1687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Gleiches Ergebnis wie bei sequentieller Simulation muß erzielt werden können </a:t>
            </a:r>
            <a:br>
              <a:rPr sz="2700"/>
            </a:b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FFA1-18E3-4603-ACB6-A114328C6FAA}" type="slidenum">
              <a:t>4</a:t>
            </a:fld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66ff"/>
                </a:solidFill>
                <a:latin typeface="Arial"/>
              </a:rPr>
              <a:t>Möglichkeiten der Parallelisierung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229600" cy="391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72F6-916C-4FF2-91D6-C28871BDC8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143000" y="2514600"/>
            <a:ext cx="6578640" cy="3552840"/>
            <a:chOff x="1143000" y="2514600"/>
            <a:chExt cx="6578640" cy="3552840"/>
          </a:xfrm>
        </p:grpSpPr>
        <p:sp>
          <p:nvSpPr>
            <p:cNvPr id="108" name=""/>
            <p:cNvSpPr/>
            <p:nvPr/>
          </p:nvSpPr>
          <p:spPr>
            <a:xfrm>
              <a:off x="1143000" y="2514600"/>
              <a:ext cx="1981440" cy="3124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92040" y="5790960"/>
              <a:ext cx="134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hnerknoten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40560" y="2514600"/>
              <a:ext cx="1981080" cy="3124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90320" y="5790960"/>
              <a:ext cx="137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hnerknoten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14800" y="4267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219320" y="3962520"/>
            <a:ext cx="1865160" cy="914400"/>
            <a:chOff x="1219320" y="3962520"/>
            <a:chExt cx="1865160" cy="914400"/>
          </a:xfrm>
        </p:grpSpPr>
        <p:sp>
          <p:nvSpPr>
            <p:cNvPr id="114" name=""/>
            <p:cNvSpPr/>
            <p:nvPr/>
          </p:nvSpPr>
          <p:spPr>
            <a:xfrm>
              <a:off x="1219320" y="3962520"/>
              <a:ext cx="609480" cy="609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24240" y="45723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8640" y="3962520"/>
              <a:ext cx="609480" cy="609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3200" y="45723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42674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38640" y="42674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07520" y="4267440"/>
              <a:ext cx="531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,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54120" y="4267440"/>
              <a:ext cx="5752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,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27240" y="4038840"/>
              <a:ext cx="5950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PKI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1,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48360" y="4038840"/>
              <a:ext cx="636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PKI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1,k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05120" y="4267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799600" y="3962520"/>
            <a:ext cx="1884960" cy="914400"/>
            <a:chOff x="5799600" y="3962520"/>
            <a:chExt cx="1884960" cy="914400"/>
          </a:xfrm>
        </p:grpSpPr>
        <p:sp>
          <p:nvSpPr>
            <p:cNvPr id="126" name=""/>
            <p:cNvSpPr/>
            <p:nvPr/>
          </p:nvSpPr>
          <p:spPr>
            <a:xfrm>
              <a:off x="5816880" y="3962520"/>
              <a:ext cx="609480" cy="609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21440" y="45723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35840" y="3962520"/>
              <a:ext cx="609840" cy="609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0760" y="45723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16880" y="42674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35840" y="42674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79880" y="4267440"/>
              <a:ext cx="546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N,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52040" y="4267440"/>
              <a:ext cx="605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N,k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9600" y="4038840"/>
              <a:ext cx="6087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PKI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N,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20720" y="4038840"/>
              <a:ext cx="663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PKI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N,k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02680" y="4267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9960" y="609480"/>
            <a:ext cx="6566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Modellverteilung - Architektur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1523880"/>
            <a:ext cx="6553080" cy="990720"/>
            <a:chOff x="1143000" y="1523880"/>
            <a:chExt cx="6553080" cy="990720"/>
          </a:xfrm>
        </p:grpSpPr>
        <p:sp>
          <p:nvSpPr>
            <p:cNvPr id="139" name=""/>
            <p:cNvSpPr/>
            <p:nvPr/>
          </p:nvSpPr>
          <p:spPr>
            <a:xfrm>
              <a:off x="1143000" y="1523880"/>
              <a:ext cx="6553080" cy="533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133360" y="2057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2920" y="1676160"/>
              <a:ext cx="293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-Prozessor-Kommunikationssyste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730920" y="2057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219320" y="5257800"/>
            <a:ext cx="6472440" cy="301320"/>
            <a:chOff x="1219320" y="5257800"/>
            <a:chExt cx="6472440" cy="301320"/>
          </a:xfrm>
        </p:grpSpPr>
        <p:sp>
          <p:nvSpPr>
            <p:cNvPr id="144" name=""/>
            <p:cNvSpPr/>
            <p:nvPr/>
          </p:nvSpPr>
          <p:spPr>
            <a:xfrm>
              <a:off x="1219320" y="5257800"/>
              <a:ext cx="60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,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28640" y="5257800"/>
              <a:ext cx="534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,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16520" y="5257800"/>
              <a:ext cx="60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N,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26920" y="5257800"/>
              <a:ext cx="564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N,k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219320" y="4876920"/>
            <a:ext cx="6425640" cy="304560"/>
            <a:chOff x="1219320" y="4876920"/>
            <a:chExt cx="6425640" cy="304560"/>
          </a:xfrm>
        </p:grpSpPr>
        <p:sp>
          <p:nvSpPr>
            <p:cNvPr id="149" name=""/>
            <p:cNvSpPr/>
            <p:nvPr/>
          </p:nvSpPr>
          <p:spPr>
            <a:xfrm>
              <a:off x="1219320" y="4876920"/>
              <a:ext cx="609120" cy="304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4876920"/>
              <a:ext cx="609120" cy="304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06800" y="4876920"/>
              <a:ext cx="412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,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29360" y="4876920"/>
              <a:ext cx="456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,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6520" y="4876920"/>
              <a:ext cx="609120" cy="304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35480" y="4876920"/>
              <a:ext cx="609480" cy="304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4720" y="4876920"/>
              <a:ext cx="427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N,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7640" y="4876920"/>
              <a:ext cx="487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N,k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218600" y="3200400"/>
            <a:ext cx="6483600" cy="761760"/>
            <a:chOff x="1218600" y="3200400"/>
            <a:chExt cx="6483600" cy="761760"/>
          </a:xfrm>
        </p:grpSpPr>
        <p:sp>
          <p:nvSpPr>
            <p:cNvPr id="158" name=""/>
            <p:cNvSpPr/>
            <p:nvPr/>
          </p:nvSpPr>
          <p:spPr>
            <a:xfrm>
              <a:off x="1219320" y="3200400"/>
              <a:ext cx="1828800" cy="304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524240" y="35049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743200" y="35049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18600" y="3213000"/>
              <a:ext cx="1886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E Kommunikations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16880" y="3200400"/>
              <a:ext cx="1828800" cy="304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121440" y="35049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340760" y="35049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16160" y="3213000"/>
              <a:ext cx="1886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E Kommunikations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143000" y="2514600"/>
            <a:ext cx="6636240" cy="685800"/>
            <a:chOff x="1143000" y="2514600"/>
            <a:chExt cx="6636240" cy="685800"/>
          </a:xfrm>
        </p:grpSpPr>
        <p:sp>
          <p:nvSpPr>
            <p:cNvPr id="167" name=""/>
            <p:cNvSpPr/>
            <p:nvPr/>
          </p:nvSpPr>
          <p:spPr>
            <a:xfrm>
              <a:off x="1143000" y="2514600"/>
              <a:ext cx="1981080" cy="3045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3360" y="2819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4800" y="2514600"/>
              <a:ext cx="20232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E Kommunikationsinterface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38760" y="2908080"/>
              <a:ext cx="977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xterne Nachricht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40200" y="2514600"/>
              <a:ext cx="1980720" cy="3045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30920" y="2819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42360" y="2514600"/>
              <a:ext cx="203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E Kommunikationsinterface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36320" y="2908080"/>
              <a:ext cx="977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xterne Nachricht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EFD6-BA38-4783-9C76-28C5D784CE5C}" type="slidenum">
              <a:t>6</a:t>
            </a:fld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Problemstellungen bei der Parallelisierung auf Modellebene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10000"/>
              </a:lnSpc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Partition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teilung des Gesamtmodells in möglichs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abhängige Teilbereiche (logische Prozesse, L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Mapping und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ordnung der (physischen) Prozessoren auf die LP und Auswahl, welcher Prozessor welchen LP bed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Synchronis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Ereignisausführungen zwischen den einzelnen L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das zentral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E521-3026-4660-93FA-556C36A897BA}" type="slidenum">
              <a:t>7</a:t>
            </a:fld>
          </a:p>
        </p:txBody>
      </p:sp>
    </p:spTree>
  </p:cSld>
  <p:transition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Motivation für FT Verteilte Simulation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 einzelner Ausf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s LP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s Rechnerknotens o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r Kommunikationsverbind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ührt zum Stillstand der verteilten Simu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rhöhte Koste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benskritische Situa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625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LA: Bisher kein formales Fehlermod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4FF0-4078-4814-B0F0-C9E84B86131E}" type="slidenum">
              <a:t>8</a:t>
            </a:fld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66ff"/>
                </a:solidFill>
                <a:latin typeface="Arial"/>
              </a:rPr>
              <a:t>Untersuchungsrahmen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Fehlerart: Aus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Diskrete ereignisgesteuerte Simulation: mit Verteilung auf Modelleb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ktur mit 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ktive Simulation wird (noch) nicht unters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6239-67E4-4563-80EA-3E3C1503FF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09:46:56Z</dcterms:created>
  <dc:creator>Dirk Brade</dc:creator>
  <dc:description/>
  <dc:language>en-US</dc:language>
  <cp:lastModifiedBy>Inf4</cp:lastModifiedBy>
  <cp:lastPrinted>2000-07-07T11:40:57Z</cp:lastPrinted>
  <dcterms:modified xsi:type="dcterms:W3CDTF">2000-07-10T07:37:37Z</dcterms:modified>
  <cp:revision>63</cp:revision>
  <dc:subject/>
  <dc:title>Kein Folientitel</dc:title>
</cp:coreProperties>
</file>